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12188825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4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82440" y="739440"/>
            <a:ext cx="65707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4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4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67A-048E-4737-8EE0-C1B4450AC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BE4-52A7-4045-8DB2-8484C3621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B83F-1F87-45FE-8473-2D879FFB1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1CF9-B007-405B-9A64-AD06B882D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020-02D6-4309-91FF-EA3412F25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91F-DD8B-4048-B26D-A94A4624A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01D2-6642-4CC6-BC18-B0A154AC1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0FA-E1ED-462D-AA80-DE136659A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ая система расчето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oBill-EnergoTrad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процесса энергосбытовой деятельности в части заключения и сопровождения договоров с потребителями, учета электроэнергии и мощности, расчетов за электроэнергию и услуги с потребителями и поставщиками, снижения временных трудозатрат на рутинные операции, оперативной обработке информации о потребителях, подготовке управленческой и статистическ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82440" y="739800"/>
            <a:ext cx="6570720" cy="369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46A-3BA6-446B-9B91-993D67006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DC9-FC57-4A47-BDB9-669F8A14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ABB-4C6E-487F-829C-A7CD3C2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4A730-CFB0-4D71-9518-D19D19A4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DE93E-2F98-4D24-86C4-02F41B1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93EE-563E-48E4-94DB-6BDCDDC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1A663-ACA5-431C-8AA9-CFB09363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9373-91B9-4256-AFC8-59A9072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689F3-B588-48D8-B31F-194FD8D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EDA86-4309-4A84-871F-55936782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7C9F-5C9C-4B71-9652-EF7BA8C3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13C4D-3289-453A-8791-7717B3F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DD020-35BA-48BB-9D70-1B210B2F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B49-EEBC-44C2-BFBE-57001D23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A4E53-02AF-45E0-BBE8-E95E909D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47565-9271-4CB3-9E96-02532A7D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C1F84-EA3C-45A3-8F50-866897A2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2A58E-19D3-468F-B7A7-25E365B0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4EE9A-7FCF-49F2-8D1C-0A1CBDD4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0BA81-6AF4-426E-93D3-55C2244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14C93-1A66-4F7E-8A3D-9727DEC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B2975-A84E-4596-BF51-C701E29E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BBECB-D96A-4E05-9714-C9A9FB8C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0BE13-6FFD-49AF-82E2-F81438C3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747-9637-4771-B9D4-76AC1BE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F910-A9F6-4B9F-8339-0E8085B0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64771-3BFC-42BA-BED9-24A1ECA3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28C28-09F4-452A-9B76-99DEFDCF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FC52-7A68-4FAE-A025-65D617E1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01F2-AEE1-432F-AD61-7D29B3B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E0D24-5528-4674-AF00-EF84A9FD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32348-72AB-45A2-A1A9-E4CFE84B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BFE0-A8CA-44EE-BDB8-6CE35E1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E1B55-47EE-4580-BF81-2BFC1C0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9D90F-C8B9-4004-8C55-A509BC08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6923-A09B-47E8-8F5C-36F8DADD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2979-C37F-41C1-9FCB-3CE51E28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58850-BCE8-4B38-94D5-5C334B09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BCCB5-614A-4C27-87F3-8877565F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F0713-8766-444D-AA4F-62F7C143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70A98-99AB-448C-AFBA-D4E35E9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4AAF1-27AA-4600-9183-803584D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67185-7C3B-4C85-A0F1-8564C41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50A93-EC88-400A-A533-3635FD3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A5F3-7895-496F-B872-6B66CBE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60380-2581-4550-A0C7-B771AB8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DB2-899C-4C93-B6A4-9113486E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C2C4A-C38E-4137-BB4A-DC9304C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D237A-8206-4C20-88D6-DCC7221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1852-A273-4DD4-AAAC-AA63FEB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8800-318C-468D-845A-C4126DD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7FAD3-60C8-47FF-B0EE-9048063A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9028D-7D23-4BD9-97E4-0652EAB9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87604-2C4F-4DDA-A718-293401B5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D7133-15AA-4304-BAA5-3CA135E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AAE5D-DB8A-4F30-9BD7-AE9C83B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725D1-4E24-402D-9683-11F36DE5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51E-DBA6-4B10-9D57-0E36CF1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483F3-DF85-4559-BB4C-026A9758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51CF0-947A-46E0-B5CC-A5286C4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4A143-2BBE-4033-8B6A-97EFEE5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8B87F-26DE-44D7-9C5C-63A1B76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47CB7-8678-47A5-B355-6E56EFDA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87C19-7BF4-4636-B6D6-EFD8C38B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711E5-3398-4723-8691-BC68E74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FCC5-BB42-401C-B854-0533028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5AD-BCB1-45A9-BF6C-0060B44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E52-251F-4B0A-9C67-9A7A3F8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BE0-0953-4FA4-8295-CA580A3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489-950E-4263-92B6-8E09436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5EA-0AE8-4820-85C0-9014CEF0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50BB-5823-4535-92E6-03D9607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B8EB-DAF1-49E7-896C-236F76E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B622-1F49-4AF6-8B3D-D4BC84B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F31-BEF3-4578-93A3-0D9F9B2E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6B2F-0CE7-40BC-BB44-804A0BEC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98D3-68B4-4CB8-85DE-6070DD0C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0310-DAA0-411C-A2A4-FE9D13A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4978-6E77-4BFE-B565-DD31784C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B365-EDEB-42A0-AC54-802344B2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A58-5F91-4515-A49A-599B3FA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5F05-AA1C-4E5F-81E9-13B5C3A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059D-9B85-4239-A5AC-264A3179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0666-2EAE-4E3F-9110-59945CB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3836-2D3D-4CEB-A1DB-D39CCC0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5C70-99A0-4FB5-8349-44532125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D3D5-A392-4010-94CA-C6205205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386C-CD3E-4062-A14D-1970EC12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15DA-29CD-4659-93DC-8CA04740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EADC-245C-4ADA-B56F-8086499D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8FAF-3FDE-47A8-AE62-625DEEA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CC6-1C0C-4F82-B3A5-BBE91FE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9099-7969-426F-B60B-2F783AA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70FB-31F5-4608-BB3C-323016D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497F-3B68-40CE-A5A6-83BBEBF5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5D2A-F568-4F62-B687-FF4698B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7DC1C-B48D-4C32-8196-8EE52DF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22A8-7758-4DC7-9B9A-0FEE0A2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9913-C93B-48C7-BDA7-4D204B9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93A57-D9B4-4796-B2CE-6087FFB3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29BC6-36AF-4BAA-BC9D-7400118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E90A-0183-499B-B797-C0EE122C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920-18C2-4588-9EC1-32050C1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AD32-84F6-4AF2-AF53-94B10BC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889A-66F1-4CD3-80C6-644A047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8D39-599E-41CA-8A02-2F35F26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4642-1613-4423-BDBB-B6943AC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0B0D-EBCA-4D45-B07F-6FC6D512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D8EC-FA1A-44F5-AFE7-4C7C576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643F-2C71-4836-9772-9002DBD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B7D2-0F07-44BC-9DFC-C088E80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9DD0-3B14-4A58-A787-589AF0B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2B58-187D-48FC-A96E-E4583C68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E01-75FF-4F2C-9D40-ECAE75A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E552-3193-49F6-B390-07F49843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7360-481D-46E0-B802-95D79D01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2832-B7AD-43EC-8C5D-988451C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9A66-D86F-43A7-B2C5-3893385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0DF6-75ED-4014-AE6D-D30F4A16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E142-C9A7-48C5-8B20-F43B3352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A8427-52B6-48AE-9B64-ADD593CA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C4A4-4765-435E-A05B-FDDF259D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D39F-E2B2-42F1-879C-7B022C1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3829-F0BF-46BA-A828-746AC89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FD9-4BC0-4A80-8749-512E84B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6415-0740-4D9D-A023-194B4AD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F778-0E35-46D9-8E3C-916D9507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9E897-C6ED-46C7-9683-1663754B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99A64-E6D9-47EB-A2B3-6FCE6B2E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AFA10-BF2E-432C-9EF1-36D0140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48B6-FC2B-4124-98BD-E83CD9E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298C-5CE1-47A0-8B11-80F826CE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9053-0969-47B1-B4A3-921BF013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4EA7-C7B6-4189-93A5-6B11614F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3C95-0C00-49E8-AAFC-122D91C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EA5-327C-4F3A-A43D-17F231F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4487-8C58-45C9-A69C-E2AEAC3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9C8E-53C9-4A04-9DB3-843E039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B0A2-709A-4102-9D68-5471C24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6F877-D952-44E4-B2EB-92CDB814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130F-5EC8-410F-9234-FB8B8C0B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633B-A016-4A9B-8D36-E1608AEF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E69B-83D9-4D35-8138-753B6B0F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9E1EB-AF68-4673-85FD-5C1DB7B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50732-1ADD-4784-85C6-81F84C5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1C1A0-769A-4F9A-A462-64E01E6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A18-0AFB-4FC1-A548-388ADE33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6440" y="304920"/>
            <a:ext cx="1066644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37C5-6FBF-4614-9BDB-65831AC6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488B-D9C1-4265-A298-5C6035D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6ADF-277D-498A-97EF-B930BDB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8B43F-1F6F-4C71-9171-C13740F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55280" y="3982320"/>
            <a:ext cx="1066644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0035-8B75-4B1B-910A-B3525E4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0800" y="175248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28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0800" y="3982320"/>
            <a:ext cx="520488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EC01-0C66-4025-946A-9078C88A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6176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68240" y="175248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5528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6176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68240" y="3982320"/>
            <a:ext cx="3434400" cy="2036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004C9-5081-4835-AA5F-0BFFF138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BBFBF-FED6-427B-8F00-309BEBCD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80083-AF56-449E-87EA-85A6024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2F1A-3C07-421C-96C2-CBABCA49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F2C5-8F95-4732-A5B0-3FE67EEE40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1618-79D6-4FBA-BD9E-849B394C83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312-313C-49B0-BA74-F800632634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F01-7A2D-4E49-9391-399D8BECE2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238-8B1B-4330-A4AB-96495A3A2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914400" y="2394000"/>
            <a:ext cx="10361520" cy="109440"/>
          </a:xfrm>
          <a:custGeom>
            <a:avLst/>
            <a:gdLst>
              <a:gd name="textAreaLeft" fmla="*/ 0 w 10361520"/>
              <a:gd name="textAreaRight" fmla="*/ 10361880 w 10361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24996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65560" y="6249960"/>
            <a:ext cx="385920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735760" y="624996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813-F0B4-4E9F-A83E-F5F14E254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643-CB57-4935-82C0-1FBBDE2F7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CE0-4DBA-4023-8548-C7DFB1C5C2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5BB-9D92-4C76-805E-39ECA32EA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129-92D3-4980-ADA8-302836E0F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64C7-BE84-45AF-B48F-A54480A22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811-971B-4856-861A-94EA9CEC9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812880" y="1566720"/>
            <a:ext cx="10609200" cy="109800"/>
          </a:xfrm>
          <a:custGeom>
            <a:avLst/>
            <a:gdLst>
              <a:gd name="textAreaLeft" fmla="*/ 0 w 10609200"/>
              <a:gd name="textAreaRight" fmla="*/ 10609560 w 106092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812880" y="6173640"/>
            <a:ext cx="1056456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9" descr="стрелка"/>
          <p:cNvPicPr/>
          <p:nvPr/>
        </p:nvPicPr>
        <p:blipFill>
          <a:blip r:embed="rId3"/>
          <a:stretch/>
        </p:blipFill>
        <p:spPr>
          <a:xfrm>
            <a:off x="11782440" y="6478560"/>
            <a:ext cx="40788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66644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1752480"/>
            <a:ext cx="10666440" cy="4268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1000"/>
          </a:bodyPr>
          <a:p>
            <a:pPr marL="515520" indent="-51552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47808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432800" indent="-43308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859040" indent="-42444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299680" indent="-435960"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299680" indent="-435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812880" y="6246360"/>
            <a:ext cx="264168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4165560" y="62463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735760" y="6246360"/>
            <a:ext cx="2641320" cy="476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AEF-A3A9-4421-8085-D3BD6975EA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3"/>
          <p:cNvSpPr/>
          <p:nvPr/>
        </p:nvSpPr>
        <p:spPr>
          <a:xfrm>
            <a:off x="926316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9" descr="Logo2"/>
          <p:cNvPicPr/>
          <p:nvPr/>
        </p:nvPicPr>
        <p:blipFill>
          <a:blip r:embed="rId2"/>
          <a:stretch/>
        </p:blipFill>
        <p:spPr>
          <a:xfrm>
            <a:off x="7453440" y="0"/>
            <a:ext cx="3609720" cy="154296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32"/>
          <p:cNvSpPr/>
          <p:nvPr/>
        </p:nvSpPr>
        <p:spPr>
          <a:xfrm>
            <a:off x="990720" y="1785960"/>
            <a:ext cx="1043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Обзор программных продуктов ®</a:t>
            </a:r>
            <a:r>
              <a:rPr b="0" lang="en-US" sz="3200" spc="-1" strike="noStrike">
                <a:solidFill>
                  <a:srgbClr val="a50021"/>
                </a:solidFill>
                <a:latin typeface="Microsoft New Tai Lue"/>
              </a:rPr>
              <a:t> Mo</a:t>
            </a:r>
            <a:r>
              <a:rPr b="0" lang="en-US" sz="3200" spc="-1" strike="noStrike">
                <a:solidFill>
                  <a:srgbClr val="333333"/>
                </a:solidFill>
                <a:latin typeface="Microsoft New Tai Lue"/>
              </a:rPr>
              <a:t>Bill</a:t>
            </a: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, разработанных компанией ООО «Мобилл плюс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icrosoft Sans Serif"/>
              </a:rPr>
              <a:t>г.Уфа, Республика Башкортост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Прямоугольник 33"/>
          <p:cNvSpPr/>
          <p:nvPr/>
        </p:nvSpPr>
        <p:spPr>
          <a:xfrm>
            <a:off x="1125360" y="357336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Box 34"/>
          <p:cNvSpPr/>
          <p:nvPr/>
        </p:nvSpPr>
        <p:spPr>
          <a:xfrm>
            <a:off x="1133640" y="3908520"/>
            <a:ext cx="42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Прямоугольник 35"/>
          <p:cNvSpPr/>
          <p:nvPr/>
        </p:nvSpPr>
        <p:spPr>
          <a:xfrm>
            <a:off x="6140520" y="357336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Call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36"/>
          <p:cNvSpPr/>
          <p:nvPr/>
        </p:nvSpPr>
        <p:spPr>
          <a:xfrm>
            <a:off x="6167520" y="39085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Центр обработки вызов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6167520" y="4430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38"/>
          <p:cNvSpPr/>
          <p:nvPr/>
        </p:nvSpPr>
        <p:spPr>
          <a:xfrm>
            <a:off x="6167520" y="4765680"/>
            <a:ext cx="53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Голосовое и </a:t>
            </a:r>
            <a:r>
              <a:rPr b="0" lang="en-US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SMS </a:t>
            </a: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повещ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1127160" y="44308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40"/>
          <p:cNvSpPr/>
          <p:nvPr/>
        </p:nvSpPr>
        <p:spPr>
          <a:xfrm>
            <a:off x="1133640" y="476568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Система учета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Прямоугольник 41"/>
          <p:cNvSpPr/>
          <p:nvPr/>
        </p:nvSpPr>
        <p:spPr>
          <a:xfrm>
            <a:off x="1127160" y="5288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Cr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42"/>
          <p:cNvSpPr/>
          <p:nvPr/>
        </p:nvSpPr>
        <p:spPr>
          <a:xfrm>
            <a:off x="1141560" y="562284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ЛКС и оборуд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534-2F9F-440A-9612-F1AD935CC0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6296040" y="1733400"/>
            <a:ext cx="51274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566640" indent="-566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т сложных схем подключ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уровневые связи потребителей и </a:t>
            </a: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субпотребите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электроэнер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язка потребителей к поставщикам и сетевым компа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поста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ки у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110000"/>
              </a:lnSpc>
              <a:spcBef>
                <a:spcPts val="2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боры учета (счетчики, трансформаторы тока и напряже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1" descr="http://ok-t.ru/studopedia/baza13/264447180228.files/image104.gif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949320" y="1643040"/>
            <a:ext cx="4857840" cy="314316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878040" y="4786200"/>
            <a:ext cx="5418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установки и снятия приборов учета (акты замен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ниторинг поверки приборов учета и уведомление пользователей о срок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хема подклю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TextBox 2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21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Box 22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5" descr=""/>
          <p:cNvPicPr/>
          <p:nvPr/>
        </p:nvPicPr>
        <p:blipFill>
          <a:blip r:embed="rId1"/>
          <a:srcRect l="0" t="0" r="0" b="12160"/>
          <a:stretch/>
        </p:blipFill>
        <p:spPr>
          <a:xfrm>
            <a:off x="906480" y="2644920"/>
            <a:ext cx="4551480" cy="1571400"/>
          </a:xfrm>
          <a:prstGeom prst="rect">
            <a:avLst/>
          </a:prstGeom>
          <a:ln w="0">
            <a:noFill/>
          </a:ln>
        </p:spPr>
      </p:pic>
      <p:sp>
        <p:nvSpPr>
          <p:cNvPr id="698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1A8-FBEE-4036-A4D8-77936926F9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ния и объ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13"/>
          <p:cNvSpPr/>
          <p:nvPr/>
        </p:nvSpPr>
        <p:spPr>
          <a:xfrm>
            <a:off x="17316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AutoShape 15"/>
          <p:cNvSpPr/>
          <p:nvPr/>
        </p:nvSpPr>
        <p:spPr>
          <a:xfrm>
            <a:off x="17316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AutoShape 18"/>
          <p:cNvSpPr/>
          <p:nvPr/>
        </p:nvSpPr>
        <p:spPr>
          <a:xfrm>
            <a:off x="17316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173160" y="-1790640"/>
            <a:ext cx="4228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906480" y="1643040"/>
            <a:ext cx="8429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т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гральные (на начало и конец расчетного периода по точкам учет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ча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21" descr="C:\Users\denis\Desktop\Материалы для презентации ET\leonardo255111100010.jpg"/>
          <p:cNvPicPr/>
          <p:nvPr/>
        </p:nvPicPr>
        <p:blipFill>
          <a:blip r:embed="rId2"/>
          <a:stretch/>
        </p:blipFill>
        <p:spPr>
          <a:xfrm>
            <a:off x="977760" y="4400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2763720" y="4143240"/>
            <a:ext cx="86900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особы сбора показани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чной в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матический расчет на основе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профил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также другими способ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грузка из файлов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ML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0020, 5107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ем показаний на электронный почтовый ящик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от систем АСКУЭ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последующая автоматическая загруз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2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од показаний потребителем в его личном кабине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Picture 24" descr=""/>
          <p:cNvPicPr/>
          <p:nvPr/>
        </p:nvPicPr>
        <p:blipFill>
          <a:blip r:embed="rId3"/>
          <a:stretch/>
        </p:blipFill>
        <p:spPr>
          <a:xfrm>
            <a:off x="4078440" y="2214720"/>
            <a:ext cx="7414920" cy="1792080"/>
          </a:xfrm>
          <a:prstGeom prst="rect">
            <a:avLst/>
          </a:prstGeom>
          <a:ln w="0">
            <a:noFill/>
          </a:ln>
        </p:spPr>
      </p:pic>
      <p:sp>
        <p:nvSpPr>
          <p:cNvPr id="708" name="TextBox 3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Прямоугольник 34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35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16F2-EF97-4024-9B4A-454F46699F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879480" y="1714680"/>
            <a:ext cx="4786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кий выбор опций при запуске расчета потребителя позволяет персонифицировать рас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Массовый расче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автоматический расчет больших групп потребителей за расчетный пери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833400" y="3666960"/>
            <a:ext cx="4613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53964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Детализированное представление результат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чета с разделением по поставщикам и сетевым организаци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Многовариантные расчеты 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поставление и анализ эффекта (прибыли) на основе сравнения расчетов по различным тариф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5921280" y="5357880"/>
            <a:ext cx="5286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ведение и мониторинг </a:t>
            </a:r>
            <a:r>
              <a:rPr b="0" lang="ru-RU" sz="1400" spc="-1" strike="noStrike">
                <a:solidFill>
                  <a:srgbClr val="ff3c3c"/>
                </a:solidFill>
                <a:latin typeface="Verdana"/>
              </a:rPr>
              <a:t>ограничения режима потребле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лектрической энергии в соответствии с действующим законодатель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Прямоугольник 25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Box 26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5594400" y="3214800"/>
            <a:ext cx="5972040" cy="2171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"/>
          <p:cNvPicPr/>
          <p:nvPr/>
        </p:nvPicPr>
        <p:blipFill>
          <a:blip r:embed="rId2"/>
          <a:stretch/>
        </p:blipFill>
        <p:spPr>
          <a:xfrm>
            <a:off x="8024760" y="1714680"/>
            <a:ext cx="3457800" cy="174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263-4B52-49B0-ADD1-0FE6A59604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афическая визуа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4006800" y="1785960"/>
            <a:ext cx="7372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зуализация схемы присоединения точек поставки с наименованиями электроустановок и линий электропередач, как для отдельной точки поставки, так и для территориально-обособленного объекта или всего потреб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графиков и диаграмм по заданным критер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3" descr=""/>
          <p:cNvPicPr/>
          <p:nvPr/>
        </p:nvPicPr>
        <p:blipFill>
          <a:blip r:embed="rId1"/>
          <a:stretch/>
        </p:blipFill>
        <p:spPr>
          <a:xfrm>
            <a:off x="879480" y="4073400"/>
            <a:ext cx="8648640" cy="1990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"/>
          <p:cNvPicPr/>
          <p:nvPr/>
        </p:nvPicPr>
        <p:blipFill>
          <a:blip r:embed="rId2"/>
          <a:stretch/>
        </p:blipFill>
        <p:spPr>
          <a:xfrm>
            <a:off x="9310680" y="4024440"/>
            <a:ext cx="2071800" cy="204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726" name="AutoShape 6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AutoShape 9"/>
          <p:cNvSpPr/>
          <p:nvPr/>
        </p:nvSpPr>
        <p:spPr>
          <a:xfrm>
            <a:off x="17316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12" descr=""/>
          <p:cNvPicPr/>
          <p:nvPr/>
        </p:nvPicPr>
        <p:blipFill>
          <a:blip r:embed="rId3"/>
          <a:stretch/>
        </p:blipFill>
        <p:spPr>
          <a:xfrm>
            <a:off x="960480" y="1846440"/>
            <a:ext cx="2806560" cy="2103120"/>
          </a:xfrm>
          <a:prstGeom prst="rect">
            <a:avLst/>
          </a:prstGeom>
          <a:ln w="0">
            <a:noFill/>
          </a:ln>
        </p:spPr>
      </p:pic>
      <p:sp>
        <p:nvSpPr>
          <p:cNvPr id="729" name="TextBox 25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26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Box 27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D57C-848A-4451-B76B-3814C7AE1D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2466720" y="3643200"/>
            <a:ext cx="73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Компания «Мобилл плю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Уфа, улица Менделеева, 13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2087640" y="492444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а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47)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6-66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7262640" y="492444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bill@mobill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800280" y="-71280"/>
            <a:ext cx="58705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Microsoft Sans Serif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7" name="Picture 9" descr="Logo2"/>
          <p:cNvPicPr/>
          <p:nvPr/>
        </p:nvPicPr>
        <p:blipFill>
          <a:blip r:embed="rId2"/>
          <a:stretch/>
        </p:blipFill>
        <p:spPr>
          <a:xfrm>
            <a:off x="4051440" y="1846440"/>
            <a:ext cx="3987720" cy="1703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16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E9E-A045-487D-8360-D7C723219E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801720" y="177336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«Мобилл плюс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зируется на разработке универсальных программных систем и их внедрении в различных отраслях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работаем на рынк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1997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9" descr="Logo2"/>
          <p:cNvPicPr/>
          <p:nvPr/>
        </p:nvPicPr>
        <p:blipFill>
          <a:blip r:embed="rId1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11"/>
          <p:cNvSpPr/>
          <p:nvPr/>
        </p:nvSpPr>
        <p:spPr>
          <a:xfrm>
            <a:off x="833400" y="5214960"/>
            <a:ext cx="850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ши технологии и средства разработки обеспечивают высокую скорость обработки данных и высокую степень защищенности информ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11" descr="C:\Users\denis\Pictures\20-let-raboty.png"/>
          <p:cNvPicPr/>
          <p:nvPr/>
        </p:nvPicPr>
        <p:blipFill>
          <a:blip r:embed="rId2"/>
          <a:stretch/>
        </p:blipFill>
        <p:spPr>
          <a:xfrm>
            <a:off x="9564840" y="164304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11"/>
          <p:cNvSpPr/>
          <p:nvPr/>
        </p:nvSpPr>
        <p:spPr>
          <a:xfrm>
            <a:off x="808200" y="3638520"/>
            <a:ext cx="8286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пания обладает высокой финансовой устойчивостью и платежеспособност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тат квалифицированных разработчиков – 10 челове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AutoShape 15"/>
          <p:cNvSpPr/>
          <p:nvPr/>
        </p:nvSpPr>
        <p:spPr>
          <a:xfrm>
            <a:off x="173160" y="-731880"/>
            <a:ext cx="1428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16" descr="C:\Users\denis\Pictures\fstek.png"/>
          <p:cNvPicPr/>
          <p:nvPr/>
        </p:nvPicPr>
        <p:blipFill>
          <a:blip r:embed="rId3"/>
          <a:stretch/>
        </p:blipFill>
        <p:spPr>
          <a:xfrm>
            <a:off x="9920160" y="492444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36"/>
          <p:cNvSpPr/>
          <p:nvPr/>
        </p:nvSpPr>
        <p:spPr>
          <a:xfrm>
            <a:off x="9566280" y="393048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  <a:ea typeface="Calibri"/>
              </a:rPr>
              <a:t>Узнайте о нас больш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  <a:ea typeface="Calibri"/>
              </a:rPr>
              <a:t>www.mobill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39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75888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838080" y="2916360"/>
          <a:ext cx="10058400" cy="946080"/>
        </p:xfrm>
        <a:graphic>
          <a:graphicData uri="http://schemas.openxmlformats.org/drawingml/2006/table">
            <a:tbl>
              <a:tblPr/>
              <a:tblGrid>
                <a:gridCol w="2917800"/>
                <a:gridCol w="898560"/>
                <a:gridCol w="2665440"/>
                <a:gridCol w="1079640"/>
                <a:gridCol w="2496960"/>
              </a:tblGrid>
              <a:tr h="946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3028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ысокие оценки клиентов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Внедрение ПО под индивидуальные требования Заказч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Постгарантийное сопровождение П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Моментальная техническая поддерж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ru-RU" sz="1400" spc="-1" strike="noStrike">
                          <a:solidFill>
                            <a:srgbClr val="373737"/>
                          </a:solidFill>
                          <a:latin typeface="Verdana"/>
                        </a:rPr>
                        <a:t>Быстродействие СУБД. Низкие требования к аппаратным ресурс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46F6-D840-4DC1-9B9C-F35DE1DDA8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2381040" y="3951000"/>
            <a:ext cx="8072280" cy="214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рамках реализуемых проектов мы осуществляем полный комплекс работ и услу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роектный анализ требований и бизнес-процессов Заказч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даленное проведение презентаций и конференций предлагаемых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местную разработку технического за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у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программ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ку персонала Заказч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висное гарантийное и постгарантийное обслуживание 2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5" descr="&amp;Kcy;&amp;acy;&amp;rcy;&amp;tcy;&amp;icy;&amp;ncy;&amp;kcy;&amp;icy; &amp;pcy;&amp;ocy; &amp;zcy;&amp;acy;&amp;pcy;&amp;rcy;&amp;ocy;&amp;scy;&amp;ucy; &amp;kcy;&amp;acy;&amp;chcy;&amp;iecy;&amp;scy;&amp;tcy;&amp;vcy;&amp;o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1739880" y="1911240"/>
            <a:ext cx="1197000" cy="1086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&amp;Kcy;&amp;acy;&amp;rcy;&amp;tcy;&amp;icy;&amp;ncy;&amp;kcy;&amp;icy; &amp;pcy;&amp;ocy; &amp;zcy;&amp;acy;&amp;pcy;&amp;rcy;&amp;ocy;&amp;scy;&amp;ucy; &amp;shchcy;&amp;icy;&amp;tcy; &amp;icy;&amp;kcy;&amp;ocy;&amp;ncy;&amp;kcy;&amp;acy;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668920" y="20685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&amp;Kcy;&amp;acy;&amp;rcy;&amp;tcy;&amp;icy;&amp;ncy;&amp;kcy;&amp;icy; &amp;pcy;&amp;ocy; &amp;zcy;&amp;acy;&amp;pcy;&amp;rcy;&amp;ocy;&amp;scy;&amp;ucy; &amp;scy;&amp;kcy;&amp;ocy;&amp;rcy;&amp;ocy;&amp;scy;&amp;tcy;&amp;softcy; &amp;icy;&amp;kcy;&amp;ocy;&amp;ncy;&amp;kcy;&amp;acy;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9188280" y="199692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8"/>
          <p:cNvSpPr/>
          <p:nvPr/>
        </p:nvSpPr>
        <p:spPr>
          <a:xfrm>
            <a:off x="1666080" y="16430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TextBox 19"/>
          <p:cNvSpPr/>
          <p:nvPr/>
        </p:nvSpPr>
        <p:spPr>
          <a:xfrm>
            <a:off x="5195160" y="16430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8526600" y="16430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9" descr="Logo2"/>
          <p:cNvPicPr/>
          <p:nvPr/>
        </p:nvPicPr>
        <p:blipFill>
          <a:blip r:embed="rId4"/>
          <a:stretch/>
        </p:blipFill>
        <p:spPr>
          <a:xfrm>
            <a:off x="9656640" y="771480"/>
            <a:ext cx="1838520" cy="785880"/>
          </a:xfrm>
          <a:prstGeom prst="rect">
            <a:avLst/>
          </a:prstGeom>
          <a:ln w="0">
            <a:noFill/>
          </a:ln>
        </p:spPr>
      </p:pic>
      <p:sp>
        <p:nvSpPr>
          <p:cNvPr id="612" name="TextBox 28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75888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О компани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DBF-BAC2-45CD-9CEB-E3F59B45DC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773280" y="1714320"/>
            <a:ext cx="4962240" cy="18572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66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начение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ботка клиентских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ллектуальная маршрутизация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ение истории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766440" y="304920"/>
            <a:ext cx="107046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Центр обработки вызовов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Прямоугольник 17"/>
          <p:cNvSpPr/>
          <p:nvPr/>
        </p:nvSpPr>
        <p:spPr>
          <a:xfrm>
            <a:off x="818352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Call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8352000" y="334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Центр обработки вызов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787320" y="3718080"/>
            <a:ext cx="55245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ые модули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ботка входящих и исходящих звон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зированное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голосов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повещ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бон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ая запись разгов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бор и анализ статист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7967520" y="1785960"/>
            <a:ext cx="33116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Функции АТС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Определитель номе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Интерактивное голосовое мен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Голосовая поч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Запись разгов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остановка звонка в очеред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ерехват зво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ереадресация зво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Конференцсвяз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Режим «Не беспокоит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Прием и передача фак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Гибкая логика добавочных номе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Интеграция с базами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Picture 9" descr=""/>
          <p:cNvPicPr/>
          <p:nvPr/>
        </p:nvPicPr>
        <p:blipFill>
          <a:blip r:embed="rId1"/>
          <a:stretch/>
        </p:blipFill>
        <p:spPr>
          <a:xfrm>
            <a:off x="5722920" y="2544840"/>
            <a:ext cx="1884240" cy="1884240"/>
          </a:xfrm>
          <a:prstGeom prst="rect">
            <a:avLst/>
          </a:prstGeom>
          <a:ln w="0">
            <a:noFill/>
          </a:ln>
        </p:spPr>
      </p:pic>
      <p:sp>
        <p:nvSpPr>
          <p:cNvPr id="623" name="TextBox 2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1C6A-26AA-45EA-9B80-E362AF92BA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MS-</a:t>
            </a: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сервисы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18"/>
          <p:cNvSpPr/>
          <p:nvPr/>
        </p:nvSpPr>
        <p:spPr>
          <a:xfrm>
            <a:off x="8183520" y="0"/>
            <a:ext cx="25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ot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19"/>
          <p:cNvSpPr/>
          <p:nvPr/>
        </p:nvSpPr>
        <p:spPr>
          <a:xfrm>
            <a:off x="8352000" y="334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Голосовое и </a:t>
            </a:r>
            <a:r>
              <a:rPr b="0" lang="en-US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SMS </a:t>
            </a: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повещени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"/>
          <p:cNvSpPr/>
          <p:nvPr/>
        </p:nvSpPr>
        <p:spPr>
          <a:xfrm>
            <a:off x="6238800" y="1916280"/>
            <a:ext cx="48006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Verdana"/>
              </a:rPr>
              <a:t>SMS </a:t>
            </a: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вещение должни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вещение ГО и Ч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журное оповещение об авариях и т.п. событи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Прямоугольник 6"/>
          <p:cNvSpPr/>
          <p:nvPr/>
        </p:nvSpPr>
        <p:spPr>
          <a:xfrm>
            <a:off x="6238800" y="4005360"/>
            <a:ext cx="537696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Verdana"/>
              </a:rPr>
              <a:t>SMS </a:t>
            </a: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по запрос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м показаний ПУ: электросчетчик, ГВС, ХВС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рос информации о задолж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рос информации о состоянии обработки обращ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AutoShape 2"/>
          <p:cNvSpPr/>
          <p:nvPr/>
        </p:nvSpPr>
        <p:spPr>
          <a:xfrm>
            <a:off x="173160" y="-503280"/>
            <a:ext cx="1904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15" descr=""/>
          <p:cNvPicPr/>
          <p:nvPr/>
        </p:nvPicPr>
        <p:blipFill>
          <a:blip r:embed="rId1"/>
          <a:stretch/>
        </p:blipFill>
        <p:spPr>
          <a:xfrm>
            <a:off x="838080" y="3971880"/>
            <a:ext cx="5079960" cy="2071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6" descr=""/>
          <p:cNvPicPr/>
          <p:nvPr/>
        </p:nvPicPr>
        <p:blipFill>
          <a:blip r:embed="rId2"/>
          <a:stretch/>
        </p:blipFill>
        <p:spPr>
          <a:xfrm>
            <a:off x="838080" y="1784520"/>
            <a:ext cx="5079960" cy="2076120"/>
          </a:xfrm>
          <a:prstGeom prst="rect">
            <a:avLst/>
          </a:prstGeom>
          <a:ln w="0">
            <a:noFill/>
          </a:ln>
        </p:spPr>
      </p:pic>
      <p:sp>
        <p:nvSpPr>
          <p:cNvPr id="634" name="TextBox 27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B55-89E6-4203-9129-1B6FB5B7C1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4640" y="304920"/>
            <a:ext cx="84265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ет линейно-кабель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ружений и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173160" y="-990720"/>
            <a:ext cx="20764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65200" y="2000160"/>
            <a:ext cx="3971880" cy="23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2667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кладка физических канал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ъемы и порты оборуд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ческие каналы (пары, оптоволокно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рвисы передачи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ыкованные канал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капсуляция канал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24"/>
          <p:cNvSpPr/>
          <p:nvPr/>
        </p:nvSpPr>
        <p:spPr>
          <a:xfrm>
            <a:off x="8337600" y="0"/>
            <a:ext cx="22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Box 25"/>
          <p:cNvSpPr/>
          <p:nvPr/>
        </p:nvSpPr>
        <p:spPr>
          <a:xfrm>
            <a:off x="8423280" y="334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Учет ЛКС и оборудов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Прямоугольник 1"/>
          <p:cNvSpPr/>
          <p:nvPr/>
        </p:nvSpPr>
        <p:spPr>
          <a:xfrm>
            <a:off x="820800" y="164304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ровня учета объек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Shape 417" descr=""/>
          <p:cNvPicPr/>
          <p:nvPr/>
        </p:nvPicPr>
        <p:blipFill>
          <a:blip r:embed="rId1"/>
          <a:srcRect l="11242" t="3732" r="10991" b="3310"/>
          <a:stretch/>
        </p:blipFill>
        <p:spPr>
          <a:xfrm>
            <a:off x="8024760" y="1725480"/>
            <a:ext cx="3371760" cy="42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3" name="Rectangle 3"/>
          <p:cNvSpPr/>
          <p:nvPr/>
        </p:nvSpPr>
        <p:spPr>
          <a:xfrm>
            <a:off x="787320" y="2000160"/>
            <a:ext cx="35798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оружения связ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дания, Шкафные объек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бельная канализ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душные линии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ссивное, активное оборуд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66760">
              <a:lnSpc>
                <a:spcPct val="7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бельные ли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Текст 31"/>
          <p:cNvSpPr/>
          <p:nvPr/>
        </p:nvSpPr>
        <p:spPr>
          <a:xfrm>
            <a:off x="1182600" y="4510080"/>
            <a:ext cx="6424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оенный графический редакто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гических и картографических сх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паспортов, схем, отче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нтрализованное бюро ремо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Box 1"/>
          <p:cNvSpPr/>
          <p:nvPr/>
        </p:nvSpPr>
        <p:spPr>
          <a:xfrm>
            <a:off x="10292400" y="5581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GS-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TextBox 32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Номер слайда 6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DFF-49B0-4316-8EFE-F74F71290E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39520" y="177300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расчетов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ad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назначена для автоматизации процесса энергосбытовой деятель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я и сопровождения договоров с потребителя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та электроэнергии и мощност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ов за электроэнергию и услуги с потребителями и поставщик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ения временных затрат на рутинные операци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тивной обработки информации о потребителя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и управленческой и статистической отче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736200" y="304920"/>
            <a:ext cx="110473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Расчет энергосбытовых услуг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13" descr="&amp;Kcy;&amp;acy;&amp;rcy;&amp;tcy;&amp;icy;&amp;ncy;&amp;kcy;&amp;icy; &amp;pcy;&amp;ocy; &amp;zcy;&amp;acy;&amp;pcy;&amp;rcy;&amp;ocy;&amp;scy;&amp;ucy; &amp;vcy;&amp;rcy;&amp;iecy;&amp;mcy;&amp;yacy; &amp;ucy;&amp;scy;&amp;kcy;&amp;ocy;&amp;rcy;&amp;iecy;&amp;ncy;&amp;icy;&amp;iecy; &amp;icy;&amp;kcy;&amp;ocy;&amp;ncy;&amp;kcy;&amp;acy;"/>
          <p:cNvPicPr/>
          <p:nvPr/>
        </p:nvPicPr>
        <p:blipFill>
          <a:blip r:embed="rId1"/>
          <a:stretch/>
        </p:blipFill>
        <p:spPr>
          <a:xfrm>
            <a:off x="903240" y="4500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" descr="&amp;Kcy;&amp;acy;&amp;rcy;&amp;tcy;&amp;icy;&amp;ncy;&amp;kcy;&amp;icy; &amp;pcy;&amp;ocy; &amp;zcy;&amp;acy;&amp;pcy;&amp;rcy;&amp;ocy;&amp;scy;&amp;ucy; &amp;dcy;&amp;ocy;&amp;gcy;&amp;ocy;&amp;vcy;&amp;ocy;&amp;rcy; &amp;icy;&amp;kcy;&amp;ocy;&amp;ncy;&amp;kcy;&amp;acy;"/>
          <p:cNvPicPr/>
          <p:nvPr/>
        </p:nvPicPr>
        <p:blipFill>
          <a:blip r:embed="rId2"/>
          <a:stretch/>
        </p:blipFill>
        <p:spPr>
          <a:xfrm>
            <a:off x="83196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7" descr="&amp;Kcy;&amp;acy;&amp;rcy;&amp;tcy;&amp;icy;&amp;ncy;&amp;kcy;&amp;icy; &amp;pcy;&amp;ocy; &amp;zcy;&amp;acy;&amp;pcy;&amp;rcy;&amp;ocy;&amp;scy;&amp;ucy; &amp;ecy;&amp;lcy;&amp;iecy;&amp;kcy;&amp;tcy;&amp;rcy;&amp;ocy;&amp;ecy;&amp;ncy;&amp;iecy;&amp;rcy;&amp;gcy;&amp;icy;&amp;yacy; &amp;icy;&amp;kcy;&amp;ocy;&amp;ncy;&amp;kcy;&amp;acy;"/>
          <p:cNvPicPr/>
          <p:nvPr/>
        </p:nvPicPr>
        <p:blipFill>
          <a:blip r:embed="rId3"/>
          <a:stretch/>
        </p:blipFill>
        <p:spPr>
          <a:xfrm>
            <a:off x="831960" y="32148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831960" y="38577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21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AutoShape 23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AutoShape 25"/>
          <p:cNvSpPr/>
          <p:nvPr/>
        </p:nvSpPr>
        <p:spPr>
          <a:xfrm>
            <a:off x="173160" y="-1165320"/>
            <a:ext cx="243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0" name="Picture 27" descr="&amp;Kcy;&amp;acy;&amp;rcy;&amp;tcy;&amp;icy;&amp;ncy;&amp;kcy;&amp;icy; &amp;pcy;&amp;ocy; &amp;zcy;&amp;acy;&amp;pcy;&amp;rcy;&amp;ocy;&amp;scy;&amp;ucy; &amp;icy;&amp;ncy;&amp;fcy;&amp;ocy;&amp;rcy;&amp;mcy;&amp;acy;&amp;tscy;&amp;icy;&amp;icy; &amp;icy;&amp;kcy;&amp;ocy;&amp;ncy;&amp;kcy;&amp;acy;"/>
          <p:cNvPicPr/>
          <p:nvPr/>
        </p:nvPicPr>
        <p:blipFill>
          <a:blip r:embed="rId5"/>
          <a:stretch/>
        </p:blipFill>
        <p:spPr>
          <a:xfrm>
            <a:off x="893880" y="500076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9" descr="&amp;Kcy;&amp;acy;&amp;rcy;&amp;tcy;&amp;icy;&amp;ncy;&amp;kcy;&amp;icy; &amp;pcy;&amp;ocy; &amp;zcy;&amp;acy;&amp;pcy;&amp;rcy;&amp;ocy;&amp;scy;&amp;ucy; &amp;ocy;&amp;tcy;&amp;chcy;&amp;iecy;&amp;tcy; &amp;icy;&amp;kcy;&amp;ocy;&amp;ncy;&amp;kcy;&amp;acy;"/>
          <p:cNvPicPr/>
          <p:nvPr/>
        </p:nvPicPr>
        <p:blipFill>
          <a:blip r:embed="rId6"/>
          <a:stretch/>
        </p:blipFill>
        <p:spPr>
          <a:xfrm>
            <a:off x="895320" y="5565600"/>
            <a:ext cx="439920" cy="43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31"/>
          <p:cNvSpPr/>
          <p:nvPr/>
        </p:nvSpPr>
        <p:spPr>
          <a:xfrm>
            <a:off x="173160" y="-914400"/>
            <a:ext cx="1904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AutoShape 33"/>
          <p:cNvSpPr/>
          <p:nvPr/>
        </p:nvSpPr>
        <p:spPr>
          <a:xfrm>
            <a:off x="173160" y="-914400"/>
            <a:ext cx="1904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Прямоугольник 40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TextBox 41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Box 43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63FA-B725-4BC4-8C72-FF2819A70D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800280" y="1643040"/>
            <a:ext cx="55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в системе осуществляется с помощью интуитивно понят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c3c"/>
                </a:solidFill>
                <a:latin typeface="Verdana"/>
              </a:rPr>
              <a:t>веб-интерфей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чие места – это веб-страницы, доступные во всех популярных браузе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9" name="Picture 16" descr="D:\WORKS\MoBill-EnergoTrade\Doc\Документация\Новое\Картинки оригиналы\клиенты 2.png"/>
          <p:cNvPicPr/>
          <p:nvPr/>
        </p:nvPicPr>
        <p:blipFill>
          <a:blip r:embed="rId1"/>
          <a:stretch/>
        </p:blipFill>
        <p:spPr>
          <a:xfrm>
            <a:off x="6546960" y="1811160"/>
            <a:ext cx="4948200" cy="35625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2"/>
          <a:srcRect l="9149" t="0" r="57927" b="0"/>
          <a:stretch/>
        </p:blipFill>
        <p:spPr>
          <a:xfrm>
            <a:off x="9285120" y="1863720"/>
            <a:ext cx="2067120" cy="857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8" descr="&amp;Kcy;&amp;acy;&amp;rcy;&amp;tcy;&amp;icy;&amp;ncy;&amp;kcy;&amp;icy; &amp;pcy;&amp;ocy; &amp;zcy;&amp;acy;&amp;pcy;&amp;rcy;&amp;ocy;&amp;scy;&amp;ucy; &amp;ocy;&amp;scy;&amp;ncy;&amp;ocy;&amp;vcy;&amp;ncy;&amp;ycy;&amp;iecy; &amp;bcy;&amp;rcy;&amp;acy;&amp;ucy;&amp;zcy;&amp;iecy;&amp;rcy;&amp;ycy;"/>
          <p:cNvPicPr/>
          <p:nvPr/>
        </p:nvPicPr>
        <p:blipFill>
          <a:blip r:embed="rId3"/>
          <a:srcRect l="41159" t="0" r="24089" b="0"/>
          <a:stretch/>
        </p:blipFill>
        <p:spPr>
          <a:xfrm>
            <a:off x="9263160" y="2720880"/>
            <a:ext cx="1987560" cy="7812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20"/>
          <p:cNvSpPr/>
          <p:nvPr/>
        </p:nvSpPr>
        <p:spPr>
          <a:xfrm>
            <a:off x="1941480" y="357192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ение и изменение всех необходимых реквизитов с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истор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2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793800" y="35002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&amp;Kcy;&amp;acy;&amp;rcy;&amp;tcy;&amp;icy;&amp;ncy;&amp;kcy;&amp;icy; &amp;pcy;&amp;ocy; &amp;zcy;&amp;acy;&amp;pcy;&amp;rcy;&amp;ocy;&amp;scy;&amp;ucy; &amp;ocy;&amp;tcy;&amp;chcy;&amp;iecy;&amp;tcy;&amp;ncy;&amp;ocy;&amp;scy;&amp;tcy;&amp;softcy; &amp;acy;&amp;ncy;&amp;acy;&amp;lcy;&amp;icy;&amp;tcy;&amp;icy;&amp;kcy;&amp;acy; &amp;icy;&amp;kcy;&amp;ocy;&amp;ncy;&amp;kcy;&amp;acy;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816120" y="484812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&amp;Kcy;&amp;acy;&amp;rcy;&amp;tcy;&amp;icy;&amp;ncy;&amp;kcy;&amp;icy; &amp;pcy;&amp;ocy; &amp;zcy;&amp;acy;&amp;pcy;&amp;rcy;&amp;ocy;&amp;scy;&amp;ucy; &amp;icy;&amp;ncy;&amp;scy;&amp;tcy;&amp;rcy;&amp;ucy;&amp;mcy;&amp;iecy;&amp;ncy;&amp;tcy; &amp;icy;&amp;kcy;&amp;ocy;&amp;ncy;&amp;kcy;&amp;acy;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928800" y="5276880"/>
            <a:ext cx="642960" cy="60480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29"/>
          <p:cNvSpPr/>
          <p:nvPr/>
        </p:nvSpPr>
        <p:spPr>
          <a:xfrm>
            <a:off x="1959120" y="5062680"/>
            <a:ext cx="507204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формирования различных отчетных форм с помощью внутреннего инструментар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3c3c"/>
                </a:solidFill>
                <a:latin typeface="Verdana"/>
              </a:rPr>
              <a:t>Конструктора отч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Box 31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32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33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36200" y="304920"/>
            <a:ext cx="1104732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Расчет энергосбытовых услуг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9298080" y="624528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EAA-6C8C-49D6-80A9-2F2390C1FE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836640" y="1785960"/>
            <a:ext cx="59785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т контрагенто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требителей – юридических л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вщиков и производителей электро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тевых организац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3" name="Picture 11" descr="http://www.eskzgroup.ru/upload/medialibrary/33a/33a2f94402b4a50324fbe8a341848534.png"/>
          <p:cNvPicPr/>
          <p:nvPr/>
        </p:nvPicPr>
        <p:blipFill>
          <a:blip r:embed="rId1"/>
          <a:srcRect l="22781" t="15661" r="23231" b="9219"/>
          <a:stretch/>
        </p:blipFill>
        <p:spPr>
          <a:xfrm>
            <a:off x="6815160" y="1571760"/>
            <a:ext cx="4572000" cy="4500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836640" y="3643200"/>
            <a:ext cx="59785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с договорами (учет и расчеты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нергоснаб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оэнергии и мощ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казания услуг по передаче электрической энер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пли-продажи электрической энергии в целях компенсации потер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сти систем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агенты и догово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20"/>
          <p:cNvSpPr/>
          <p:nvPr/>
        </p:nvSpPr>
        <p:spPr>
          <a:xfrm>
            <a:off x="766800" y="6192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ООО «Мобилл плюс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Прямоугольник 21"/>
          <p:cNvSpPr/>
          <p:nvPr/>
        </p:nvSpPr>
        <p:spPr>
          <a:xfrm>
            <a:off x="8272440" y="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Bill–Energo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Box 22"/>
          <p:cNvSpPr/>
          <p:nvPr/>
        </p:nvSpPr>
        <p:spPr>
          <a:xfrm>
            <a:off x="8280360" y="334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f6f6f"/>
                </a:solidFill>
                <a:latin typeface="Verdana"/>
                <a:ea typeface="Microsoft Sans Serif"/>
              </a:rPr>
              <a:t>Расчет энергосбытовых усл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12:36Z</dcterms:created>
  <dc:creator>ООО "Мобилл плюс"</dc:creator>
  <dc:description/>
  <dc:language>en-US</dc:language>
  <cp:lastModifiedBy>Андрей</cp:lastModifiedBy>
  <cp:lastPrinted>2017-04-03T08:05:01Z</cp:lastPrinted>
  <dcterms:modified xsi:type="dcterms:W3CDTF">2017-06-01T10:42:06Z</dcterms:modified>
  <cp:revision>389</cp:revision>
  <dc:subject>Обзор продуктов MoBill</dc:subject>
  <dc:title>Презентация</dc:title>
</cp:coreProperties>
</file>