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E610-6D98-42FB-9C87-A9ABCEA56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F1B2-9BC3-4AFF-BE35-28F406395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4DE-FF73-44FF-B533-D01B5AF1F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1E2-B9F6-4C98-9362-26A340D6F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CAC7-E743-4A23-ABE7-3C4674DBC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52C-78F0-4488-8F5D-DE5ECAD9B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E85-6080-4FDE-89CC-F1CB1C2A5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AEB-FEF4-459E-93CC-15FAC992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BE0-7BB0-4726-8A22-6B74783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DEF8-E9C3-4B81-9479-30991A52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B3CAE-104F-4B2E-9286-A0A9BB4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31E3F-20A6-4DB5-999F-8B52C22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D0573-1FF5-4672-82B5-FC96664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900B-2339-43DF-979D-1CD31CC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C02B8-FC36-4B5D-8888-1C79CAA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DE61A-4ED7-4C5F-9C44-FC7057A8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ED88-8005-45EB-A8BE-D59F9129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57D9-5D4F-4D78-94FB-235C88C2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98EC2-66CC-4ED1-B899-8F7082E2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A5A-2938-451B-BCB2-4CB8F9E7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54CC-3136-4437-8EC3-0A444DB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7712E-697D-46E2-B42A-6C89FA8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1C3E8-EA4C-4C14-B716-0C66A90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71001-BE99-45B4-BB70-C8CC9DD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3F35F-39AD-4A80-AE4C-97CF657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71A00-0043-4438-B1F0-C2BF2D6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7015D-56AA-4A67-AD3E-5B1138B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B12D-947C-4543-8E4B-794E81F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602D6-C7F5-4B49-8A02-E5E3A28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2DA18-7B72-4339-A501-71ACD90E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D90-16FD-4A50-B878-47BB9D9E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2700-C64A-460A-AB2C-2016E4F0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47A3A-9C65-4DB8-8087-3D1F79E8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FB71A-EAAA-4C64-A94B-ADA2FD8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F6A37-E0D5-430E-874C-EB34017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377C8-0918-49F3-8F8B-40B0104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B8C7-201B-4063-88B9-9F6BC8A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6EE7-FE6E-4F07-8157-540FB46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6B593-007A-4347-A212-1EB05D3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FB4C6-F19C-4C0E-8132-1543F7D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BC8D1-AF8C-48A8-9E0E-8320773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9390-D81B-4DA4-8A02-94732AA7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5064-1A8D-42F4-8AA1-09D68975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7BC6B-0734-42BB-9445-3E9A5F68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678F7-FD44-4E54-96B8-28543007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F66D-4275-419B-A1B0-599CFF95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E40D4-5277-4771-A1A7-797D3ED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FBF86-2545-40AA-8D2D-8C0FF7B4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7A12-0F45-462A-B4C4-0E6A3C0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57D9E-5A55-44C3-ACDB-49CF3B3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8953F-EC3E-4670-8FDF-FD51A39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8C925-2AC7-4374-A08F-33F0CB0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807-84A9-4C36-BEDD-F236B64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4E12D-8CDF-4F4D-8C2D-880BED5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58349-0A79-4087-98DA-DA74B39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4E5DC-CA22-400B-B90E-766333C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2A288-261C-4EAD-A8A4-B18DC273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18B51-67F8-41A4-9219-E67C149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4514F-D708-412B-8ABC-B17D42A0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7AD72-0784-4578-847B-8D0617D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08C7B-D6B7-4935-BB32-7FB8B40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C5DEF-E0F6-408C-804E-2C44EA2B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D8A65-8CD5-4FCF-A2E8-D9EF057D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CAC-48C5-4C15-B6A9-7E0148B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4E666-727D-48CB-80A2-31BE455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BEE42-18E0-4625-99C5-1F3B6CA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4B82E-B682-45A0-9444-1631AFB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59FF0-3871-4833-BF0E-CC24107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58314-9EAC-4EEF-ABD5-3211AE4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818DF-9232-4C5E-AB88-021EFDA3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62617-2105-48D8-9B3A-E54EAB58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85C-7095-4B83-BC29-E0D4223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348-DEBA-45E0-9B02-D8BBF2E3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8863-FE63-445D-B4F0-9C0C608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BC8-D3F8-47DB-8B6E-06446A8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5F9-0957-42CB-8328-CF0F2CE8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677C-19F3-4652-B9E2-A3A3912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757-239D-4AF4-B146-B3C0A13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289D-C150-4286-8E6A-1CB4BC4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4C98-A5DB-4EC8-82A2-6A4E4E11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9FC-64E6-47DD-B52A-92AD6D0A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EFAF-A5D8-40AE-8F0E-AB773C97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E4CE-A705-4663-98DB-1215F9C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29B0-8A1B-4A66-A4D2-DE3F9E5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1773-02AB-4000-B699-65261A5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3AEF-10CD-448A-9EF0-AC4C72FA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2DB-0636-4D3C-A797-BDBCFA84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8E2A-143F-4704-8074-D623F5C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B624-4B27-491E-AF5C-6344364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FDB2-9DFB-45F3-9FAE-DB80C3C7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8ECF-FBB2-487B-9BD4-CD9FE64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602D-6257-445B-90AB-66A0E32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AF57-5E51-4DC8-A5E8-7BCB001E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03E3-8110-4631-ABE9-7760E456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D50F-4BA8-4692-9AB3-C1E63757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D78A-6074-4F98-9CF4-C629C584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DE11-0A17-409D-9DE1-F87C936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C07-13C6-4C09-BC74-25FC56A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17559-1BB5-4297-A451-445E478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AA07-354E-4586-9974-A7EA29D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CD86-951A-4F7E-8729-5987CAC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5F8F-EC4F-43E0-A8DA-5B4739A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3A92-DBA3-4ED7-84CF-BFC16DD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127D-683A-42C2-9B31-C319D10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F9CB-BF70-4A25-A9A2-F668C16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6F07-5EF3-4BC8-BFA2-7B14AED2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25C6-FA76-491E-AED7-950ED495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6F47-6A2C-449B-A8CD-CC9D66E4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B57-A7A4-4F36-A4E1-9CA18C2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21C0-E2EF-43E1-9DFE-FBBFA0D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61DD-3F51-4FD2-8BAC-510522C9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CA55-C0E1-4B48-8143-F1B3E84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F414-AFAE-4963-A384-78C793A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284D-53A1-4F52-BD12-4DE80316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50495-FC43-46D0-A6AC-9904E231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80F5-E2D7-49BC-A667-46583DF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9F78-8B08-43CD-9097-71AAFBE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031E-F6E6-4217-A4EF-E4CFD73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39C5-D4C6-4549-ADFF-D9DD4959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6A1-3CDE-4B08-AA59-2074DEEA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7A72-F3AC-40E8-8DC6-680956B0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0DB3-18E3-4F47-992A-38FE6E7A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8644-A07C-4C80-AB81-04ECF4A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3485-D2AF-40E9-8556-DFB0F6B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C3E2-B83B-4FB9-9836-0C2BBBC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EBFA0-F9BE-4A34-9B93-A93B13CE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E455-A8F5-4202-A663-1AE96A8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9358-BFFA-4C14-B483-1C2FCB54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E7DC-21F9-43EE-8CB0-5640341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D5F6-5F3A-4E11-969D-3400F69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CF2-3AE8-4FAA-8F4E-88A66A1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FE03-8B83-4EC6-A457-799387B4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03C8-9E11-4793-9337-A8EA4343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FDA9-DEAD-4360-BB17-1A5E6E2A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7B4EB-AB76-4462-8123-78686A03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7092-80A5-45A4-B06A-BABC114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6EFAA-9CC2-46F9-A61A-98BAC4B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BCCB-AB11-4269-97D0-B79B82C4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D8B8-01BE-445A-99D6-E31DB917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204E-8B02-432A-B770-99DA94AA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084B9-9FCB-4A7C-9A49-17998D9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1EA-D315-4DEE-B072-81B0C43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B808-8201-4C59-81D6-215323D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49B68-D6EF-4BBD-A3EE-C333F99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7E80-8C50-4D4D-90A5-9AAB7123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7D7B-BF5F-48AA-A676-A2036EED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9F4F-96B9-45D7-B46B-D0991DA1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C20B-2606-449E-BF60-265564DA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9B0AB-E62D-4C14-BD4F-56C064B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1B10-7178-42A7-BB14-45ADF2A3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8183B-9D89-43C3-A2B1-6B35009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5ADC-5022-4FE9-862A-BCBE4168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8CE-9BA0-4B05-A8F9-3F964F0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B661-CF91-4B9A-BB93-435F190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1938D-E185-46D6-99FF-F0A33F5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3A516-CF46-4F14-A2D1-A36C4A8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44C6-D2A9-44C7-A333-561A87A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E8FD-9885-418D-BC66-73D4E2C2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CCD9-75A0-432C-8CD4-B92E5899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5968D-6D0F-457E-BDDA-21AE17B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520F4-13FC-4063-85F8-B8A1F7EE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58AD-B1B6-4A72-9EC9-9CF43B8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88FE3-5B1D-47C9-BDDF-79CC3E2C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888D-B986-435C-BF4F-AE7EC3C9B9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D585-ADCA-4597-B4C7-EE1DE5C13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2CFD-26DD-4C49-876F-EE09EB270A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CE1F-8460-4F82-9B92-E102110F0A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BF40-E666-4138-9A8C-C33F3F6D9A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A8C-8A24-476B-B00D-622B2DCFB8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2003-262F-4FFF-A536-27D383BAD1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C10-AF5D-444C-B24B-4E4264B533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6589-CF5D-4596-B274-7F6713D76E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A22-6E44-477C-86AC-9E99B0A5D6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644-EBCF-491D-9D7E-CF14ECF4B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0991-05AC-4023-A373-5D6D37B7FF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3E6-4BA5-4715-BEC1-F12FABD3A9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Logo2"/>
          <p:cNvPicPr/>
          <p:nvPr/>
        </p:nvPicPr>
        <p:blipFill>
          <a:blip r:embed="rId3"/>
          <a:stretch/>
        </p:blipFill>
        <p:spPr>
          <a:xfrm>
            <a:off x="794052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&amp;Kcy;&amp;acy;&amp;rcy;&amp;tcy;&amp;icy;&amp;ncy;&amp;kcy;&amp;icy; &amp;pcy;&amp;ocy; &amp;zcy;&amp;acy;&amp;pcy;&amp;rcy;&amp;ocy;&amp;scy;&amp;ucy; sms"/>
          <p:cNvPicPr/>
          <p:nvPr/>
        </p:nvPicPr>
        <p:blipFill>
          <a:blip r:embed="rId4"/>
          <a:stretch/>
        </p:blipFill>
        <p:spPr>
          <a:xfrm>
            <a:off x="8596440" y="157176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797040" y="1785960"/>
            <a:ext cx="58705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SMS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Автоматизированная система предоставления </a:t>
            </a:r>
            <a:r>
              <a:rPr b="0" lang="en-US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SMS</a:t>
            </a: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-сервисов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Прямоугольник 7"/>
          <p:cNvSpPr/>
          <p:nvPr/>
        </p:nvSpPr>
        <p:spPr>
          <a:xfrm>
            <a:off x="880920" y="461808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Сервисы «SMS информирование» и «SMS по запрос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066E-E1E8-40B9-A296-BCDB4FBCDD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766800" y="1773360"/>
            <a:ext cx="8962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9" descr="Logo2"/>
          <p:cNvPicPr/>
          <p:nvPr/>
        </p:nvPicPr>
        <p:blipFill>
          <a:blip r:embed="rId1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1"/>
          <p:cNvSpPr/>
          <p:nvPr/>
        </p:nvSpPr>
        <p:spPr>
          <a:xfrm>
            <a:off x="809640" y="3929040"/>
            <a:ext cx="87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технологии и программное обеспечение, которое обеспечивает высокую скорость обработки данных и высокую степень защищенности информ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Picture 6" descr="&amp;Kcy;&amp;acy;&amp;rcy;&amp;tcy;&amp;icy;&amp;ncy;&amp;kcy;&amp;icy; &amp;pcy;&amp;ocy; &amp;zcy;&amp;acy;&amp;pcy;&amp;rcy;&amp;ocy;&amp;scy;&amp;ucy; &amp;Bcy;&amp;D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9882360" y="36432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4"/>
          <p:cNvSpPr/>
          <p:nvPr/>
        </p:nvSpPr>
        <p:spPr>
          <a:xfrm>
            <a:off x="1825560" y="321480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16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11" descr="C:\Users\denis\Pictures\20-let-raboty.png"/>
          <p:cNvPicPr/>
          <p:nvPr/>
        </p:nvPicPr>
        <p:blipFill>
          <a:blip r:embed="rId3"/>
          <a:stretch/>
        </p:blipFill>
        <p:spPr>
          <a:xfrm>
            <a:off x="973944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838080" y="2916360"/>
          <a:ext cx="100602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81080"/>
                <a:gridCol w="249732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Номер слайда 6"/>
          <p:cNvSpPr/>
          <p:nvPr/>
        </p:nvSpPr>
        <p:spPr>
          <a:xfrm>
            <a:off x="9299520" y="62434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0B3-99E0-45DA-BAC5-A33C83D574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381040" y="3949560"/>
            <a:ext cx="80737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6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900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599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19"/>
          <p:cNvSpPr/>
          <p:nvPr/>
        </p:nvSpPr>
        <p:spPr>
          <a:xfrm>
            <a:off x="519588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20"/>
          <p:cNvSpPr/>
          <p:nvPr/>
        </p:nvSpPr>
        <p:spPr>
          <a:xfrm>
            <a:off x="852804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758880" y="34128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Picture 9" descr="Logo2"/>
          <p:cNvPicPr/>
          <p:nvPr/>
        </p:nvPicPr>
        <p:blipFill>
          <a:blip r:embed="rId4"/>
          <a:stretch/>
        </p:blipFill>
        <p:spPr>
          <a:xfrm>
            <a:off x="9667800" y="7858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CB47-77A8-4CCF-B2B4-0B136CC533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Прямоугольник 21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Box 24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0928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ирование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13880" y="1844640"/>
            <a:ext cx="1095372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бота с личным составо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петчерская служба. Оперативное и своевременное оповещение руководящего состава и сотруд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тренное оповещение в целях ГО и защиты от Ч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вещение о предстоящих и просроченных событ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Прямоугольник 29"/>
          <p:cNvSpPr/>
          <p:nvPr/>
        </p:nvSpPr>
        <p:spPr>
          <a:xfrm>
            <a:off x="709560" y="4400640"/>
            <a:ext cx="10672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бота с клиент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вещение должни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ылка рекламных и информационных сооб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892-5463-4511-B7E0-482D29E6BB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работы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ирование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Прямоугольник 13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Box 14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43" descr=""/>
          <p:cNvPicPr/>
          <p:nvPr/>
        </p:nvPicPr>
        <p:blipFill>
          <a:blip r:embed="rId1"/>
          <a:stretch/>
        </p:blipFill>
        <p:spPr>
          <a:xfrm>
            <a:off x="952560" y="1785960"/>
            <a:ext cx="1027908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7FBC-21E4-4F04-A8EB-8D3CE76239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 запросу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2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738360" y="1785960"/>
            <a:ext cx="813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ередача информации от клиент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ем показаний приборов учета: Электросчетчик, ГВС, ХВС и т.п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666720" y="3429000"/>
            <a:ext cx="81360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бработка запросов от клиентов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прос информации о задолжен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прос состояния обработки обращения клиен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правление услугами: подключение, блокир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3801-6CC5-47A0-9FA2-BBDF5CB525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работы сервиса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MS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 запросу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Box 17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Прямоугольник 20"/>
          <p:cNvSpPr/>
          <p:nvPr/>
        </p:nvSpPr>
        <p:spPr>
          <a:xfrm>
            <a:off x="9739440" y="-712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6f6f6f"/>
                </a:solidFill>
                <a:latin typeface="Verdana"/>
              </a:rPr>
              <a:t>Bill–STS.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9882360" y="21420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SMS</a:t>
            </a:r>
            <a:r>
              <a:rPr b="0" lang="ru-RU" sz="1200" spc="-1" strike="noStrike">
                <a:solidFill>
                  <a:srgbClr val="a6a6a6"/>
                </a:solidFill>
                <a:latin typeface="Verdana"/>
                <a:ea typeface="Microsoft Sans Serif"/>
              </a:rPr>
              <a:t>-серви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878040" y="1857240"/>
            <a:ext cx="10432800" cy="41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0A6-04C5-412D-BD6F-B8E88B6507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0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4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766800" y="142920"/>
            <a:ext cx="108014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STS.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SMS </a:t>
            </a:r>
            <a:br>
              <a:rPr sz="4000"/>
            </a:br>
            <a:r>
              <a:rPr b="0" lang="ru-RU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 Автоматизированная система предоставления </a:t>
            </a:r>
            <a:r>
              <a:rPr b="0" lang="en-US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SMS</a:t>
            </a:r>
            <a:r>
              <a:rPr b="0" lang="ru-RU" sz="24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-сервисов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809640" y="62150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6-01T10:26:38Z</dcterms:modified>
  <cp:revision>335</cp:revision>
  <dc:subject>MoBill-STS.SMS SMS-сервисы</dc:subject>
  <dc:title>Презентация</dc:title>
</cp:coreProperties>
</file>