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17F3-A420-4149-BBC8-E8FB69D20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A5B5-74A9-47C9-9EA0-8C1F6A0A0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A3F4-6605-424F-B369-C128CD115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2399-0982-4956-A8E1-DA331E3D7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EB73-BFAB-4FF2-AF3C-3921F734FD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3AB-FC8D-49FC-B5D7-C4F027A1D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E8B4-A307-4251-9D88-2DC30C365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A604-BB9A-48F7-B001-FE743F301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5EB-A2EE-4557-9B32-73DC52BF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70C-9828-4D70-AAE5-016C920F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6D4EF-E11A-4F5C-ADFD-B1163E50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A13F0-275A-4A39-815D-2F474F8A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2ABA4-6038-4017-A91E-A5C3BC7B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3D00A-C76B-4C61-ADBA-E0DA6F5A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75159-92C6-47D4-B330-7731A448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4ABAA-42EE-4D96-A7C2-B98A48D5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F0E15-B0B1-4922-9876-A38122B4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764F5-286F-482A-AD09-A2891C25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D96A6-9E61-4D89-82D8-30B7C400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A76F8-E4FC-4016-A991-898D9CD8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0C4-58FA-4A85-827E-0429D425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6162F-C2D8-401E-933F-00E1C82D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9EA02-323C-446D-8DEF-52ACC2F6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9DBCC-72BD-4D76-B4E9-016A4388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3DA7F-8AF8-4725-BCA2-8B26B858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CD30A-9F58-4B7B-854A-D4F9760C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8BCDF-E52A-422B-B8F2-DAB32EE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D5CBD-2BE4-428E-9960-B0883C5F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39E65-FF2A-40B3-BD0B-7F8F360E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91AAF-E70A-4401-BD19-97E93F1C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76A43-B341-44A3-BC5E-C494E36A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EAD-1F1C-4398-84C8-B174B2D0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78DA5-C6D6-4B6C-A101-9175F7E6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B5A5E-26AF-4A36-A23D-8D37811C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DE99C-D7D6-48FE-857C-7DC6DB48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01833-8D94-4355-ABC4-2F7F6A87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62B77-B5B1-4BFE-A1A1-059D8615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BE5D1-81F5-4511-A0B1-DC9515DD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29113-45D8-4CA3-9B3B-DEEFC0F1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23718-C903-41E0-BFAA-0C31F68B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8E192-E815-41EF-BFA8-D955F0A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48DB0-0472-4928-9161-AED5B3A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1B31-684E-4817-9357-00D9466C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D3E53-F09D-4D7F-AA7D-2BDC1178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403EF-6D94-4B35-8008-7F3784ED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F5167-4CB9-4577-ADDD-88F227F3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D14AA-21CC-42D2-B23E-EE44A57B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60E30-9BBA-4E91-B3E2-32B02C37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9CE51-85BF-4307-9D62-E651C0E9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7D202-B09F-43AC-884D-387FBBE5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79472-C032-4F04-8714-37AC1976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2759C-C6A5-495D-B51A-4AADDA91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AC0ED-08DB-46E5-8878-8B014B9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3CB9-1A2D-4048-BF3D-50A31ACF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8E95F-A5E7-4E16-9BEB-F2E3E27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6F18B-6823-48A9-A83D-0EE33B7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6A03C-D6E4-42E1-87B5-2F2E1DBD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97C32-66BE-40E5-A9A0-8EA2EF95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6E747-2709-4072-A731-808CF153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0158A-77D3-4E3C-AE94-C008B836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EA839-A331-4C33-BC52-2E9BA833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6720A-EFA9-4A10-BF5D-CCB5E43B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C7A1E-2E22-4F9C-9487-6403DC87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67EAB-8466-405D-B8BB-665651B8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0DA0-357A-4D1C-8E39-30997BEB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6E60C-3AF4-4AC9-AC16-EE0B9793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0EB5F-1F6B-4E75-840A-D072F05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AC047-AE4C-458D-8419-9CE1CFD0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013A3-4C97-4656-B350-8547D73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0BC58-A755-4DB2-8936-1D406813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9919F-5261-4A6D-B512-26FC19C3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36CC3-4930-45E0-B07D-8F57701C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E033-3821-4C0D-8686-6EA3A55E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8F2F-D19D-447E-A2B2-5E34F6DB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9B50-83A0-4CB6-A9D1-A65E8CD7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9979-8A26-41C8-9C12-1D08D458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8DE-1DA8-427C-91FE-FB0C65CF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3D3-54ED-4B63-A0DF-8DCA4DDD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E18C-C7D3-4A7B-8CBA-3EC04C5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3142-CFE6-4D53-B53B-BFB3267C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4ABB-D53B-4561-8B46-061C6730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4B58-99B0-48AB-A904-F81E637F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C8115-1CF5-49D0-819F-4FE9E0E8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A6C8-C316-48EE-8389-C741E14D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2245-0538-42C5-BB49-0636CE03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AFC5-2B26-47F4-A1BC-272FED97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DA7F-D5D6-408D-B5CC-1A631207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B3F-303F-4EA7-B3A9-22768880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8D4AE-E75B-4D50-BB30-776CB62E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887EC-D477-410A-A14C-2857BC90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E2FF2-D17B-47C5-BDB8-DC35CA7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7CB2-9C1D-4ABB-BB2B-FCFA05C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9E709-04E3-4563-8D7B-92502A63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6FBBC-FB12-4D38-89BE-8EF660BD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A159-4586-4EF6-9A4F-6A3F409A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91AF-C0AF-4DE5-BBD2-313F1162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7F4A-C1D9-46A6-9770-637AEB02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B795-0C0D-4546-989C-2A6E1891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F4D-3CD9-4998-94AC-0BE742E8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D5AB-D0AD-4063-93BC-06A916F4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CE38-789E-4D66-A970-01AA60BA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3951-7BA4-410F-9327-D745A3EF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A720-8B28-4309-BB05-BC8850E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781A-AF30-4F96-BFEB-D701E0E4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7D35-F22E-4F50-A11F-7DE60A2D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0677-B121-4D88-A3DD-7C455441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0E3E-2C80-4B03-9501-D4F50810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5748-E874-4FF4-9D56-D898D252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781E-7878-4F24-B052-955E33A6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983-A386-4E69-A049-0E2B809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6D37-65D7-4EB7-9211-CF06EA8B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D8AFD-0C96-4C86-90C6-0BE2AED4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79B65-2196-4F01-8947-6A8BD892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4CC75-28AF-4CFA-B220-F0F8C770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82391-8CDB-4ABE-B424-EE5A5BCC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2987-4AAD-42AC-A4CC-0ED2DA1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351B-C0A8-4B14-B5A9-38AAA467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E18BB-72BB-44CD-9686-061CDAB1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1E4E-06A4-4583-A040-D926698D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312A7-C9CF-4709-AF67-F2A3713E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85D-0500-47B1-9872-FE94015A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7A134-1616-40B3-AA41-27204288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16268-FDAF-46B2-A508-EDB78ED8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633A3-67DF-4090-BEA2-9C1B3DD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01DEB-A160-4009-AFA4-64B5B49C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6310-6979-4587-B1E6-A66B2C1D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DA71D-C000-46F5-9C86-79099D10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25DD-7DBB-4203-84AF-C91D9810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4DFC-EF1F-4F50-B028-2B0F067A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C3184-3E5B-440E-95D2-DD3234D1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A790-F6BA-4917-80F4-FC2B510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739-27A1-4C2E-8E30-4762C7BD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ADA54-A5B1-4121-83C1-B894EA2E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8A6A7-C33B-43B0-A05E-166F8F90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59CB9-CAFE-4DBF-A1CB-21DCD040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069E-F0EC-4716-B6DB-67801188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6E902-B93B-44B9-9953-E6A39649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43A1A-F048-44B6-A08C-485987E4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C40C0-570A-4E35-9A5A-9BD86BCE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6DAE3-BC51-44E6-993F-FF5DA4DC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E31B5-7C8D-4C2B-AB40-AAE2F164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638DC-D231-4ED1-A098-1108583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388-FD03-43AC-9417-6FB0A043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72CE-B232-4145-8462-19182B6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EEBB9-03DE-40B1-B3D3-7594F42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22239-0C94-4390-ABFC-44BA79E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999D3-2622-4AC7-BF02-23F6E59C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6B808-97B2-49ED-9E9F-478A9B7B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CCFC5-E3B6-4D16-B741-9B8B8CFD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0525-6E00-45BF-A5CB-AF9288EB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84D80-9344-4C4C-BA61-E540413C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F4B17-7AD7-4703-8AFB-F6332536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D256C-4180-49A8-BC61-B68F7F09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5C8-D1AE-44E8-9482-69DC43A6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4ECE9-53FA-4F35-BC8F-1D756113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4C350-1D29-44AE-98EE-B32F267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3DE6A-463F-4716-9C3F-1BF3C6B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2C103-45B2-4E1B-BF8D-662213E8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75890-B6DD-4E6F-909E-29DE9A80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89732-3E5E-40DD-A858-5FE4B270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23BF2-C442-4614-9B4C-18181329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40738-3EE1-4F84-934C-7DA0915B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DC4D9-13BD-404D-9564-43D00C4A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BB211-6F8F-4088-8756-9A69E8CE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2287-4E67-4BBB-A30E-0AFFEAC14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4A08-3D0F-4735-B41B-338CC065CB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9917-B754-4EC6-A6B9-25823574B4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0D52-8127-43C9-A569-3487FFFA69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9131-AEF2-45F8-85A3-BA6D9D941C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F6E0-4AC5-4381-A783-F106D01706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4FB6-8A38-40DD-A2CE-DFCB7D95FA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0F24-2BB1-4A3B-B8AF-A1F7E04252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387D-40D2-412E-BA1D-E3E417A17F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E5FF-8184-44D3-8D59-9CF44174D0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0AC8-669C-4D95-A8D3-84E55BFCB2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642-FAC0-432E-927E-ED28A539D7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ECDD-E2AE-4A65-9FAE-4177C28EAF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40520" y="0"/>
            <a:ext cx="3610080" cy="15429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725400" y="1785960"/>
            <a:ext cx="6942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Bill – STS.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Notify</a:t>
            </a:r>
            <a:br>
              <a:rPr sz="4400"/>
            </a:b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Автоматизирован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голосового и </a:t>
            </a:r>
            <a:r>
              <a:rPr b="0" lang="en-US" sz="3200" spc="-1" strike="noStrike">
                <a:solidFill>
                  <a:srgbClr val="333333"/>
                </a:solidFill>
                <a:latin typeface="Microsoft Sans Serif"/>
              </a:rPr>
              <a:t>SMS-</a:t>
            </a: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оповещ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14" descr="&amp;Kcy;&amp;acy;&amp;rcy;&amp;tcy;&amp;icy;&amp;ncy;&amp;kcy;&amp;icy; &amp;pcy;&amp;ocy; &amp;zcy;&amp;acy;&amp;pcy;&amp;rcy;&amp;ocy;&amp;scy;&amp;ucy; &amp;ocy;&amp;bcy;&amp;zcy;&amp;vcy;&amp;ocy;&amp;ncy;"/>
          <p:cNvPicPr/>
          <p:nvPr/>
        </p:nvPicPr>
        <p:blipFill>
          <a:blip r:embed="rId4"/>
          <a:stretch/>
        </p:blipFill>
        <p:spPr>
          <a:xfrm>
            <a:off x="8786880" y="17859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044D-6DBC-4477-8BEE-BF43B66DDC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обен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Box 12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Прямоугольник 8"/>
          <p:cNvSpPr/>
          <p:nvPr/>
        </p:nvSpPr>
        <p:spPr>
          <a:xfrm>
            <a:off x="738360" y="1714680"/>
            <a:ext cx="1081080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ножество сценариев работы систем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ограниченное количество сообще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ндивидуальная работа с различными группами абонентов вплоть до работы с отдельными абонентам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новременное оповещение нескольких абонентов по различным канала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учной или автоматический запуск систем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можность интеграции с другими информационными системам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можность поэтапного расширения как по операторским местам, так и по количеству подключаемых каналов оповещ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5146-E17A-4FD2-BE6C-5FDC389886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TextBox 12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714240" y="1785960"/>
            <a:ext cx="1088244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атизация процесса оповещения резко сокращает трудозатраты персонала оперативных и диспетчерских служ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временное использование нескольких каналов связи резко увеличивает производительность оповещения (голосовое по потоку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о 50 абонентов в минуту, до 10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S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бщений в минуту через Интерне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лючается вероятность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ая поддержка 2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от ООО «Мобилл плюс» позволяет оперативно выявлять и устранять неисправ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4257-F506-4B1B-9259-120E2E9EE8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ыт внедр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12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2560" y="1857240"/>
            <a:ext cx="10699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граммное обеспечение комплекса является собственной разработкой ООО «Мобилл плюс» и зарегистрировано (свидетельство о регистрации программы для ЭВМ № 2007612750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истем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недрена и успешно эксплуатируются в таких организациях как Аппарат Правительства Республики Башкортостан, ОАО АНК Башнефть, в подразделении Башкирэнерго в ООО Баштеплосбы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 БашРЭС - БашРТС, ЗАО «АйТи», МУП УЖХ г.Уфы (ЕРКЦ), в подразделении ОАО Газпром - АланияРегионГаз, г.Владикавказ, АФ-Банк, ОАО АКБ «Газпромбанк», Юниаструмбанк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ГУЗ РКБ имени Г.Г. Куватова и др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5E29-DEF5-4CDB-AB36-7F26189049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оугольник 13"/>
          <p:cNvSpPr/>
          <p:nvPr/>
        </p:nvSpPr>
        <p:spPr>
          <a:xfrm>
            <a:off x="714240" y="1812960"/>
            <a:ext cx="1073952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граниченное количество сценариев оповещения для разных групп абоне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временная работа разных сценариев оповещения для разных групп абонентов. Возможность формирования локальных (по филиалам) и общих сценариев опове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временная работа оповещения на нескольких телефонных линиях и передача различной информации разным группам абоне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указания нескольких контактных телефонов оповещаемых абонент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параметров голосового оповещения абонентов: установка приоритетов дозвона до абонентов, последовательность набора номеров абонента, количество попыток соединения, время ожидания соединения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Прямоугольник 9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46D-6527-4532-905E-D2D423FFB9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Box 11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Прямоугольник 13"/>
          <p:cNvSpPr/>
          <p:nvPr/>
        </p:nvSpPr>
        <p:spPr>
          <a:xfrm>
            <a:off x="738360" y="1785960"/>
            <a:ext cx="1064412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уск процесса оповещения в следующих режим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чной. Оператор вручную запускает сценарии для оповещения отдельных абонентов, групп абонентов или всей абонентской баз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ческий. В этом случае настраивается планировщик, который определяет, в какое время и каких абонентов оповещать. Гибкое расписание оповещ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уск по команде из другой системы опов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голосовых сообщений следующими способа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ие звуковых файлов, записанных заране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запись с микрофона подробностей возникшей чрезвычайной ситу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предоставления из базы данных различной персональной информации, сроков, суммы задолженности и т.п. для каждого абонента с авторизацией по логину и парол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BF41-2E0D-4AA7-B653-F5CA5CF69A6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Box 11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Прямоугольник 13"/>
          <p:cNvSpPr/>
          <p:nvPr/>
        </p:nvSpPr>
        <p:spPr>
          <a:xfrm>
            <a:off x="738360" y="1798560"/>
            <a:ext cx="105724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данных для оповещения абонентов может быть как внешняя база данных, так и  обыкновенный Excel-файл или текстовый док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теграция с различными базами данных для получения актуальной информации об абонент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запроса у оповещаемого абонента подтверждения о прослушивании сообщения, что позволяет вести подробную статистику процента дослушанных до конца сообщ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тверждение приема абонентом сообщения: снятие трубки, голосовой ответ, PIN код (после проигрывания сообщения абонент с клавиатуры набирает последовательность цифр, и, если оповещаемый набрал правильную последовательность, оповещение считается успешны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сь голосового подтверждения абонента о принятии сигнала Системы оповещения с возможностью прослушивания этого подтвержд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89B8-91AE-4AFA-9691-D3D26E4E8C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Box 11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Прямоугольник 13"/>
          <p:cNvSpPr/>
          <p:nvPr/>
        </p:nvSpPr>
        <p:spPr>
          <a:xfrm>
            <a:off x="738360" y="1820880"/>
            <a:ext cx="107154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рассылки SMS-сообщений на мобильные телефоны абонентов по различным выборкам с указанием актуальной информации об абоненте (номер лицевого счета, задолженность и проче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текста SMS -сообщения согласно шабло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параметров SMS-оповещения (количество сообщений, временной интервал их передачи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матическая рассылка абонентам заранее подготовленных или оперативно сформированных диспетчером SMS-сообщений в качестве резервного варианта при отсутствии связи с абонентом по мобильному или городскому номе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ксация отчетов об отправке для контроля доставки SMS-сообщений абонент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2BF3-C4C3-4C02-8B63-CF5A503D22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Прямоугольник 17"/>
          <p:cNvSpPr/>
          <p:nvPr/>
        </p:nvSpPr>
        <p:spPr>
          <a:xfrm>
            <a:off x="738360" y="1828800"/>
            <a:ext cx="1071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хранение результатов оповещения («Команда в очереди», «Абонент не отвечает», «Абонент занят», «Не удалось полностью проиграть сообщение», «Абонент оповещен», «Абонент не ввел свой код», «Сообщение доставлено», «Получен отчет о доставке» и т.д.) в специальных журналах с целью дальнейшего доступа и анализа данных операторами Системы оповещ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отчетов работы Системы оповещения с выдачей на принтер, сохранением в файлы различных форма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ное журналирование действий пользователе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даленное администрирование системы по IP-се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граничение прав доступа пользователей Системы в зависимости от их функций и обязанност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Прямоугольник 11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Box 12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58F8-BAEB-4B70-8CAC-1A5EA0E82E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цесс функционир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Прямоугольник 12"/>
          <p:cNvSpPr/>
          <p:nvPr/>
        </p:nvSpPr>
        <p:spPr>
          <a:xfrm>
            <a:off x="738360" y="1712880"/>
            <a:ext cx="1071540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варительно формируются несколько сценариев опов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каждого сценария диспетчером записываются с микрофона стандартные файлы опов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траивается планировщик, который определяет, в какое время и каких абонентов оповещ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запуске одного из сценариев оповещения происходит проигрывание записанного ранее стандартного файла оповещения и, при необходимости, проигрывание дополнительно-записываемого файла с конкретизацией причины или дополнительной информаци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цессе автоматизированного оповещения происходит отметка результатов оповещения в электронном отчете («Команда в очереди», «Абонент не отвечает», «Абонент занят», «Не удалось полностью проиграть сообщение», «Абонент оповещен», «Абонент не ввел свой код»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чески происходит формирование журнала всех действий диспетчера и процесса оповещения персона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Прямоугольник 10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TextBox 11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B7B1-2344-4478-BC08-85088C0236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РМ операт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extBox 1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Прямоугольник 12"/>
          <p:cNvSpPr/>
          <p:nvPr/>
        </p:nvSpPr>
        <p:spPr>
          <a:xfrm>
            <a:off x="809640" y="1785960"/>
            <a:ext cx="3286080" cy="28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ение заданий на оповещ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списков абонентов для доступных сценарие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общего списка абонентов для данного подразде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Picture 16" descr=""/>
          <p:cNvPicPr/>
          <p:nvPr/>
        </p:nvPicPr>
        <p:blipFill>
          <a:blip r:embed="rId1"/>
          <a:stretch/>
        </p:blipFill>
        <p:spPr>
          <a:xfrm>
            <a:off x="3881520" y="2500200"/>
            <a:ext cx="5283000" cy="36356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7" descr=""/>
          <p:cNvPicPr/>
          <p:nvPr/>
        </p:nvPicPr>
        <p:blipFill>
          <a:blip r:embed="rId2"/>
          <a:stretch/>
        </p:blipFill>
        <p:spPr>
          <a:xfrm>
            <a:off x="8024760" y="1643040"/>
            <a:ext cx="3429000" cy="3957840"/>
          </a:xfrm>
          <a:prstGeom prst="rect">
            <a:avLst/>
          </a:prstGeom>
          <a:ln w="0">
            <a:noFill/>
          </a:ln>
        </p:spPr>
      </p:pic>
      <p:sp>
        <p:nvSpPr>
          <p:cNvPr id="719" name="Прямоугольник 9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1D4C-FE01-45BF-8CE9-7A87E5A1BD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766800" y="1773360"/>
            <a:ext cx="8962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9" descr="Logo2"/>
          <p:cNvPicPr/>
          <p:nvPr/>
        </p:nvPicPr>
        <p:blipFill>
          <a:blip r:embed="rId1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1"/>
          <p:cNvSpPr/>
          <p:nvPr/>
        </p:nvSpPr>
        <p:spPr>
          <a:xfrm>
            <a:off x="809640" y="3929040"/>
            <a:ext cx="87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технологии и программное обеспечение, которое обеспечивает высокую скорость обработки данных и высокую степень защищенности информ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6" descr="&amp;Kcy;&amp;acy;&amp;rcy;&amp;tcy;&amp;icy;&amp;ncy;&amp;kcy;&amp;icy; &amp;pcy;&amp;ocy; &amp;zcy;&amp;acy;&amp;pcy;&amp;rcy;&amp;ocy;&amp;scy;&amp;ucy; &amp;Bcy;&amp;D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9882360" y="364320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4"/>
          <p:cNvSpPr/>
          <p:nvPr/>
        </p:nvSpPr>
        <p:spPr>
          <a:xfrm>
            <a:off x="1825560" y="321480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16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739440" y="1714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10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1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3886-59F8-45CB-82A7-26973BB3D5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ключение к линиям связ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TextBox 1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Прямоугольник 9"/>
          <p:cNvSpPr/>
          <p:nvPr/>
        </p:nvSpPr>
        <p:spPr>
          <a:xfrm>
            <a:off x="785880" y="1701720"/>
            <a:ext cx="588168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ключение по потоку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Е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ли по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соединительным телефонным линия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СЛ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Е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протокол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DN PR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 - цифровые линии связи (заводятся оптикой или 4-х парной медью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Особенность - через 1 поток одновременно можно оповестить 30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обычные двухпроводные телефонные линии от ГТС или от миниАТС на правах аналогового абонент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не путать с цифровыми или системными двухпроводными линиям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через 1 линию одновременно можно оповестить только 1 абоне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14" descr="e1_pci_t"/>
          <p:cNvPicPr/>
          <p:nvPr/>
        </p:nvPicPr>
        <p:blipFill>
          <a:blip r:embed="rId1"/>
          <a:srcRect l="0" t="5169" r="6809" b="51298"/>
          <a:stretch/>
        </p:blipFill>
        <p:spPr>
          <a:xfrm>
            <a:off x="7093080" y="1643040"/>
            <a:ext cx="2646360" cy="20001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8" descr="последовательное"/>
          <p:cNvPicPr/>
          <p:nvPr/>
        </p:nvPicPr>
        <p:blipFill>
          <a:blip r:embed="rId2">
            <a:lum contrast="6000"/>
            <a:alphaModFix amt="55000"/>
          </a:blip>
          <a:stretch/>
        </p:blipFill>
        <p:spPr>
          <a:xfrm>
            <a:off x="7101000" y="3714840"/>
            <a:ext cx="3781440" cy="2433600"/>
          </a:xfrm>
          <a:prstGeom prst="rect">
            <a:avLst/>
          </a:prstGeom>
          <a:ln w="0">
            <a:noFill/>
          </a:ln>
        </p:spPr>
      </p:pic>
      <p:sp>
        <p:nvSpPr>
          <p:cNvPr id="727" name="Прямоугольник 12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TextBox 13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420B-F957-42A9-ABE8-B8FB538272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ниторинг сервера опове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TextBox 1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Прямоугольник 12"/>
          <p:cNvSpPr/>
          <p:nvPr/>
        </p:nvSpPr>
        <p:spPr>
          <a:xfrm>
            <a:off x="785880" y="1857240"/>
            <a:ext cx="47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ниторинг событий в системе (запуск платы, ход оповещения и 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3" name="Object 2"/>
          <p:cNvGraphicFramePr/>
          <p:nvPr/>
        </p:nvGraphicFramePr>
        <p:xfrm>
          <a:off x="5381640" y="1785960"/>
          <a:ext cx="49975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1640" y="1785960"/>
                    <a:ext cx="49975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AutoShape 11"/>
          <p:cNvSpPr/>
          <p:nvPr/>
        </p:nvSpPr>
        <p:spPr>
          <a:xfrm>
            <a:off x="9096480" y="5143680"/>
            <a:ext cx="2100240" cy="636480"/>
          </a:xfrm>
          <a:prstGeom prst="wedgeRoundRectCallout">
            <a:avLst>
              <a:gd name="adj1" fmla="val -149805"/>
              <a:gd name="adj2" fmla="val 187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 по абонент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AutoShape 18"/>
          <p:cNvSpPr/>
          <p:nvPr/>
        </p:nvSpPr>
        <p:spPr>
          <a:xfrm>
            <a:off x="8953560" y="2295360"/>
            <a:ext cx="2038320" cy="919440"/>
          </a:xfrm>
          <a:prstGeom prst="wedgeRoundRectCallout">
            <a:avLst>
              <a:gd name="adj1" fmla="val -65162"/>
              <a:gd name="adj2" fmla="val -349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ало воспроизведения фай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Прямоугольник 12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83E-C607-483A-AE14-7CF3FB5BCF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смотр отчет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TextBox 1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2" name="Picture 27" descr=""/>
          <p:cNvPicPr/>
          <p:nvPr/>
        </p:nvPicPr>
        <p:blipFill>
          <a:blip r:embed="rId1"/>
          <a:stretch/>
        </p:blipFill>
        <p:spPr>
          <a:xfrm>
            <a:off x="2809800" y="1790640"/>
            <a:ext cx="6786720" cy="435312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FF14-58FB-41AD-9BFA-B5A2128968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0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751" name="TextBox 9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809640" y="0"/>
            <a:ext cx="105728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STS.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Notify</a:t>
            </a:r>
            <a:br>
              <a:rPr sz="4000"/>
            </a:br>
            <a:r>
              <a:rPr b="0" lang="ru-RU" sz="2400" spc="-1" strike="noStrike">
                <a:solidFill>
                  <a:srgbClr val="333333"/>
                </a:solidFill>
                <a:latin typeface="Microsoft Sans Serif"/>
              </a:rPr>
              <a:t>Автоматизированная система голосового и </a:t>
            </a:r>
            <a:r>
              <a:rPr b="0" lang="en-US" sz="2400" spc="-1" strike="noStrike">
                <a:solidFill>
                  <a:srgbClr val="333333"/>
                </a:solidFill>
                <a:latin typeface="Microsoft Sans Serif"/>
              </a:rPr>
              <a:t>SMS-</a:t>
            </a:r>
            <a:r>
              <a:rPr b="0" lang="ru-RU" sz="2400" spc="-1" strike="noStrike">
                <a:solidFill>
                  <a:srgbClr val="333333"/>
                </a:solidFill>
                <a:latin typeface="Microsoft Sans Serif"/>
              </a:rPr>
              <a:t>оповещ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838080" y="2916360"/>
          <a:ext cx="100602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81080"/>
                <a:gridCol w="249732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Номер слайда 6"/>
          <p:cNvSpPr/>
          <p:nvPr/>
        </p:nvSpPr>
        <p:spPr>
          <a:xfrm>
            <a:off x="9299520" y="62434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94F1-DA69-4FCE-B567-0F6F06AA3A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2381040" y="3949560"/>
            <a:ext cx="80737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900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519588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Box 20"/>
          <p:cNvSpPr/>
          <p:nvPr/>
        </p:nvSpPr>
        <p:spPr>
          <a:xfrm>
            <a:off x="852804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758880" y="34128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9" descr="Logo2"/>
          <p:cNvPicPr/>
          <p:nvPr/>
        </p:nvPicPr>
        <p:blipFill>
          <a:blip r:embed="rId4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Прямоугольник 13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19DE-1290-468F-97E6-7CC96F2B3C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AutoShape 9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AutoShape 11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AutoShape 21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AutoShape 23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AutoShape 25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AutoShape 31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AutoShape 33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09280" y="1714680"/>
            <a:ext cx="105728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интеллектуальное решение для автоматизации процедуры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голосов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оповещ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MS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-инфор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большого числа абонентов по телефонным линиям на мобильные и городские номе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оперативного оповещения сотрудников в целях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гражданской оборо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делы мобилизационной подготовки) и при возникновени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резвычайных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варийных ситуац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технологических нарушени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инженерных сетях (диспетчерские службы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оповещения о сумме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ли предстоящих выпла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вещение постоянных клиентов об изменении реквизитов компании, ассортимента или цен на основные товары или услуг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ие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рекламных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ампаний и социологических  опросов по телефо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Прямоугольник 15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Box 16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4FE1-786F-4042-ABB7-BA36F4FA23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феры примен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16" descr=""/>
          <p:cNvPicPr/>
          <p:nvPr/>
        </p:nvPicPr>
        <p:blipFill>
          <a:blip r:embed="rId1"/>
          <a:stretch/>
        </p:blipFill>
        <p:spPr>
          <a:xfrm>
            <a:off x="2657520" y="1731960"/>
            <a:ext cx="6767640" cy="441972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9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11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132E-21E7-41F3-BB86-1707DF7D49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особы опове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730080" y="1857240"/>
            <a:ext cx="108666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гоканальное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голосовое оповещение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аналоговым телефонным линиям, цифровым потокам Е1, каналам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телефонии на мобильные и городские номера абон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дача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SMS-сообщен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одготовленных заранее согласно шаблону, через GSM-модем или SMS-центр MoBill с контролем доставки сообщений клиента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правка юридическим лицам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ообщений по факсу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актуальными данными из произвольной базы данных индивидуально для каждого абон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ылка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электронной поч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Прямоугольник 10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TextBox 11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7B54-6544-4695-9A29-8FD4A6F70B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особы опове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7" name="Object 15"/>
          <p:cNvGraphicFramePr/>
          <p:nvPr/>
        </p:nvGraphicFramePr>
        <p:xfrm>
          <a:off x="3381480" y="1714680"/>
          <a:ext cx="55720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1480" y="1714680"/>
                    <a:ext cx="5572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TextBox 8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8C67-9485-448E-84DF-9EC23D8F84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особы оповещ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4" name="Object 3"/>
          <p:cNvGraphicFramePr/>
          <p:nvPr/>
        </p:nvGraphicFramePr>
        <p:xfrm>
          <a:off x="2881440" y="1714680"/>
          <a:ext cx="6546600" cy="43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1440" y="1714680"/>
                    <a:ext cx="654660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Прямоугольник 7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TextBox 8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4BFF-79D8-43B0-BBA1-F3FA5BD5E0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нцип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Box 12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809640" y="1785960"/>
            <a:ext cx="10501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оповещения работает аналогично человеку-оператор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Прямоугольник 18"/>
          <p:cNvSpPr/>
          <p:nvPr/>
        </p:nvSpPr>
        <p:spPr>
          <a:xfrm>
            <a:off x="738360" y="2357280"/>
            <a:ext cx="10572480" cy="38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ирает нужных абонентов и формирует спис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нимает трубку, набирает номер (готовит сообщ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ет статус абонента: занят, недоступен, ответил и д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ет доставку сообщения: если абонент не дослушал до конца, система позвонит ему ещё ра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ет ответ абон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ует отчё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Прямоугольник 8"/>
          <p:cNvSpPr/>
          <p:nvPr/>
        </p:nvSpPr>
        <p:spPr>
          <a:xfrm>
            <a:off x="9667800" y="-7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Box 9"/>
          <p:cNvSpPr/>
          <p:nvPr/>
        </p:nvSpPr>
        <p:spPr>
          <a:xfrm>
            <a:off x="9739440" y="214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опо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6-05T13:33:30Z</dcterms:modified>
  <cp:revision>340</cp:revision>
  <dc:subject>MoBill-STS.Notify Система оповещения</dc:subject>
  <dc:title>Презентация</dc:title>
</cp:coreProperties>
</file>