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wmf" ContentType="image/x-wmf"/>
  <Override PartName="/ppt/media/image27.png" ContentType="image/png"/>
  <Override PartName="/ppt/media/image41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4.png" ContentType="image/png"/>
  <Override PartName="/ppt/media/image34.png" ContentType="image/png"/>
  <Override PartName="/ppt/media/image35.wmf" ContentType="image/x-wmf"/>
  <Override PartName="/ppt/media/image40.png" ContentType="image/png"/>
  <Override PartName="/ppt/media/image39.png" ContentType="image/png"/>
  <Override PartName="/ppt/media/image9.png" ContentType="image/png"/>
  <Override PartName="/ppt/media/image42.wmf" ContentType="image/x-wmf"/>
  <Override PartName="/ppt/media/image43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6A01-34A9-470C-B307-6721EDB005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38F4-58CF-43E1-B057-8576D4DE8B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6EF2-1F16-4BD2-B64C-42A9BEBECE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FC3E-08C8-464F-9CC6-D410503F51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6DBE-4B5D-4230-8EE3-F042099D04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6C4A-E845-4FE3-B0FD-310D803146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8D99-8E5B-42AA-8D5C-0920E26C98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65AF-EAD9-4E85-AC7E-E8A80F46C6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460C-B4E7-493E-B6F3-A1702FA812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DBE3-4A05-49E6-AC78-CA8395AE66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6779-A6E7-4612-98A2-ABA0C13221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C82E-7E69-4FB3-8AAB-AAADFFC64C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3777-478B-4DDA-8E2F-0E9C743B19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3D92-A37A-48AD-838C-F89C5CD2E2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5F0F-3D71-403B-A260-60106DC075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78EA-A40C-4D7C-B6EB-45F749E713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4942-E60A-46CB-9DFF-E036E36B2B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7CFC-A190-495A-9B5D-94BDBDF484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5FC9-17AA-4C4E-AED8-97FE118FBF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5929-B1B1-4845-AC5E-2C3613E0E1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A33E-987C-4560-97A1-6CEA8B2228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5220-48A4-4CB2-B27E-0384276613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4035-1A53-4C5B-8F76-BD4AD929FF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0635-E21C-4427-8358-54FF3F59EA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AC60-8537-4C02-B049-ED4F270FEB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D640-5B36-48B7-AFC3-9D55D741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A1F6-F114-4FCE-B574-A4E66B46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796A4-8961-48BA-9A0A-FCACA552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B7D0A-0781-4E33-A58B-4BEAECD6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98943-FE10-4077-BB32-3A47CB99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1C503-77CB-46EC-80A1-330DF407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03417-0850-412B-8FD1-DA4059D2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C20C9-84D4-4B71-A1BE-82268B2B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0A086-A072-474A-A8E7-FD94B1CF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81FCB-8217-417C-A56B-41653DF7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72E3A-7332-4EA4-BB6F-D8B88717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0DC2C-3EAA-46F1-8D23-18EB184C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66FB-6728-458F-B950-51472CEB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CA52B-30D1-41CE-8F10-3C56A861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0EC59-1C4D-42D1-B972-C47F5AAB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E9F51-134F-42F8-96C5-0A507995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C55C0-6C0C-4526-9204-5C733BF8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77CB9-11D2-45CE-862D-6E88B15D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BA367-F342-4FCA-AC72-0E561CBE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64790-D7C0-439E-8EA3-F2A042DA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E6BE5-74A2-4AA9-B050-60FBF4EA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1CE77-8DCA-47C7-A761-0EEE2F6D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29218-9A1A-41E4-BD66-D7FEA5FE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389-A6F0-4BAC-97FF-4715D16C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26E31-F39B-47BF-8128-416C8273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B1262-4863-4F3C-9B16-AA189503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93A47-C699-4F51-B7AD-17DDB726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92E34-3254-461C-9D08-B1AE8E39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DFBBE-5150-4CCF-A245-3CCB7FA5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40F77-A2A6-44F3-85E0-9C78DE24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89F3F-B43D-4951-B6DA-CB1912DB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E1766-BB27-45C6-87CD-DC90CE64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074B6-F8D7-4C25-9DE3-E76504E0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72E39-5C29-4F9E-9FE8-5E108F51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8D5D-9E73-46D6-9F9F-5182D98B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B648C-7AC8-4B54-A202-B7EC07BA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86AFF-D06F-487B-8DA3-1EC5E158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38361-7946-4001-8417-477CD20A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736D0-AC30-4162-88B7-9029EE29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19A82-79AD-4AA0-B345-3CC4C735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EE493-75FA-4108-92D0-18E52A4A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758BD-666F-4795-AAA9-6ADB3EA1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86F82-5D22-4273-8660-771F6721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53ABD-6C8C-425E-B57B-D8A0E97D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9D065-7DE1-460A-B311-E397A0AA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7C3F-BA70-472D-A06B-71745DB5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E26A6-7864-4E37-BB0B-C39D1D59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CFCBB-EDBE-45B4-BFA5-EE3282DA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5A7EF-22FF-4C59-BF05-E45F839D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5B91E-C7DE-4B63-A3ED-A4417CC0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06200-CF53-412B-8DDC-1FFF5E70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71C2F7-2D76-4D3A-ADDB-ED15C818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A0CED-42F6-40FB-9BBF-7A842D8A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F103BF-2643-4517-809D-496466AE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370B5F-C468-4274-AFBF-949B8490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39359-7D71-4177-9457-F3F42156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5ECB-9FC2-4869-97A9-4B88E0B5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CB644B-C22D-41F2-A273-2AC353DC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AF3F35-7D91-4B29-813C-D9147450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033F3-7F4B-4284-A506-68DABE5B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486AE-06CA-44F7-A73A-A98C7219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8711B2-6136-4ED3-A2F5-B75C7BA2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55ED8-77B7-4845-81E7-418A9F4D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FB8BC-87C9-4EEA-8900-12685B57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2142-F1FE-4C0E-83F7-E65E4B79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35CC-B14C-4CD4-BA92-65863E9A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1FDA-BFA3-43B5-9BC3-BAD1C1F1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86FE-AEAB-4DA4-AEC6-70EE950A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160-B311-464A-890C-193D1596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A83F-091F-44A9-963A-E7717178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6501-5969-43C2-A3B0-FB43FD17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5595-05B0-4081-9781-3AF27272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ABD8-094D-4068-B86E-EAC27255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8755-971E-40F7-8110-5CC1E3F4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2AAB4-170E-41CF-9AF2-49934FF5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3BD93-EE30-47EE-9FAF-DB0F23B2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D855A-5D19-4C44-8749-A09EDBBA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E59C0-834A-4FF6-8F14-8625B3C6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36B35-37DE-475E-85A5-D86F38C1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7C14-1A85-4691-A430-3D2F632F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79322-15F1-4E9D-92A5-01328C3F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AA5A8-FCF4-4F90-80DC-42F93E4F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4AE74-D89A-4E62-8638-BAED1452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F4413-4E2D-4244-BFF6-2EAEC712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7706C-B56A-4C73-B6C8-7521BCF8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F2971-0957-4018-B191-5247D341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63DF9-24B5-49FA-9461-C401B721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83F0B-056C-434F-9E71-3DD5EAD5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28532-3CC3-456C-AEC9-93ED2BA5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63BB0-A00E-4B1B-B970-E636ADEE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052A-9DC5-49A3-ABEC-DF220A9A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5B8A5-963B-468F-80CB-6CC1C759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360CA-2695-4150-AE83-7E96F391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2D89F-CBA4-42AD-8849-C90670F1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39306-7F4D-4119-8CC6-539BF72B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9F742-04E7-4775-A111-EB5203BD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407E3-AB7F-43B0-B2E4-EFDF63E2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E0B2D-634E-45AD-9887-BB56CE05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1FBB9-D3E2-4540-A39B-280013AB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81556-9D05-407D-9CFB-9DC98859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08721-FC4A-4C2D-A8FD-3358ED8C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7CAD-5188-40DF-92F6-186176AD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6EEB9-7431-48A9-A8D2-1D76F7E5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93132-163E-4F45-A99B-0C8AB4E6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25F95-E3F6-47B0-AE04-9B3429CA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6E0B9-BCA9-4A99-92E3-B02DDA21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40F4C-2BE6-4F60-9EDB-965AD3C8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AFBE1-253D-4F11-84EE-2702D7FA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0C2F5-48ED-4BEE-8902-52C27C4F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684FC-729E-41B2-8446-30BA05EF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00D40-CCBA-4551-BA03-AB3D0465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73B11-FD65-4EC6-85C2-4E4F51CC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E67-38AA-4DBC-A0B5-3B804EF7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70E93-8614-4DB9-BFEE-F5E6A005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45B6C-29D9-4C6A-AD4D-BFE4ECF9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0C57D-1351-4F4B-953A-33B5D90C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86A85-227B-4066-9D72-7E372BCC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41EA7-B980-4494-B358-406A684E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7D711-AFC2-4680-848F-904AAF69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9AC35-4330-434D-8E51-7F5FFF30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F1687-6820-4F98-8C51-D44706DF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E3957-BEA0-44F3-9B0B-0CE5FF25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D1757-A692-4097-9C61-17EE5EB0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FA3A-04F7-46E5-AC91-2BBC8D17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47D88-44C6-49C3-ADB6-627B534E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89423-3DF2-4ED4-80EE-840368A7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6149A-FD7B-44D3-992C-7243CFCF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DB2A5-A991-49DD-8370-A9B7FE5F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A59BB-3F6B-4381-B1FB-A687A9C7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099B5-5211-4A53-ABE1-3300138A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95830-1A32-4E57-9EBC-2292B39F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83F92-21D6-4753-A70A-0CBEAE5C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97C02-BD30-4EE0-A41A-6442C44C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523AD-536B-413C-AA3A-13D18928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A791-00B9-47D2-8B30-1BE71EEC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92080-695A-4EC8-92AE-7448862F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50076-AA0B-43E6-A40D-96788407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55503-3E5E-4B4A-9BDA-A11980AF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A0A63-ECAA-466A-AE7B-E251B3B0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CEE9C-24AE-4ACA-AFEB-66D6F0C5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8E55A-9D10-4DFB-84AD-DAE42004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14554-B6D2-4FD6-8F99-C053E2C3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67209-0998-4C64-BEC3-EF4FFD8F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501DC-0192-402F-9029-1961ABAD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2C915-F90F-4531-B311-C5034ACF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D4AC-EFFB-44BE-8E40-28C03C3C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B4B9C-3585-4C30-9D83-1C1796A8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967BD-B2EB-49C3-A9CE-BAE2076E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8AD02-99CC-49AA-9813-1AC702E5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97CCC-80D1-405F-987A-CC2FB17F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521BA-1F6F-4410-834F-73562AF0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5957C-BB01-4C08-ADAC-22C681BB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28C53-3581-406A-BBC1-E03E3022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A06A1-F61B-42B5-87D4-EF4D007D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94393-02F0-4E07-9D4A-9C8BB262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CE2B3-C438-4DDD-96A2-2E2059A7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4714-2304-4F11-929D-63551977E2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96C0-B39B-43E5-A2D2-2EFE2D5D46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2025-ABAC-4F1D-931E-35F3A08BF2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6A6B-719E-4027-967D-B6860D6B7B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6D3E-A0E2-4E14-9113-34F5E5E54C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914400" y="2394000"/>
            <a:ext cx="10363320" cy="109440"/>
          </a:xfrm>
          <a:custGeom>
            <a:avLst/>
            <a:gdLst>
              <a:gd name="textAreaLeft" fmla="*/ 0 w 10363320"/>
              <a:gd name="textAreaRight" fmla="*/ 10363680 w 103633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8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1F4D-B58F-4EE1-8B3F-B9CC4C4BB8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E45C-2A34-4A23-AEB7-C5E57F34C4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0E7B-42A9-4DD5-A251-36167CEF47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765F-CE20-4C4D-855A-7F186DF0A3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DE95-EAB9-47DB-A896-C558A6939D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0FC2-81D0-44AE-9166-2013F13259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DBA4-6B31-465C-9E72-9CDF8FD596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9A66-2AB1-4CDF-B99C-1E99273B9C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4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45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9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9" descr="Logo2"/>
          <p:cNvPicPr/>
          <p:nvPr/>
        </p:nvPicPr>
        <p:blipFill>
          <a:blip r:embed="rId3"/>
          <a:stretch/>
        </p:blipFill>
        <p:spPr>
          <a:xfrm>
            <a:off x="7940520" y="0"/>
            <a:ext cx="3610080" cy="154296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4"/>
          <p:cNvSpPr/>
          <p:nvPr/>
        </p:nvSpPr>
        <p:spPr>
          <a:xfrm>
            <a:off x="809640" y="1857240"/>
            <a:ext cx="771516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4800" spc="-1" strike="noStrike">
                <a:solidFill>
                  <a:srgbClr val="333333"/>
                </a:solidFill>
                <a:latin typeface="Microsoft New Tai Lue"/>
              </a:rPr>
              <a:t>Bill – </a:t>
            </a:r>
            <a:r>
              <a:rPr b="0" lang="en-US" sz="4400" spc="-1" strike="noStrike">
                <a:solidFill>
                  <a:srgbClr val="333333"/>
                </a:solidFill>
                <a:latin typeface="Microsoft New Tai Lue"/>
              </a:rPr>
              <a:t>STS.</a:t>
            </a:r>
            <a:r>
              <a:rPr b="0" lang="en-US" sz="4800" spc="-1" strike="noStrike">
                <a:solidFill>
                  <a:srgbClr val="336699"/>
                </a:solidFill>
                <a:latin typeface="Microsoft New Tai Lue"/>
              </a:rPr>
              <a:t>Intercept</a:t>
            </a:r>
            <a:br>
              <a:rPr sz="4400"/>
            </a:br>
            <a:r>
              <a:rPr b="0" lang="ru-RU" sz="3600" spc="-1" strike="noStrike">
                <a:solidFill>
                  <a:srgbClr val="333333"/>
                </a:solidFill>
                <a:latin typeface="Microsoft Sans Serif"/>
              </a:rPr>
              <a:t>Автоматическая цифровая запись информации от различных источников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2" name="Picture 7" descr="&amp;Kcy;&amp;acy;&amp;rcy;&amp;tcy;&amp;icy;&amp;ncy;&amp;kcy;&amp;icy; &amp;pcy;&amp;ocy; &amp;zcy;&amp;acy;&amp;pcy;&amp;rcy;&amp;ocy;&amp;scy;&amp;ucy; &amp;zcy;&amp;acy;&amp;pcy;&amp;icy;&amp;scy;&amp;softcy; &amp;pcy;&amp;iecy;&amp;rcy;&amp;iecy;&amp;gcy;&amp;ocy;&amp;vcy;&amp;ocy;&amp;rcy;&amp;ocy;&amp;vcy;"/>
          <p:cNvPicPr/>
          <p:nvPr/>
        </p:nvPicPr>
        <p:blipFill>
          <a:blip r:embed="rId4"/>
          <a:stretch/>
        </p:blipFill>
        <p:spPr>
          <a:xfrm>
            <a:off x="8739360" y="1714680"/>
            <a:ext cx="264312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C8C3-766A-43B0-BFFF-B2377889100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РМ операто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09280" y="2857320"/>
            <a:ext cx="34290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АРМ включает в себ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7" name="Picture 5" descr=""/>
          <p:cNvPicPr/>
          <p:nvPr/>
        </p:nvPicPr>
        <p:blipFill>
          <a:blip r:embed="rId1"/>
          <a:srcRect l="-1009" t="47052" r="40685" b="28149"/>
          <a:stretch/>
        </p:blipFill>
        <p:spPr>
          <a:xfrm>
            <a:off x="809640" y="2071800"/>
            <a:ext cx="3095640" cy="5252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"/>
          <p:cNvPicPr/>
          <p:nvPr/>
        </p:nvPicPr>
        <p:blipFill>
          <a:blip r:embed="rId2"/>
          <a:stretch/>
        </p:blipFill>
        <p:spPr>
          <a:xfrm>
            <a:off x="10239480" y="2554200"/>
            <a:ext cx="1184040" cy="1517760"/>
          </a:xfrm>
          <a:prstGeom prst="rect">
            <a:avLst/>
          </a:prstGeom>
          <a:ln w="0">
            <a:noFill/>
          </a:ln>
        </p:spPr>
      </p:pic>
      <p:sp>
        <p:nvSpPr>
          <p:cNvPr id="659" name="Rectangle 11"/>
          <p:cNvSpPr/>
          <p:nvPr/>
        </p:nvSpPr>
        <p:spPr>
          <a:xfrm>
            <a:off x="809640" y="17146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вторизация в систем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4738680" y="1714680"/>
            <a:ext cx="67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се важное – расположено на главной форм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1" name="Picture 4" descr=""/>
          <p:cNvPicPr/>
          <p:nvPr/>
        </p:nvPicPr>
        <p:blipFill>
          <a:blip r:embed="rId3"/>
          <a:stretch/>
        </p:blipFill>
        <p:spPr>
          <a:xfrm>
            <a:off x="880920" y="4143240"/>
            <a:ext cx="10644480" cy="5698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" descr=""/>
          <p:cNvPicPr/>
          <p:nvPr/>
        </p:nvPicPr>
        <p:blipFill>
          <a:blip r:embed="rId4"/>
          <a:srcRect l="21693" t="73503" r="0" b="0"/>
          <a:stretch/>
        </p:blipFill>
        <p:spPr>
          <a:xfrm>
            <a:off x="3095640" y="4886280"/>
            <a:ext cx="4786200" cy="112248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11"/>
          <p:cNvSpPr/>
          <p:nvPr/>
        </p:nvSpPr>
        <p:spPr>
          <a:xfrm>
            <a:off x="7738920" y="299736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8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стему поиска    и фильтр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Прямоугольник 14"/>
          <p:cNvSpPr/>
          <p:nvPr/>
        </p:nvSpPr>
        <p:spPr>
          <a:xfrm>
            <a:off x="880920" y="3786120"/>
            <a:ext cx="64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8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ментарии и маркировка важных запис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1"/>
          <p:cNvSpPr/>
          <p:nvPr/>
        </p:nvSpPr>
        <p:spPr>
          <a:xfrm>
            <a:off x="809640" y="51436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8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строенный проигрыват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F713-0AE2-4A23-8395-21B01A34D07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17200" y="1701720"/>
            <a:ext cx="10564920" cy="22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ступ из любой точки в локальной сети предприят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55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втоматическая регистрация в специальной оперативной базе данных следующей информации о телефонных звонках (анализ данных с миниАТС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55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та и время начала сеан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55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ажность запис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55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лительность сеан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55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мер и название кана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72" name="Object 1"/>
          <p:cNvGraphicFramePr/>
          <p:nvPr/>
        </p:nvGraphicFramePr>
        <p:xfrm>
          <a:off x="2390760" y="4056120"/>
          <a:ext cx="770580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0760" y="4056120"/>
                    <a:ext cx="770580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Rectangle 2"/>
          <p:cNvSpPr/>
          <p:nvPr/>
        </p:nvSpPr>
        <p:spPr>
          <a:xfrm>
            <a:off x="5738760" y="2500200"/>
            <a:ext cx="542916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0" indent="-3571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правление сеанса (входящий, исходящий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2800" indent="-3571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ходящий номер (АОН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2800" indent="-3571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ходящий номе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2800" indent="-3571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личие голосовых данных в сеанс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280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2D42-103D-4287-9320-60B8A70F7AD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бработка зафиксированной информаци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Text Box 7"/>
          <p:cNvSpPr/>
          <p:nvPr/>
        </p:nvSpPr>
        <p:spPr>
          <a:xfrm>
            <a:off x="809640" y="1690560"/>
            <a:ext cx="1064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граммное обеспечение включает в себя удобные средства управления и мониторинга процесса фиксации, а также компоненты по работе с зафиксированными сообщени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1" name="Object 2"/>
          <p:cNvGraphicFramePr/>
          <p:nvPr/>
        </p:nvGraphicFramePr>
        <p:xfrm>
          <a:off x="2238480" y="3119400"/>
          <a:ext cx="806436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8480" y="3119400"/>
                    <a:ext cx="806436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AutoShape 9"/>
          <p:cNvSpPr/>
          <p:nvPr/>
        </p:nvSpPr>
        <p:spPr>
          <a:xfrm>
            <a:off x="4646520" y="3840120"/>
            <a:ext cx="1944720" cy="503280"/>
          </a:xfrm>
          <a:prstGeom prst="wedgeRoundRectCallout">
            <a:avLst>
              <a:gd name="adj1" fmla="val -129754"/>
              <a:gd name="adj2" fmla="val -10520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исок запис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AutoShape 10"/>
          <p:cNvSpPr/>
          <p:nvPr/>
        </p:nvSpPr>
        <p:spPr>
          <a:xfrm>
            <a:off x="4502160" y="4487760"/>
            <a:ext cx="1944720" cy="432000"/>
          </a:xfrm>
          <a:prstGeom prst="wedgeRoundRectCallout">
            <a:avLst>
              <a:gd name="adj1" fmla="val -98162"/>
              <a:gd name="adj2" fmla="val -4081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ферат по запис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AutoShape 11"/>
          <p:cNvSpPr/>
          <p:nvPr/>
        </p:nvSpPr>
        <p:spPr>
          <a:xfrm>
            <a:off x="5943600" y="5280120"/>
            <a:ext cx="1944720" cy="863640"/>
          </a:xfrm>
          <a:prstGeom prst="wedgeRoundRectCallout">
            <a:avLst>
              <a:gd name="adj1" fmla="val 53671"/>
              <a:gd name="adj2" fmla="val -8566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троенный плеер для воспроизвед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E024-9F75-4194-BBEA-22DE3F30078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ортировка данных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1" name="Picture 10" descr=""/>
          <p:cNvPicPr/>
          <p:nvPr/>
        </p:nvPicPr>
        <p:blipFill>
          <a:blip r:embed="rId1"/>
          <a:stretch/>
        </p:blipFill>
        <p:spPr>
          <a:xfrm>
            <a:off x="1741320" y="2133720"/>
            <a:ext cx="8498160" cy="3743280"/>
          </a:xfrm>
          <a:prstGeom prst="rect">
            <a:avLst/>
          </a:prstGeom>
          <a:ln w="0">
            <a:noFill/>
          </a:ln>
        </p:spPr>
      </p:pic>
      <p:sp>
        <p:nvSpPr>
          <p:cNvPr id="692" name="AutoShape 11"/>
          <p:cNvSpPr/>
          <p:nvPr/>
        </p:nvSpPr>
        <p:spPr>
          <a:xfrm>
            <a:off x="3182760" y="1916280"/>
            <a:ext cx="5689800" cy="502920"/>
          </a:xfrm>
          <a:prstGeom prst="wedgeRoundRectCallout">
            <a:avLst>
              <a:gd name="adj1" fmla="val -38115"/>
              <a:gd name="adj2" fmla="val 13832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ртировка – простым нажатием на заголовок столбц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5375-B2D7-480D-96ED-34D26FB2674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Фильтрация данных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98" name="Object 2"/>
          <p:cNvGraphicFramePr/>
          <p:nvPr/>
        </p:nvGraphicFramePr>
        <p:xfrm>
          <a:off x="2036880" y="1714680"/>
          <a:ext cx="1544400" cy="43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6880" y="1714680"/>
                    <a:ext cx="1544400" cy="43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Picture 7" descr=""/>
          <p:cNvPicPr/>
          <p:nvPr/>
        </p:nvPicPr>
        <p:blipFill>
          <a:blip r:embed="rId3"/>
          <a:stretch/>
        </p:blipFill>
        <p:spPr>
          <a:xfrm>
            <a:off x="5751360" y="1714680"/>
            <a:ext cx="2916360" cy="17049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14" descr=""/>
          <p:cNvPicPr/>
          <p:nvPr/>
        </p:nvPicPr>
        <p:blipFill>
          <a:blip r:embed="rId4"/>
          <a:stretch/>
        </p:blipFill>
        <p:spPr>
          <a:xfrm>
            <a:off x="6465960" y="2009880"/>
            <a:ext cx="2916000" cy="170496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12" descr=""/>
          <p:cNvPicPr/>
          <p:nvPr/>
        </p:nvPicPr>
        <p:blipFill>
          <a:blip r:embed="rId5"/>
          <a:stretch/>
        </p:blipFill>
        <p:spPr>
          <a:xfrm>
            <a:off x="7108920" y="2295360"/>
            <a:ext cx="2916000" cy="17053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6" descr=""/>
          <p:cNvPicPr/>
          <p:nvPr/>
        </p:nvPicPr>
        <p:blipFill>
          <a:blip r:embed="rId6"/>
          <a:stretch/>
        </p:blipFill>
        <p:spPr>
          <a:xfrm>
            <a:off x="8037360" y="2581200"/>
            <a:ext cx="2916360" cy="170496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7" descr=""/>
          <p:cNvPicPr/>
          <p:nvPr/>
        </p:nvPicPr>
        <p:blipFill>
          <a:blip r:embed="rId7"/>
          <a:stretch/>
        </p:blipFill>
        <p:spPr>
          <a:xfrm>
            <a:off x="6323040" y="3857760"/>
            <a:ext cx="2916360" cy="170496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8" descr=""/>
          <p:cNvPicPr/>
          <p:nvPr/>
        </p:nvPicPr>
        <p:blipFill>
          <a:blip r:embed="rId8"/>
          <a:stretch/>
        </p:blipFill>
        <p:spPr>
          <a:xfrm>
            <a:off x="7037280" y="4143240"/>
            <a:ext cx="2916360" cy="17049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9" descr=""/>
          <p:cNvPicPr/>
          <p:nvPr/>
        </p:nvPicPr>
        <p:blipFill>
          <a:blip r:embed="rId9"/>
          <a:stretch/>
        </p:blipFill>
        <p:spPr>
          <a:xfrm>
            <a:off x="8037360" y="4429080"/>
            <a:ext cx="2916360" cy="1704960"/>
          </a:xfrm>
          <a:prstGeom prst="rect">
            <a:avLst/>
          </a:prstGeom>
          <a:ln w="0">
            <a:noFill/>
          </a:ln>
        </p:spPr>
      </p:pic>
      <p:sp>
        <p:nvSpPr>
          <p:cNvPr id="707" name="AutoShape 20"/>
          <p:cNvSpPr/>
          <p:nvPr/>
        </p:nvSpPr>
        <p:spPr>
          <a:xfrm>
            <a:off x="3537000" y="3929040"/>
            <a:ext cx="1873080" cy="503280"/>
          </a:xfrm>
          <a:prstGeom prst="wedgeRoundRectCallout">
            <a:avLst>
              <a:gd name="adj1" fmla="val -86319"/>
              <a:gd name="adj2" fmla="val -625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иток фильтр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AutoShape 21"/>
          <p:cNvSpPr/>
          <p:nvPr/>
        </p:nvSpPr>
        <p:spPr>
          <a:xfrm>
            <a:off x="3679920" y="2571840"/>
            <a:ext cx="1439640" cy="431640"/>
          </a:xfrm>
          <a:prstGeom prst="wedgeRoundRectCallout">
            <a:avLst>
              <a:gd name="adj1" fmla="val -104000"/>
              <a:gd name="adj2" fmla="val 2202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иток задач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AutoShape 22"/>
          <p:cNvSpPr/>
          <p:nvPr/>
        </p:nvSpPr>
        <p:spPr>
          <a:xfrm>
            <a:off x="3608280" y="4929120"/>
            <a:ext cx="2016360" cy="863640"/>
          </a:xfrm>
          <a:prstGeom prst="wedgeRoundRectCallout">
            <a:avLst>
              <a:gd name="adj1" fmla="val -87874"/>
              <a:gd name="adj2" fmla="val 1433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иток подробной информации о запис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CA96-694A-46CD-9966-24A07CD7E8E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ополнительные возможност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15" name="Object 2"/>
          <p:cNvGraphicFramePr/>
          <p:nvPr/>
        </p:nvGraphicFramePr>
        <p:xfrm>
          <a:off x="7953480" y="2214720"/>
          <a:ext cx="187164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3480" y="2214720"/>
                    <a:ext cx="18716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7" name="AutoShape 13"/>
          <p:cNvSpPr/>
          <p:nvPr/>
        </p:nvSpPr>
        <p:spPr>
          <a:xfrm>
            <a:off x="8739360" y="3643200"/>
            <a:ext cx="1944360" cy="360360"/>
          </a:xfrm>
          <a:prstGeom prst="wedgeRoundRectCallout">
            <a:avLst>
              <a:gd name="adj1" fmla="val -54736"/>
              <a:gd name="adj2" fmla="val -25000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Важная» запис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18" name="Object 3"/>
          <p:cNvGraphicFramePr/>
          <p:nvPr/>
        </p:nvGraphicFramePr>
        <p:xfrm>
          <a:off x="1738440" y="2857680"/>
          <a:ext cx="2216160" cy="266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8440" y="2857680"/>
                    <a:ext cx="221616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666440" y="1714680"/>
            <a:ext cx="43196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сть не только установить важность записи, но и дописать комментар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21" name="Object 4"/>
          <p:cNvGraphicFramePr/>
          <p:nvPr/>
        </p:nvGraphicFramePr>
        <p:xfrm>
          <a:off x="5595840" y="4143240"/>
          <a:ext cx="3076560" cy="184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95840" y="4143240"/>
                    <a:ext cx="3076560" cy="18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AutoShape 16"/>
          <p:cNvSpPr/>
          <p:nvPr/>
        </p:nvSpPr>
        <p:spPr>
          <a:xfrm>
            <a:off x="4381560" y="3214800"/>
            <a:ext cx="1944720" cy="576000"/>
          </a:xfrm>
          <a:prstGeom prst="wedgeRoundRectCallout">
            <a:avLst>
              <a:gd name="adj1" fmla="val -80444"/>
              <a:gd name="adj2" fmla="val 12299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мментируемая запис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E5C3-34CA-4EE7-A92E-602BAB6E44A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ысокое качество перехва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809280" y="1714320"/>
            <a:ext cx="10572840" cy="64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чество перехваченного факса выше, чем принятого на факс аппарате – нет погрешности печатающего механиз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30" name="Object 1"/>
          <p:cNvGraphicFramePr/>
          <p:nvPr/>
        </p:nvGraphicFramePr>
        <p:xfrm>
          <a:off x="6453360" y="2444760"/>
          <a:ext cx="357156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53360" y="2444760"/>
                    <a:ext cx="3571560" cy="3416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32" name="Object 2"/>
          <p:cNvGraphicFramePr/>
          <p:nvPr/>
        </p:nvGraphicFramePr>
        <p:xfrm>
          <a:off x="2238480" y="2444760"/>
          <a:ext cx="3571920" cy="340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38480" y="2444760"/>
                    <a:ext cx="3571920" cy="3408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34" name="AutoShape 7"/>
          <p:cNvSpPr/>
          <p:nvPr/>
        </p:nvSpPr>
        <p:spPr>
          <a:xfrm>
            <a:off x="3381480" y="5730840"/>
            <a:ext cx="1871640" cy="412920"/>
          </a:xfrm>
          <a:prstGeom prst="wedgeRoundRectCallout">
            <a:avLst>
              <a:gd name="adj1" fmla="val -14578"/>
              <a:gd name="adj2" fmla="val -12736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хва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AutoShape 8"/>
          <p:cNvSpPr/>
          <p:nvPr/>
        </p:nvSpPr>
        <p:spPr>
          <a:xfrm>
            <a:off x="7596360" y="5730840"/>
            <a:ext cx="1871640" cy="412920"/>
          </a:xfrm>
          <a:prstGeom prst="wedgeRoundRectCallout">
            <a:avLst>
              <a:gd name="adj1" fmla="val -15212"/>
              <a:gd name="adj2" fmla="val -11873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факс-аппара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CB91-C2C1-41E6-8010-19C10B5F052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сширение и интеграц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09280" y="1785960"/>
            <a:ext cx="105728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банков и кредитных учрежд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грация с </a:t>
            </a: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STS.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IV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 запись работы операторов справочных служб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мобилизационных отделов и отделов ГО и Ч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грация с </a:t>
            </a: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STS.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Notif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– запись результатов оповещ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5186-36A8-449B-A5FA-974A58BFC7E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труктура программного обеспеч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47" name="Object 1"/>
          <p:cNvGraphicFramePr/>
          <p:nvPr/>
        </p:nvGraphicFramePr>
        <p:xfrm>
          <a:off x="3595680" y="1714680"/>
          <a:ext cx="4857840" cy="43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95680" y="1714680"/>
                    <a:ext cx="485784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716A-33BD-4EA4-B2F7-70F5A786750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дключение к линиям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39880" y="1714320"/>
            <a:ext cx="68277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ключение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 соединительным телефонным линия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 потоку Е1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1 (протокол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DN PRI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 - цифровые линии связи (заводятся с оптикой и по 4-х парной меди) - одновременно возможно до 30 телефонных соедин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6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 (или СО –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ral Offic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 - обычные двухпарные телефонные линии от ГТС до Вашей телефонной розетк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дновременно возможен только 1 телефонный звоно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5" name="Picture 8" descr="Ольха мониторинг"/>
          <p:cNvPicPr/>
          <p:nvPr/>
        </p:nvPicPr>
        <p:blipFill>
          <a:blip r:embed="rId1"/>
          <a:stretch/>
        </p:blipFill>
        <p:spPr>
          <a:xfrm>
            <a:off x="7554960" y="4149720"/>
            <a:ext cx="3827520" cy="196992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10" descr="e1_isa_m"/>
          <p:cNvPicPr/>
          <p:nvPr/>
        </p:nvPicPr>
        <p:blipFill>
          <a:blip r:embed="rId2"/>
          <a:stretch/>
        </p:blipFill>
        <p:spPr>
          <a:xfrm>
            <a:off x="7697880" y="1714680"/>
            <a:ext cx="3654360" cy="2508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9CC4-E889-40F8-85EB-808A8752A33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работчи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766800" y="1773360"/>
            <a:ext cx="8962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 «Мобилл плюс»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циализируется на разработке универсальных программных систем и их внедрении в различных отраслях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работаем на рынке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1997 г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Picture 9" descr="Logo2"/>
          <p:cNvPicPr/>
          <p:nvPr/>
        </p:nvPicPr>
        <p:blipFill>
          <a:blip r:embed="rId1"/>
          <a:stretch/>
        </p:blipFill>
        <p:spPr>
          <a:xfrm>
            <a:off x="9667800" y="7858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587" name="Прямоугольник 11"/>
          <p:cNvSpPr/>
          <p:nvPr/>
        </p:nvSpPr>
        <p:spPr>
          <a:xfrm>
            <a:off x="809640" y="3929040"/>
            <a:ext cx="871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применяем в своих разработках технологии и программное обеспечение, которое обеспечивает высокую скорость обработки данных и высокую степень защищенности информац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8" name="Picture 6" descr="&amp;Kcy;&amp;acy;&amp;rcy;&amp;tcy;&amp;icy;&amp;ncy;&amp;kcy;&amp;icy; &amp;pcy;&amp;ocy; &amp;zcy;&amp;acy;&amp;pcy;&amp;rcy;&amp;ocy;&amp;scy;&amp;ucy; &amp;Bcy;&amp;Dcy; &amp;icy;&amp;kcy;&amp;ocy;&amp;ncy;&amp;kcy;&amp;acy;"/>
          <p:cNvPicPr/>
          <p:nvPr/>
        </p:nvPicPr>
        <p:blipFill>
          <a:blip r:embed="rId2"/>
          <a:stretch/>
        </p:blipFill>
        <p:spPr>
          <a:xfrm>
            <a:off x="9882360" y="3643200"/>
            <a:ext cx="1571400" cy="1571760"/>
          </a:xfrm>
          <a:prstGeom prst="rect">
            <a:avLst/>
          </a:prstGeom>
          <a:ln w="0">
            <a:noFill/>
          </a:ln>
        </p:spPr>
      </p:pic>
      <p:sp>
        <p:nvSpPr>
          <p:cNvPr id="589" name="TextBox 14"/>
          <p:cNvSpPr/>
          <p:nvPr/>
        </p:nvSpPr>
        <p:spPr>
          <a:xfrm>
            <a:off x="1825560" y="3214800"/>
            <a:ext cx="65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знайте о нас больше: 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www.mobill.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16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1" name="Picture 11" descr="C:\Users\denis\Pictures\20-let-raboty.png"/>
          <p:cNvPicPr/>
          <p:nvPr/>
        </p:nvPicPr>
        <p:blipFill>
          <a:blip r:embed="rId3"/>
          <a:stretch/>
        </p:blipFill>
        <p:spPr>
          <a:xfrm>
            <a:off x="9739440" y="171468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592" name="Прямоугольник 12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13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B7F6-5069-475F-AEE0-89F72F6A512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ервер перехва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2" name="Picture 10" descr=""/>
          <p:cNvPicPr/>
          <p:nvPr/>
        </p:nvPicPr>
        <p:blipFill>
          <a:blip r:embed="rId1"/>
          <a:srcRect l="0" t="0" r="0" b="42820"/>
          <a:stretch/>
        </p:blipFill>
        <p:spPr>
          <a:xfrm>
            <a:off x="1671480" y="3571920"/>
            <a:ext cx="4681800" cy="253188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923760" y="1714320"/>
            <a:ext cx="58867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ключает в себя интерфейс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ниторинга событий в системе (запуск платы, ход оповещения и др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стройки подключения к канал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4" name="Picture 7" descr=""/>
          <p:cNvPicPr/>
          <p:nvPr/>
        </p:nvPicPr>
        <p:blipFill>
          <a:blip r:embed="rId2"/>
          <a:stretch/>
        </p:blipFill>
        <p:spPr>
          <a:xfrm>
            <a:off x="7639200" y="1785960"/>
            <a:ext cx="3814560" cy="36100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9" descr=""/>
          <p:cNvPicPr/>
          <p:nvPr/>
        </p:nvPicPr>
        <p:blipFill>
          <a:blip r:embed="rId3"/>
          <a:stretch/>
        </p:blipFill>
        <p:spPr>
          <a:xfrm>
            <a:off x="6996240" y="3056040"/>
            <a:ext cx="3189240" cy="301608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4" descr=""/>
          <p:cNvPicPr/>
          <p:nvPr/>
        </p:nvPicPr>
        <p:blipFill>
          <a:blip r:embed="rId4"/>
          <a:stretch/>
        </p:blipFill>
        <p:spPr>
          <a:xfrm>
            <a:off x="5638680" y="4856040"/>
            <a:ext cx="2632320" cy="1308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B8BA-320B-4592-A0C3-031A12344E4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онтаж в компьюте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09280" y="1714680"/>
            <a:ext cx="106441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та устанавливается в обычный компьютер со слотом расширения шины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CI 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л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A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 записываемых каналов наращивается дополнительными платами (соединенными между собой по шине SC-bus (для ISA платы) или                                       CT-bus (для PCI платы)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ключение к телефонным                                           каналам (СЛ или Е1)                                           производится параллельным                                    физическим соединени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73" name="Object 2"/>
          <p:cNvGraphicFramePr/>
          <p:nvPr/>
        </p:nvGraphicFramePr>
        <p:xfrm>
          <a:off x="7310520" y="3327480"/>
          <a:ext cx="3889440" cy="27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0520" y="3327480"/>
                    <a:ext cx="388944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65C7-B741-4F15-B3C4-8327CBF4825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пись с микрофон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Rectangle 10"/>
          <p:cNvSpPr/>
          <p:nvPr/>
        </p:nvSpPr>
        <p:spPr>
          <a:xfrm>
            <a:off x="809640" y="1640520"/>
            <a:ext cx="10644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зможна запис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микрофонов камер наблюдения - для служб безопасност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домофонов и переговорных устройст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вещаний, выступлений и презентаций - для секретариа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1" name="Picture 8" descr="Ольха 10LP микрофон"/>
          <p:cNvPicPr/>
          <p:nvPr/>
        </p:nvPicPr>
        <p:blipFill>
          <a:blip r:embed="rId1"/>
          <a:stretch/>
        </p:blipFill>
        <p:spPr>
          <a:xfrm>
            <a:off x="2666880" y="3556080"/>
            <a:ext cx="7561440" cy="2516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2ED7-9701-4798-885E-2168DCF3EF6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Требова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09280" y="1714680"/>
            <a:ext cx="106441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зможность подключения к системному блоку компьютер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утренне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PCI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ешнее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по жестким дискам для хранения записе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основе массива RAID с полезной емкостью хранения  из расчета 13,6 Кбит в сек*12 часов в сутки*30 дней = 17 Gb в месяц на каждый записываемый канал (телефонную линию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9710-2FAD-4E61-AC31-BD194332E6A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писание потока Е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47440" y="1693440"/>
            <a:ext cx="1053468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анал Е1 представляет собой статический мультиплексный поток кадров длительностью 125 мс, состоящих из 32 временных 8-ми битных интервалов с суммарной скоростью 2048 Кбит/сек (64 Кбит/сек на каждый тайм-слот). Структура кадра определена рекомендацией МККТТ G.704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улевой канальный интервал (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 используется для служебных целей (синхронизация, аварийная сигнализация и т.д.). Шестнадцатый тайм слот (D) используется для организации выделенного канала СТС предназначенный для решения вопросов управления соединен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тальные каналы являются информационными и могут быть коммутируемыми, аналоговыми или выделенными цифровы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нтроллером E1 поддерживается два типа линейного код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I (Alternate Mark Inversion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DB 3 (High Density Bipolar-3)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кон компандировани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A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w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анал управлени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CS (Common Channel Signaling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щий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анал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игнализации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EDSS-1, QGIG, STS-7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CAS (Channel Associated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gnaling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 – канально-связанный  канал сигнализации (R2, R1.5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EC26-C6F0-4939-963E-73C1D8FCB0F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2905200" y="3643200"/>
            <a:ext cx="654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омпания «Мобилл плюс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оссия, Уфа, улица Менделеева, 13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7"/>
          <p:cNvSpPr/>
          <p:nvPr/>
        </p:nvSpPr>
        <p:spPr>
          <a:xfrm>
            <a:off x="2952720" y="4714920"/>
            <a:ext cx="31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фак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47) 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56-66-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Text Box 8"/>
          <p:cNvSpPr/>
          <p:nvPr/>
        </p:nvSpPr>
        <p:spPr>
          <a:xfrm>
            <a:off x="6611760" y="4689360"/>
            <a:ext cx="27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ww.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bill@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Picture 9" descr="Logo2"/>
          <p:cNvPicPr/>
          <p:nvPr/>
        </p:nvPicPr>
        <p:blipFill>
          <a:blip r:embed="rId3"/>
          <a:stretch/>
        </p:blipFill>
        <p:spPr>
          <a:xfrm>
            <a:off x="4272120" y="1928880"/>
            <a:ext cx="3609720" cy="1542960"/>
          </a:xfrm>
          <a:prstGeom prst="rect">
            <a:avLst/>
          </a:prstGeom>
          <a:ln w="0">
            <a:noFill/>
          </a:ln>
        </p:spPr>
      </p:pic>
      <p:sp>
        <p:nvSpPr>
          <p:cNvPr id="800" name="TextBox 9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809640" y="71280"/>
            <a:ext cx="106441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4000" spc="-1" strike="noStrike">
                <a:solidFill>
                  <a:srgbClr val="333333"/>
                </a:solidFill>
                <a:latin typeface="Microsoft New Tai Lue"/>
              </a:rPr>
              <a:t>Bill – </a:t>
            </a:r>
            <a:r>
              <a:rPr b="0" lang="en-US" sz="3600" spc="-1" strike="noStrike">
                <a:solidFill>
                  <a:srgbClr val="333333"/>
                </a:solidFill>
                <a:latin typeface="Microsoft New Tai Lue"/>
              </a:rPr>
              <a:t>STS.</a:t>
            </a:r>
            <a:r>
              <a:rPr b="0" lang="en-US" sz="4000" spc="-1" strike="noStrike">
                <a:solidFill>
                  <a:srgbClr val="336699"/>
                </a:solidFill>
                <a:latin typeface="Microsoft New Tai Lue"/>
              </a:rPr>
              <a:t>Intercept</a:t>
            </a:r>
            <a:br>
              <a:rPr sz="3600"/>
            </a:br>
            <a:r>
              <a:rPr b="0" lang="ru-RU" sz="2800" spc="-1" strike="noStrike">
                <a:solidFill>
                  <a:srgbClr val="333333"/>
                </a:solidFill>
                <a:latin typeface="Microsoft Sans Serif"/>
              </a:rPr>
              <a:t>Автоматическая цифровая запись информации от различных источников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838080" y="2916360"/>
          <a:ext cx="10060200" cy="946080"/>
        </p:xfrm>
        <a:graphic>
          <a:graphicData uri="http://schemas.openxmlformats.org/drawingml/2006/table">
            <a:tbl>
              <a:tblPr/>
              <a:tblGrid>
                <a:gridCol w="2917800"/>
                <a:gridCol w="898560"/>
                <a:gridCol w="2665440"/>
                <a:gridCol w="1081080"/>
                <a:gridCol w="2497320"/>
              </a:tblGrid>
              <a:tr h="946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30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ысокие оценки клиентов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недрение ПО под индивидуальные требования Заказч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Постгарантийное сопровождение ПО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Моментальная техническая поддерж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Быстродействие СУБД. Низкие требования к аппаратным ресурс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5" name="Номер слайда 6"/>
          <p:cNvSpPr/>
          <p:nvPr/>
        </p:nvSpPr>
        <p:spPr>
          <a:xfrm>
            <a:off x="9299520" y="62434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13C8-1BC1-4979-BAF7-E7448945A6C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2381040" y="3949560"/>
            <a:ext cx="8073720" cy="21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рамках реализуемых проектов мы осуществляем полный комплекс работ и услуг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дпроектный анализ требований и бизнес-процессов Заказчик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даленное проведение презентаций и конференций предлагаемых реш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вместную разработку технического зад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работку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едрение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дготовку персонала Заказчи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ервисное гарантийное и постгарантийное обслуживание 24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 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7" name="Picture 5" descr="&amp;Kcy;&amp;acy;&amp;rcy;&amp;tcy;&amp;icy;&amp;ncy;&amp;kcy;&amp;icy; &amp;pcy;&amp;ocy; &amp;zcy;&amp;acy;&amp;pcy;&amp;rcy;&amp;ocy;&amp;scy;&amp;ucy; &amp;kcy;&amp;acy;&amp;chcy;&amp;iecy;&amp;scy;&amp;tcy;&amp;vcy;&amp;o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1739880" y="1911240"/>
            <a:ext cx="1197000" cy="10861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7" descr="&amp;Kcy;&amp;acy;&amp;rcy;&amp;tcy;&amp;icy;&amp;ncy;&amp;kcy;&amp;icy; &amp;pcy;&amp;ocy; &amp;zcy;&amp;acy;&amp;pcy;&amp;rcy;&amp;ocy;&amp;scy;&amp;ucy; &amp;shchcy;&amp;icy;&amp;tcy; &amp;icy;&amp;kcy;&amp;ocy;&amp;ncy;&amp;kcy;&amp;acy;"/>
          <p:cNvPicPr/>
          <p:nvPr/>
        </p:nvPicPr>
        <p:blipFill>
          <a:blip r:embed="rId2">
            <a:lum bright="26000"/>
          </a:blip>
          <a:stretch/>
        </p:blipFill>
        <p:spPr>
          <a:xfrm>
            <a:off x="5668920" y="2068560"/>
            <a:ext cx="787320" cy="7858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9" descr="&amp;Kcy;&amp;acy;&amp;rcy;&amp;tcy;&amp;icy;&amp;ncy;&amp;kcy;&amp;icy; &amp;pcy;&amp;ocy; &amp;zcy;&amp;acy;&amp;pcy;&amp;rcy;&amp;ocy;&amp;scy;&amp;ucy; &amp;scy;&amp;kcy;&amp;ocy;&amp;rcy;&amp;ocy;&amp;scy;&amp;tcy;&amp;softcy; &amp;icy;&amp;kcy;&amp;ocy;&amp;ncy;&amp;kcy;&amp;acy;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9190080" y="199692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600" name="TextBox 18"/>
          <p:cNvSpPr/>
          <p:nvPr/>
        </p:nvSpPr>
        <p:spPr>
          <a:xfrm>
            <a:off x="1666080" y="1643040"/>
            <a:ext cx="13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TextBox 19"/>
          <p:cNvSpPr/>
          <p:nvPr/>
        </p:nvSpPr>
        <p:spPr>
          <a:xfrm>
            <a:off x="5195880" y="164304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TextBox 20"/>
          <p:cNvSpPr/>
          <p:nvPr/>
        </p:nvSpPr>
        <p:spPr>
          <a:xfrm>
            <a:off x="8528040" y="1643040"/>
            <a:ext cx="22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стродейств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758880" y="341280"/>
            <a:ext cx="80024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Verdana"/>
              </a:rPr>
              <a:t>О компании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" name="Picture 9" descr="Logo2"/>
          <p:cNvPicPr/>
          <p:nvPr/>
        </p:nvPicPr>
        <p:blipFill>
          <a:blip r:embed="rId4"/>
          <a:stretch/>
        </p:blipFill>
        <p:spPr>
          <a:xfrm>
            <a:off x="9667800" y="7858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605" name="TextBox 17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Прямоугольник 16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TextBox 19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33AB-66FE-4810-A3DF-4775D2F7322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значение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13" name="Object 21"/>
          <p:cNvGraphicFramePr/>
          <p:nvPr/>
        </p:nvGraphicFramePr>
        <p:xfrm>
          <a:off x="880920" y="1785960"/>
          <a:ext cx="3322800" cy="43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0920" y="1785960"/>
                    <a:ext cx="332280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317840" y="1701720"/>
            <a:ext cx="7135920" cy="17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1800" spc="-1" strike="noStrike">
                <a:solidFill>
                  <a:srgbClr val="333333"/>
                </a:solidFill>
                <a:latin typeface="Verdana"/>
              </a:rPr>
              <a:t>Bill–STS.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Intercept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редназначена для автоматической цифровой записи информации от различных источников (телефонные переговоры, факс, аудио-выходы различных устройств – в зависимости от типа плат) с удобной обработкой и анализом всей собранной информ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Rectangle 11"/>
          <p:cNvSpPr/>
          <p:nvPr/>
        </p:nvSpPr>
        <p:spPr>
          <a:xfrm>
            <a:off x="5381640" y="3643200"/>
            <a:ext cx="464328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телефонным линиям и потоку Е1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ксация факс сообщ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удиозапись всех звонко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аудио выходов устройст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пись с микрофо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4378-998A-4463-A349-11D8F49F422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нение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17200" y="1701360"/>
            <a:ext cx="1063620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7680" indent="-337680" algn="just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кументирование заключаемых по телефону сделок и соглаш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 algn="just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кументирование заседаний, совещаний, конференций с применением микрофо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 algn="just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матизация работы операторов и диспетчеров различных служ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 algn="just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матизация работы диктофонных цент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 algn="just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удио контроль качества обслуживания клиентов персоналом фирмы при общении с клиентами по телефон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 algn="just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явление неэффективного использования телефонных линий предприятия, особенно при междугородных и международных переговор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 algn="just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окализация источников утечки конфиденциальной информации и выявление нелояльных сотрудник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 algn="just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звонке с угрозами -идентификация номера (при наличии  АОН) и голоса злоумышленн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CBE4-C5F1-4712-A98C-445DA0B5DD0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мпоненты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8" name="Object 2"/>
          <p:cNvGraphicFramePr/>
          <p:nvPr/>
        </p:nvGraphicFramePr>
        <p:xfrm>
          <a:off x="5826240" y="2714760"/>
          <a:ext cx="5556240" cy="33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26240" y="2714760"/>
                    <a:ext cx="5556240" cy="33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Rectangle 3"/>
          <p:cNvSpPr/>
          <p:nvPr/>
        </p:nvSpPr>
        <p:spPr>
          <a:xfrm>
            <a:off x="809640" y="1690560"/>
            <a:ext cx="1057284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 информации для фиксации (телефонные линии, поток Е1 или др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сональный компьютер (или сервер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809640" y="2833560"/>
            <a:ext cx="442908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та компьютерной телефон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лекс из программного обеспечения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системы управления базами данных (СУБД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A0AC-9022-464E-ADDE-7E54B0A750F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Финансовая выгод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10667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вляемость программой – без найма высокооплачиваемых специалис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кализация источников утечки конфиденциальной информации и выявление нелояльных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явление нецелевого использования телефонных линий предприятия (каналов передачи данных),                  особенно при междугородных и                       международных перегово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вышение производственной дисципли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8" name="Picture 10" descr="C:\Users\denis\Pictures\VRS_Donate2_512x512x32_2.png"/>
          <p:cNvPicPr/>
          <p:nvPr/>
        </p:nvPicPr>
        <p:blipFill>
          <a:blip r:embed="rId1"/>
          <a:stretch/>
        </p:blipFill>
        <p:spPr>
          <a:xfrm>
            <a:off x="9024840" y="40006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FDE5-BC3B-4730-8274-0BBC4B3523C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еализаци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09280" y="1643040"/>
            <a:ext cx="105728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7680" indent="-337680">
              <a:lnSpc>
                <a:spcPct val="11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Банки, кредитные и страховые организации – аудио-контроль операторов, внутренняя безопасность *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>
              <a:lnSpc>
                <a:spcPct val="11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едицинские учреждения и МЧС – регистрация диспетчерских переговоров *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>
              <a:lnSpc>
                <a:spcPct val="11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ъекты жизнеобеспечения и опасные производства, военкоматы, специальные службы компаний – контроль процесса оповещения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>
              <a:lnSpc>
                <a:spcPct val="11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ператоры связи – аудио-контроль операторов, внутренняя безопасност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>
              <a:lnSpc>
                <a:spcPct val="11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акси и справочные службы - аудио-контроль операторов *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7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7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* Можно устанавливать на платах совместно с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Bill-CallCenter, MoBill-STS.IV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7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8C0B-45A4-431A-B863-0FF50A7970A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РМ операто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Прямоугольник 24"/>
          <p:cNvSpPr/>
          <p:nvPr/>
        </p:nvSpPr>
        <p:spPr>
          <a:xfrm>
            <a:off x="9239400" y="-712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TextBox 25"/>
          <p:cNvSpPr/>
          <p:nvPr/>
        </p:nvSpPr>
        <p:spPr>
          <a:xfrm>
            <a:off x="9310680" y="2142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Система фиксации перегов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0" name="Picture 13" descr=""/>
          <p:cNvPicPr/>
          <p:nvPr/>
        </p:nvPicPr>
        <p:blipFill>
          <a:blip r:embed="rId1"/>
          <a:stretch/>
        </p:blipFill>
        <p:spPr>
          <a:xfrm>
            <a:off x="2849400" y="1714680"/>
            <a:ext cx="6390000" cy="4427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8:12:36Z</dcterms:created>
  <dc:creator>ООО "Мобилл плюс"</dc:creator>
  <dc:description/>
  <dc:language>en-US</dc:language>
  <cp:lastModifiedBy>Андрей</cp:lastModifiedBy>
  <dcterms:modified xsi:type="dcterms:W3CDTF">2017-06-05T13:15:31Z</dcterms:modified>
  <cp:revision>339</cp:revision>
  <dc:subject>MoBill-STS.Intercept Система фиксации переговоров</dc:subject>
  <dc:title>Презентация</dc:title>
</cp:coreProperties>
</file>