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3B9E-F78F-4912-B420-2EA2F0D46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2A18-891B-463F-8384-46A0ABD05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CB06-FDBB-4421-93B3-992A96658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E557-AE21-4DC9-8D6F-D9F95C5C1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3E02-B754-4D42-A970-6535AEF61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467-8B0F-45F1-9711-932916F4C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BAF-6B27-4D0B-80AE-79D255B2B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29C-453B-427F-B576-A37A58D49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4CEB-A2FC-4A1F-A0C8-03004F485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58C9-A280-48CD-9B30-0C344CDA0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5E38-C8BD-4DEE-B843-4C7CE9C69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675A-6AF1-4045-A8F2-F8B60C726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B770-95BD-4FE9-A03F-AC331A35F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9577-B2A0-49FB-89C6-7EF0F1CF6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E258-5AE4-4AB5-91C2-0649C7029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EB47-107D-4735-B43B-563E5C2E4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301-0E2B-4B39-ACE2-1282B3810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041-6CD1-4E52-A9CA-7F88D38A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915-CB19-45DA-B3AA-59B5363F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1B811-711B-4B47-B077-7F9A4FB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4738C-4ED6-4F40-8B0A-F6C8264D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E9E27-9700-4BAC-BDD7-97AF26D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8BCD-0222-4D4F-9FA7-5DB0A8AB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5E1D2-7AB3-4456-8831-529EB0A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FF3E3-12D8-4FC2-8327-B954245C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2519-268B-4E63-9A00-83EAFEA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20EE8-A8DD-473B-BE1D-80E96CCD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823D8-E82E-4CBB-804F-71FFF47E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3C1F9-F7A7-48E3-AE24-646049B8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364-3082-46A9-BACF-7C2916C2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CE832-42F6-4137-B20D-B3ADBD64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EF1CF-58D9-4B94-8BFE-AC86E739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58982-20A6-4F3C-BD6B-9208EE0D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1EFF6-827F-4EC3-8737-8FF2116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ADF32-B620-4B3E-9C7A-5AABB16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6A1E-BEA2-4EAF-B03E-B4C9D18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BF442-D90F-422C-8D97-9A2234E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B4474-0ED0-4897-9EF3-DB315C22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3AC58-4575-41F6-891D-A79E0C7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F5706-1809-4B01-AD58-0940C2BE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99D-4412-409D-A653-A5BAC6E8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880EE-DA96-4CA9-955E-C3E342B5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C46B6-DA4B-4783-AF2E-726FE005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6B831-7339-49DA-908B-83892847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76229-6085-4E54-B22D-B77FC0D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A2848-6E21-4872-A526-F1A93C7C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A9795-0EE8-4419-8838-D98DDA0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4FF0-4A33-4322-A909-8F78D70D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DD260-4B06-4895-AB5B-0F1000D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91D2C-FB5F-4B1B-811F-2871B43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79A18-6A3B-4157-9869-C46327F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FCED-B984-44D4-995B-B4756140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D036B-8DB1-4F0E-893F-F649EA6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9CB0E-FEE8-4B17-B81F-BEAC2A87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6445E-3C36-4D1B-8F32-F040E17D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D5787-BE53-4F7A-9153-248BB5E2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B9199-EBE2-46A1-B14A-71EAC2FA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81575-7EAD-4C12-BC8A-37D7AC0E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987E1-9769-48B2-8C0B-23DCF9A2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6BAD7-0D7B-49B7-92C5-B5C9D87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CECEC-5399-40ED-B9B7-2CA1149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4EEE9-F9A9-4E4F-A27C-C40988CB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DD8D-98CE-41E3-8355-2DC255E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13774-DCDE-40CC-9D6C-197383B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AB135-1F4B-4725-B28A-76FD352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C39B8-C2E9-4C02-AE2F-F8963CB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1DFAC-CA73-467A-8141-4DF7F737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515B5-89C4-46E7-9938-B1DC3D0D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2447C-2D60-4FFB-B419-026A35CC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84374-2C69-4F81-A2C3-A2EBEEE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2E5B6-13EA-4AD3-AA58-D442129F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A8D88-7E7B-43D6-9A3F-119308AE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CAFAA-1C04-4363-B71D-ADEF8B56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F51-735D-4452-8BCA-609A3352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FD901-F99F-4195-99B1-01C743D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0D9DD-FC96-4B0D-B95C-54AE9BA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176A8-9C17-40A9-8EDE-4A09B96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855BA-ABC3-4F9E-BEBF-F03CC26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3F149-0618-42F1-827D-8F83AC96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A7C56-F08F-4654-9916-DF1EA9AC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5AC22-AB90-4B82-8543-84B881DE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A042-C000-4D0E-B623-C0C8882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307-DA1A-4E77-B6DA-9C91CC80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D4FE-EFFB-4F54-B77A-F45D048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CA4-C5C7-407A-971F-23CCA72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068-4126-4A84-A3F0-D6E9A8A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4201-E722-4F6F-89B6-C86786EA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448A-082A-452E-A049-D9B9079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A2BF-3604-4362-90E2-1CD339A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B7DE-8026-4C4E-9DF3-A9AEC0C8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F7D4-6AEA-45DF-8317-8465DFCB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01D6-7ACC-44F3-A8B4-F30C3211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7B5A-50FE-4712-B837-C2DCE255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41EB-DB39-458F-808D-6586335D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70D9-87C6-4EE7-8F17-F253ADB4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7816-0786-40A6-AA18-2066205D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BC1-D899-4F0C-A766-37B80B1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BE62-5381-436A-A9E0-64A9AC4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8A35-EC83-4DDC-8CB0-4F59ACD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A92A-B992-45C5-AF30-88D6960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78A9-6249-4CC1-9C43-F97830C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D6F8-0891-4E6D-BFB5-FAC950B1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BB53-E3D2-4F30-BB16-1590B19A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CDAC-2A73-4F6B-A3C8-83F2729B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9F03-6162-4CA2-9F0A-E1666B4A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C9DB-0B62-44FE-BA4D-A22C078C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7DC8-57E1-46CA-A27E-F0D9F48D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CBE-F12D-49ED-97B2-D478E652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20EC-83BE-4048-BA66-C4095EAE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FBD0-CDB3-4863-923E-05CB9B68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186B-618E-44B7-AE83-E991C52E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21CB-AC5A-41CC-850C-208CEEF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3484-90D6-4393-87C2-296BAA1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BF23-46D2-4847-8A84-E05ED9B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3F49-4EA0-4BD0-B702-083D7C41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DAE6-FAC0-46C6-8FE2-B0E341F5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6D48-6542-457A-82FE-A3AAA655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36A2D-EEDB-49B1-89BB-96EEFCDE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BCC-77D3-480A-82D4-33E74A5A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334E-1762-414A-B8AE-5F737AB0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E689-941F-49DF-8620-AD1E15A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7E44-3818-4EFF-9D36-4C7615B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45254-1034-4AC5-86A5-F10EE43D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6D82-305C-46A8-AF07-1985FC17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B066-BD90-4BDD-9366-A6F6693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D474-F5E2-4ECA-A138-D045DEF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0724-89BD-4503-BEDE-9C2964B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FF995-80CA-4600-B852-DFF18358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E72C-2E62-4EEA-BB31-FA45D98C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E96-2617-4DF9-A873-2B32FF6A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65B35-3815-44E4-BABB-D13FEDA2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785B-756F-4ACF-93FC-5CDD79C2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C4ADB-988C-47AD-981B-374C11D5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F873F-9684-433C-BA3D-41E6BF0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BEE8-5690-4261-9914-BDA0C7AA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2C3C3-E6F9-4B64-8861-9C53FA82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C8D5-05A4-4D31-8BFE-0032EDDD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98FF-0740-4DBE-B6A8-ED2794C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9D78D-AE26-4CA5-B8AE-2E1B2EE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75F8-1D84-4FC9-900C-2717CAF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42A-9250-431B-A83B-3D1FBA4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70D5-78DF-4F0D-9E91-98117831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A3DF-9AFA-42F8-A31F-1488CF28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25320-439C-4C50-A50F-8F4AA110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5C15-C84B-4C2D-9CE5-AC6E48A2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DA583-2B17-4DD3-AFA8-805C1D0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0A9E1-D727-4017-BC07-1087BEB3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3C9D4-2D58-4D47-969D-D1E9F245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9683-D866-4D22-AD95-265482C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4AD2-AA9C-4AEE-8D70-57654353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CA69D-CB2C-4F12-87C2-9747C76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829-63E3-4E51-9E8F-9C7A5E9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8598C-40EB-44AB-B86B-E9A6CEC0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FB76-0F4E-4E94-9DBB-81DC09D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BD72A-B7DB-42B6-9A9B-98E01EE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9B3A-8C80-4951-8E7B-B040469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AFC0-A26F-46E8-9382-9B6B4A41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61F59-5084-4FDC-B462-86D8CF89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E92D1-5651-4ED2-B120-7B548AF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4C231-AF53-4BFB-862C-755D7E29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BF21-B44F-4929-8403-2F15689B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8E9E3-6BD6-423C-B928-27E834A5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E1A-E255-4A72-B4E4-80D03D1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B963-B577-4A41-B2C5-6566054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8153-4D7F-45E9-B91D-8C7A87A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EC15-AEF9-4F74-9DE8-726236A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3924-5C58-47FB-8938-D2687A8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2A36B-B42E-46DC-8A4A-C544EA7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FD5EC-A200-4D28-BEE2-CCEA8334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91A0-2217-4863-9140-EEDF10EB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0C48-9ADD-4F81-9C27-858565D2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CE07-61BD-4779-BF71-342873E9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49A1D-AC9F-4EBB-9397-1CB60208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D38F-4F34-4911-944E-AFFA68A7EB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604-31D4-4E5F-9DF9-867913401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C8E5-F1E5-49CC-B5C8-A48C118B58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15F7-6224-4369-83F7-2D282E1CFB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832-1760-4D11-859D-B2BB7EFDB8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9B98-E13C-4124-8A17-8829AFA136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EB0-3E37-4978-9E0C-D438AE278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C576-A149-4A84-B27C-B048CEA24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49B5-513F-4ABF-8F19-024212658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E598-AF83-4C2B-A328-E61DA9751A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7EA-2ABD-4212-BA70-52A574A049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6C6-C87B-4228-BD64-F95BDEDDCA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C70-3AA6-4340-B593-024BEBFD7E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695160" y="1928880"/>
            <a:ext cx="7777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IVR</a:t>
            </a:r>
            <a:br>
              <a:rPr sz="40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Интерактивная справочная система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1" descr="&amp;Kcy;&amp;acy;&amp;rcy;&amp;tcy;&amp;icy;&amp;ncy;&amp;kcy;&amp;icy; &amp;pcy;&amp;ocy; &amp;zcy;&amp;acy;&amp;pcy;&amp;rcy;&amp;ocy;&amp;scy;&amp;ucy; ivr"/>
          <p:cNvPicPr/>
          <p:nvPr/>
        </p:nvPicPr>
        <p:blipFill>
          <a:blip r:embed="rId4"/>
          <a:stretch/>
        </p:blipFill>
        <p:spPr>
          <a:xfrm>
            <a:off x="7953480" y="171468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9161-9767-4213-974A-D1E783C062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подклю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239400" y="1844640"/>
            <a:ext cx="22860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ация как для обычных телефонных линий, подключаемых к ГТС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O 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фейс без пит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ли во внутренней сет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FX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фейс с питанием), так и для потоков Е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5" name="Object 3"/>
          <p:cNvGraphicFramePr/>
          <p:nvPr/>
        </p:nvGraphicFramePr>
        <p:xfrm>
          <a:off x="809640" y="1714680"/>
          <a:ext cx="84405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714680"/>
                    <a:ext cx="8440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D96-F0D7-4FCC-9664-9FDB8FF0CA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недрение комплек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09280" y="1785600"/>
            <a:ext cx="7072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ертывание комплекс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сталляция платы компьютерной телефонии в компьют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драйверов на плату  (из комплекта поставк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файлов сооб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писывание путей в свойствах используемых компонент к записанным файлам (форматы *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, *.vo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необходимо, настройка среды написания сцена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3" name="Picture 31" descr=""/>
          <p:cNvPicPr/>
          <p:nvPr/>
        </p:nvPicPr>
        <p:blipFill>
          <a:blip r:embed="rId1"/>
          <a:srcRect l="0" t="0" r="25121" b="25469"/>
          <a:stretch/>
        </p:blipFill>
        <p:spPr>
          <a:xfrm>
            <a:off x="8172360" y="1708200"/>
            <a:ext cx="2424240" cy="20779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3" descr=""/>
          <p:cNvPicPr/>
          <p:nvPr/>
        </p:nvPicPr>
        <p:blipFill>
          <a:blip r:embed="rId2"/>
          <a:srcRect l="0" t="0" r="34044" b="54454"/>
          <a:stretch/>
        </p:blipFill>
        <p:spPr>
          <a:xfrm>
            <a:off x="9421920" y="3357720"/>
            <a:ext cx="2031840" cy="1252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5" descr=""/>
          <p:cNvPicPr/>
          <p:nvPr/>
        </p:nvPicPr>
        <p:blipFill>
          <a:blip r:embed="rId3"/>
          <a:srcRect l="0" t="0" r="1775" b="11180"/>
          <a:stretch/>
        </p:blipFill>
        <p:spPr>
          <a:xfrm>
            <a:off x="8167680" y="4173480"/>
            <a:ext cx="2786040" cy="192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E2F-3888-4AED-9073-0F96550FE1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дминистриров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09280" y="1785600"/>
            <a:ext cx="7072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дминистрирова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новых сооб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мена или добавление сообщений на жестком дис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необходимо, то исправление путей в компонент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31" descr=""/>
          <p:cNvPicPr/>
          <p:nvPr/>
        </p:nvPicPr>
        <p:blipFill>
          <a:blip r:embed="rId1"/>
          <a:srcRect l="0" t="0" r="25121" b="25469"/>
          <a:stretch/>
        </p:blipFill>
        <p:spPr>
          <a:xfrm>
            <a:off x="8172360" y="1708200"/>
            <a:ext cx="2424240" cy="20779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3" descr=""/>
          <p:cNvPicPr/>
          <p:nvPr/>
        </p:nvPicPr>
        <p:blipFill>
          <a:blip r:embed="rId2"/>
          <a:srcRect l="0" t="0" r="34044" b="54454"/>
          <a:stretch/>
        </p:blipFill>
        <p:spPr>
          <a:xfrm>
            <a:off x="9421920" y="3357720"/>
            <a:ext cx="2031840" cy="12524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5" descr=""/>
          <p:cNvPicPr/>
          <p:nvPr/>
        </p:nvPicPr>
        <p:blipFill>
          <a:blip r:embed="rId3"/>
          <a:srcRect l="0" t="0" r="1775" b="11180"/>
          <a:stretch/>
        </p:blipFill>
        <p:spPr>
          <a:xfrm>
            <a:off x="8167680" y="4173480"/>
            <a:ext cx="2786040" cy="192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C8DA-A447-4076-B329-022EC325D7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ка – графический редакт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3680" y="1714320"/>
            <a:ext cx="634356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уитивно-понятная среда разработк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рева своих сообщений и их взаимосвяз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880920" y="2246400"/>
            <a:ext cx="5343840" cy="3914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2"/>
          <a:stretch/>
        </p:blipFill>
        <p:spPr>
          <a:xfrm>
            <a:off x="6953400" y="1785960"/>
            <a:ext cx="3035160" cy="26636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"/>
          <p:cNvPicPr/>
          <p:nvPr/>
        </p:nvPicPr>
        <p:blipFill>
          <a:blip r:embed="rId3"/>
          <a:stretch/>
        </p:blipFill>
        <p:spPr>
          <a:xfrm>
            <a:off x="7667640" y="2857680"/>
            <a:ext cx="3030480" cy="24256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"/>
          <p:cNvPicPr/>
          <p:nvPr/>
        </p:nvPicPr>
        <p:blipFill>
          <a:blip r:embed="rId4"/>
          <a:stretch/>
        </p:blipFill>
        <p:spPr>
          <a:xfrm>
            <a:off x="8524800" y="3871800"/>
            <a:ext cx="2772000" cy="22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1DEE-F885-4500-A1FE-422554EA79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ка – текстовый редакт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23680" y="1714320"/>
            <a:ext cx="105584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реде написания сценария используется простой в изучении скриптовый язык (похожий на «Паскаль»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2" descr=""/>
          <p:cNvPicPr/>
          <p:nvPr/>
        </p:nvPicPr>
        <p:blipFill>
          <a:blip r:embed="rId1"/>
          <a:stretch/>
        </p:blipFill>
        <p:spPr>
          <a:xfrm>
            <a:off x="1309680" y="2286000"/>
            <a:ext cx="5643720" cy="38750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3" descr=""/>
          <p:cNvPicPr/>
          <p:nvPr/>
        </p:nvPicPr>
        <p:blipFill>
          <a:blip r:embed="rId2"/>
          <a:stretch/>
        </p:blipFill>
        <p:spPr>
          <a:xfrm>
            <a:off x="7310520" y="2643120"/>
            <a:ext cx="3500280" cy="307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97C-731A-4C6D-A6DA-530BD20715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вит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09280" y="1714320"/>
            <a:ext cx="10572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начальных этапах развития бизнеса достаточно иметь телефонный номер, плату на одну телефонную линию и персональный компьютер, а также записанные сообщения и информацию для клиента в базе да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вать 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способу подключения к каналам связи (увеличение количества телефонных линий или переход на поток Е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вариантам предоставления одной и той же информаци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чиная с операторов коллцентра, далее добавляе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VR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ем дублируем часть возможностей на Интернет-сайт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AED2-2C73-44C8-992A-40FDF5146D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гр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09280" y="1714320"/>
            <a:ext cx="10572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истемы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IVR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корпоративной базой данных позволяет предоставлять клиенту не только общую информацию, но и персонифицированные данные (состояние счета, сумма долга, любую другую информацию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оповещением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otif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позволяет клиенту подписаться на услуги оповещения через телефон (например, уведомления «о следующем платеже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чным кабинетом - позволяет получать клиенту личную информацию через Интернет-с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138-75E4-4F7C-BFB8-40FECBBD0E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6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0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95160" y="142920"/>
            <a:ext cx="10687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STS.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IVR</a:t>
            </a:r>
            <a:br>
              <a:rPr sz="40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Интерактивная справочная система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02F-1283-497D-AD71-60264F5644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Прямоугольник 14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15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1AD-4926-460B-B8E8-863A91BC6D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Прямоугольник 16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4B32-6E20-4CCE-B50D-82E81A54F1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рактивная справочная система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автоматизации оказания информационных услуг по телефон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ем и обработка звон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ача часто запрашиваем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услугами кл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4" name="Picture 20" descr="C:\Users\denis\Pictures\apoyo-comercial-llamado_318-60125.jpg"/>
          <p:cNvPicPr/>
          <p:nvPr/>
        </p:nvPicPr>
        <p:blipFill>
          <a:blip r:embed="rId1"/>
          <a:stretch/>
        </p:blipFill>
        <p:spPr>
          <a:xfrm>
            <a:off x="866880" y="28576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4" descr="&amp;Kcy;&amp;acy;&amp;rcy;&amp;tcy;&amp;icy;&amp;ncy;&amp;kcy;&amp;icy; &amp;pcy;&amp;ocy; &amp;zcy;&amp;acy;&amp;pcy;&amp;rcy;&amp;ocy;&amp;scy;&amp;ucy; &amp;ncy;&amp;acy;&amp;scy;&amp;tcy;&amp;rcy;&amp;ocy;&amp;jcy;&amp;kcy;&amp;a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866880" y="47862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6" descr="&amp;Kcy;&amp;acy;&amp;rcy;&amp;tcy;&amp;icy;&amp;ncy;&amp;kcy;&amp;icy; &amp;pcy;&amp;ocy; &amp;zcy;&amp;acy;&amp;pcy;&amp;rcy;&amp;ocy;&amp;scy;&amp;ucy; &amp;icy;&amp;ncy;&amp;fcy;&amp;ocy;&amp;rcy;&amp;mcy;&amp;acy;&amp;tscy;&amp;icy;&amp;ya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795240" y="378612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664-A653-470A-9639-77614C1668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ализаци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85520" y="1844280"/>
            <a:ext cx="10667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анка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а по курсам валют, режиму работы, по текущему состоянию кредита, по условиям размещения вкладов и кредитов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лужбам доставк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а по текущему состоянию груза (по номеру накладной и др. параметрам), справка по режиму работы и условиям получения груза, местоположение груза и время доста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ым заведения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а по расписанию занятий, по закреплению преподавателей, режим работы деканатов, дни когда занятия не проводятся (праздничные и выходные), информация для абитуриентов (документы, оплата, получение справок из деканатов, даты экзаменов и др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газина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равки о товарах и ценах, информация о скидках и проведении акций, и т.п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1293-6273-4C5E-B105-5476A61ACD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ет Владельц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бождение сотрудников от повторения одинаков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гкость в обновлении актуальн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циональное круглосуточное использование линий связ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ет вашим Клиен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глосуточный и круглогодичный доступ к справ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получить доступ в том числе и к разговору с «живым» человек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299-49B1-49D7-ADEE-2BD23C3044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ак работает сист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общается с пользователем в интерактивном режиме позволяя ему самостоятельно ориентироваться в информационных рубриках, выбирать и прослушивать нужные сооб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звонившийся в систему клиент в тональном режиме набирает цифру на телефонном аппарате (или через устройство выдающее в голосовой канал нужный тон)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переключает клиента в меню соответствующее этому тону на шаг выше или ниж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клиент не выполняет никаких действий – то система выполняет действие «По умолчанию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A822-AD57-49FD-8A0D-595B350465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обен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17200" y="1844280"/>
            <a:ext cx="1056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сь сообщений через звуковую карту компьют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едение данных из базы (курсы валют, остаток платежей по кредиту клиента и другая информац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зменении способа подключения – программное обеспечение продолжает работать без изменений в настройках (например, был через СЛ, а стал поток Е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A5B-A19E-4533-8AD6-CB935650D7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хитектура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Прямоугольник 21"/>
          <p:cNvSpPr/>
          <p:nvPr/>
        </p:nvSpPr>
        <p:spPr>
          <a:xfrm>
            <a:off x="9667800" y="-71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Box 24"/>
          <p:cNvSpPr/>
          <p:nvPr/>
        </p:nvSpPr>
        <p:spPr>
          <a:xfrm>
            <a:off x="9858240" y="21420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Интерактивный серви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881560" y="1773360"/>
            <a:ext cx="264348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ширение программного обеспечения от одной платы до нескольких (для достижения нужного количества интерфейсных линий) или переход на другой тип соеди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7" name="Object 2"/>
          <p:cNvGraphicFramePr/>
          <p:nvPr/>
        </p:nvGraphicFramePr>
        <p:xfrm>
          <a:off x="809640" y="1857240"/>
          <a:ext cx="792972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857240"/>
                    <a:ext cx="792972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1T10:14:20Z</dcterms:modified>
  <cp:revision>354</cp:revision>
  <dc:subject>MoBill-STS.IVR Интерактивная справочная система</dc:subject>
  <dc:title>Презентация</dc:title>
</cp:coreProperties>
</file>