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50.png" ContentType="image/png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FC46-F89E-498B-B975-443DEF33E8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43F4-5322-4ACF-A58C-67611AE0CB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1212-12F9-4390-93E3-E1C32FE115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BC8A-361A-464D-9D80-416870CAFB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целью внедрения Системы является создани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диной информационной систем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бора и обработки информации и получение полнофункционального инструмента, позволяющег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втоматизировать весь цикл рабо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 потребителями, обеспечивающег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ормирование отчет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ля анализа деятельности, оперативного и долгосрочного планирования и принятия управленческих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AD7A-38E4-4D66-98B6-6FB7DE6B26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 комп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DE88-3B04-4DD0-9422-295F801EF5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 комп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4DA7-462F-43B2-91A5-10D5D26273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матизированная система расчетов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MoBill-EnergoTrad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едназначена для автоматизации процесса энергосбытовой деятельности в части заключения и сопровождения договоров с потребителями, учета электроэнергии и мощности, расчетов за электроэнергию и услуги с потребителями и поставщиками, снижения временных трудозатрат на рутинные операции, оперативной обработке информации о потребителях, подготовке управленческой и статистической отчет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95CC-C841-4FEC-995B-7A3FAD795D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6F40-E26E-4AB1-A8F6-3548751AF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9551-AF05-4998-95F4-FA787576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DAD7A-34A4-43D9-813A-85656AE5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6D69DD-C925-4E61-B9BF-9914360A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7BC59A-2BD3-4405-BE36-8B755523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FC0394-4AAD-4F0F-AEA6-C3428355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FADC5E-60ED-4242-9043-115F60A4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0D315E-F409-4094-B1B6-E2928327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DD29E8-C726-43D3-84C5-D561743E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1A5ABE-90F3-46B2-8EF8-FC693A115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92081B-782A-4078-8939-DD359DBDF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1BBC1F-3504-4E38-89A9-09C9AB28B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7367-5B9E-4BCB-A8D4-2B9C8E614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8FAF9A-A8AC-4A00-8D00-857DE96C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25F312-4ED9-43C0-8CA0-C4B6E5F2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4A8997-712F-486C-98A2-32DD98DB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94AF2F-FBF6-46CF-AF1D-E035E263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062F04-0810-4829-8DAD-B4404AEE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123D9F-5939-4080-B3FB-3EAA2B93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9C2053-C6C1-4930-A2A2-C33A61F4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AA3A7E-B888-4885-9627-09F922EB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AADB3A-E193-403B-85E8-190E67D0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E88F32-1E1A-417C-AE58-BBCF46EC8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78AA-9FC7-4DB4-AB93-558D36F58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981372-9D20-463A-A42C-B9F8DA978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D6741-6954-4A37-AE02-BCCB51CD5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7B9D8-BAFE-4223-BA94-C89E1580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B44D4-46CE-48F7-B39B-CDBA8787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DC6B8D-8EEA-4DA5-A0D8-7B7750C1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6405E5-417C-40EA-A045-C040A553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EDE36-E964-46AB-A746-5B908021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40805-045E-4F15-8287-45082E3F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C00AC-57D7-4CA9-BF85-675FC922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8FB1D-5350-466B-8C29-CB05EE36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45C8-5C73-4D8B-A310-FB1488E20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9DAD1-0FB0-461E-87A6-5923DEAE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F5B5E-3176-4F7C-9CFD-28E7FF867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2EA6B-B23D-4C09-B51C-E7B79A550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3C0D69-A8AF-4BC8-BBE9-2A3546923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F24B4F-7DA3-4AB4-9F65-62C2973A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64263C-3D89-4307-B99E-5F6DFDF7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B1E538-0E35-438F-A7FB-A60E4265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B3DE7C-6A95-4923-BDB6-9064929C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8559B8-8954-4F89-8873-3CF361AD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F13F42-F2D7-4A2C-A1AC-81D90A30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7499-F51D-4B43-9071-8FF9302E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51F1CF-435E-49ED-94F6-9BFC6EB3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52681C-774A-4A1B-B9E4-99E97D15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FB03BD-F31F-40F8-9C06-EC7D389B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7AF442-08A9-4EBE-A9A8-88FF60492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19DA7B-4195-4EE5-9BC6-2938F9C14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088E13-53BF-4FC2-AA8D-CB864B551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7AF605-8BBD-470E-B0E6-F733A6D8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9F7079-42E9-4FD7-A668-1AC2B8F6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DB2EE2-EB35-4F3B-B539-01E0872B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8DD6A0-86FE-4919-910E-851E9339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2EEE-C011-4376-88C1-2420830F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39DA50-CDF4-40DE-8EF3-F04E0C80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D4DED2-67BD-4F7F-B107-1891DFF7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D3C672-580D-42A3-8DE4-D32C0B18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E50344-C691-476B-B34F-50FBD35B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C92D45-138C-4C78-B0E3-AA51AB4A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520403-AE6B-40D6-903E-274B7A6C2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4C2F7E-64B7-4E35-822E-3E36E34DC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6E60-2CB0-495B-A4FB-76EB2512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1176-3783-48B5-A819-C5EA67AA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CFFD4-964C-404B-A2DB-7B422303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AB409-E2CA-4716-BCE6-B574E7AD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22DF-2477-4B15-B2A7-10B8403C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E08D-A928-4C45-919F-A89D90D9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9837-0CF1-4BD1-8AFB-67BB56AE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7536-6B2A-44D8-AB3F-B60C05AB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201E-9E83-484C-90DF-C803A8E23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E1FF-35B3-47E5-84B1-F9B8EF097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52666-62F9-40E0-B3F3-E756B5EAD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1E28C-8DFB-454B-8956-CD8A08D7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C827B-664E-44D8-9291-7F905985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1DBAA-2A16-4DCB-BA3C-7B412B53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82094-2C8F-46BE-B7C8-96BE9355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DFD1-6EF4-4F6C-812C-0D456FAC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90532-7E37-4A16-B155-013A28B5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4B91A-DCB5-496A-A17F-6ED8B4A1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700A1-C301-4785-B5B3-AFCDE2CA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C4ED6-E570-4943-9CEA-187A38C2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732A0-6F05-4767-B04E-9B5F0CBA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C13B8-C79E-42FC-87B5-6700ADFAE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2D45B-05A3-4708-9298-B3B5438DE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C920D-49EC-49C4-AB6E-1A975CBE7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DED00-8D8C-46E1-8DCF-C52B5D4E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39B09-7386-487D-B344-6CC8353D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A102-52DD-4B10-8165-8982180C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ADC36-29F6-41A5-8AF1-60D8BC72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2E51E-4E19-4096-993E-735ED318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F08B8-A10A-4469-AEF2-32198CC0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D2233-048F-44BE-89C6-28D09EB9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55B03-0870-4E10-86F2-029A9EDD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69E5A-5AE0-429E-9369-420F286C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F34D5-C063-45B4-99F6-812713D7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DE280-2FAB-401F-BE08-46CF81372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2F358-73AB-4452-8734-06C8E2915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5E093-8855-4F66-9E99-C4DB6AC7D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237E-8C87-41B9-B874-6B0F7716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D3479-D242-429E-8F78-1F1FC6E6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B88BC-45AA-4091-BCE4-E296DE6E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590FE-679B-4E37-BBDD-ECF8FF2F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C8059-117B-4078-BE8A-FC5346C0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AD851-4091-4FA6-9A66-3325BD8A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009E1-7AB2-4B14-B581-A8522EFC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62496-2125-4B77-8FAE-99FB9795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ED5B2-C9B5-4916-9E14-73802806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6B459-C1AB-42F1-8E42-ABAABBE3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D5631-9EF4-4C28-B0F5-E5ACC2AF0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89D0-DA1B-4C9D-ACCD-7FACA7A1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EE243-E20C-498D-AF4C-0B1380FE2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9AB9B-5C96-4DCB-8D94-75FDE4DBB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0EDA5-C188-4F59-A429-A41B3C08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6F620-DFF6-472B-859F-38F4FDEC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45C17-3A7E-4770-8F50-05751F5E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E099F-B5ED-4365-A842-0A9EC982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DBB80-76D7-49BA-8ECD-BDA2946C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02041-65DE-42CA-AB88-3C05188D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5FD3C-BDD3-459E-BD04-1DC9BA45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8FEC7-7D6B-4D6F-A39F-195E2254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56B2-1CB6-4A86-95C7-7F31CF91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A71EE-C5A1-410D-BBEB-E8B39F87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7A7A9-73CD-487C-94AA-BDBD18909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A3D50-C901-418B-ABC6-CB0EA229E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0963A-D5A4-4634-BAFC-E0A779960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7F422-F654-4A4E-9EE3-9CA404D9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7A7EF-A8A6-42BC-9E0F-2D48A8BC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640C2-160A-4E70-ABE5-9D1183B2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BF379-6A49-45AC-9561-A0A14F8B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1E14C-097F-4A09-819A-6B0581BB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5B283-B748-4C07-8E73-B2842303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FCC8-5C59-4EF7-B30C-D944B3AA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32B8A-0F2D-4564-85D0-965B1FC9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1A0DA-80AC-4DDE-AC15-C957D014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654D6-B4B1-439C-A351-97F5EF7F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3B9D9-FB7D-40B4-BC42-C0052D0DE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F443D-6AA2-4AE5-9EF0-209D48177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01694-7A13-43E7-A3AC-459C48759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2F04A-7FDB-467D-875F-496DF94D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B3604-E315-4843-9835-A2B47B26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A9460-3527-42BE-8054-E8DDFC37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850B6-BE1D-49DE-A3F3-B023B861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7DCD-D770-4498-B4B4-9D38DBEB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78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422D1-5B81-4A2C-84A0-EBDF868F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E76E5-2947-4560-A164-56DADC39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127E3-2A5D-450A-8EFC-CE7D3F12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8012A-2083-428B-8497-8488DA98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755280" y="3981600"/>
            <a:ext cx="1066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87485-299C-4EFD-853F-0E3C4F8C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221520" y="175248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75528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221520" y="3981600"/>
            <a:ext cx="5205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059C4-1A09-4705-8910-2AE0FDC6D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36212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7968960" y="175248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5528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436212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7968960" y="3981600"/>
            <a:ext cx="3434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63CFC-B14F-4487-B019-F5941C0A1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DC06F-0A38-45B1-A19C-9C376C68C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6A48C-8FFA-4450-94DA-94623FD3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D603DC-408B-4F23-9BA5-827E4E16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845C-E30C-4953-BFBA-9E23B1B2240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7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9222-0972-4889-B17C-572812B025C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1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31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DD34-06FC-4757-98A1-8E80A5CC218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5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4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6CF8-6232-42D3-BFBC-2CB27AD836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9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7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C92F-5023-48AB-9F7D-9C9582FB95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7"/>
          <p:cNvSpPr/>
          <p:nvPr/>
        </p:nvSpPr>
        <p:spPr>
          <a:xfrm>
            <a:off x="914400" y="2394000"/>
            <a:ext cx="10363320" cy="109440"/>
          </a:xfrm>
          <a:custGeom>
            <a:avLst/>
            <a:gdLst>
              <a:gd name="textAreaLeft" fmla="*/ 0 w 10363320"/>
              <a:gd name="textAreaRight" fmla="*/ 10363680 w 1036332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" name="Picture 8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91440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67AF-B3CE-4B83-A464-97656A6E042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350D-6EA8-453A-A649-27B3B9F1233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E4C3-5358-455B-912B-8A141010408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C61B-A98E-47CB-A350-376F3BB1D9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24DD-BBD8-4464-A779-46E5C40C1E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63F2-0F36-463C-85DB-E995D795BFF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9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AC31-67FA-4ABA-AB2C-9ED61BCE8B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AutoShape 4"/>
          <p:cNvSpPr/>
          <p:nvPr/>
        </p:nvSpPr>
        <p:spPr>
          <a:xfrm>
            <a:off x="812880" y="1566720"/>
            <a:ext cx="10610640" cy="109800"/>
          </a:xfrm>
          <a:custGeom>
            <a:avLst/>
            <a:gdLst>
              <a:gd name="textAreaLeft" fmla="*/ 0 w 10610640"/>
              <a:gd name="textAreaRight" fmla="*/ 10611000 w 106106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Line 5"/>
          <p:cNvSpPr/>
          <p:nvPr/>
        </p:nvSpPr>
        <p:spPr>
          <a:xfrm>
            <a:off x="812880" y="6172200"/>
            <a:ext cx="105663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Picture 9" descr="стрелка"/>
          <p:cNvPicPr/>
          <p:nvPr/>
        </p:nvPicPr>
        <p:blipFill>
          <a:blip r:embed="rId3"/>
          <a:stretch/>
        </p:blipFill>
        <p:spPr>
          <a:xfrm>
            <a:off x="11783880" y="6477120"/>
            <a:ext cx="408240" cy="3808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5"/>
          </p:nvPr>
        </p:nvSpPr>
        <p:spPr>
          <a:xfrm>
            <a:off x="81288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EF23-8FB4-465F-9789-7FA76389161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7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5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5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45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Номер слайда 3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9" name="Picture 3" descr="Slogan"/>
          <p:cNvPicPr/>
          <p:nvPr/>
        </p:nvPicPr>
        <p:blipFill>
          <a:blip r:embed="rId2"/>
          <a:stretch/>
        </p:blipFill>
        <p:spPr>
          <a:xfrm>
            <a:off x="4871880" y="5805360"/>
            <a:ext cx="2664000" cy="854280"/>
          </a:xfrm>
          <a:prstGeom prst="rect">
            <a:avLst/>
          </a:prstGeom>
          <a:ln w="0">
            <a:noFill/>
          </a:ln>
        </p:spPr>
      </p:pic>
      <p:sp>
        <p:nvSpPr>
          <p:cNvPr id="580" name="Rectangle 4"/>
          <p:cNvSpPr/>
          <p:nvPr/>
        </p:nvSpPr>
        <p:spPr>
          <a:xfrm>
            <a:off x="839880" y="2357280"/>
            <a:ext cx="711360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Microsoft New Tai Lue"/>
              </a:rPr>
              <a:t>Mo</a:t>
            </a:r>
            <a:r>
              <a:rPr b="0" lang="en-US" sz="4800" spc="-1" strike="noStrike">
                <a:solidFill>
                  <a:srgbClr val="333333"/>
                </a:solidFill>
                <a:latin typeface="Microsoft New Tai Lue"/>
              </a:rPr>
              <a:t>Bill – </a:t>
            </a:r>
            <a:r>
              <a:rPr b="0" lang="en-US" sz="4400" spc="-1" strike="noStrike">
                <a:solidFill>
                  <a:srgbClr val="333333"/>
                </a:solidFill>
                <a:latin typeface="Microsoft New Tai Lue"/>
              </a:rPr>
              <a:t>Energo</a:t>
            </a:r>
            <a:r>
              <a:rPr b="0" lang="en-US" sz="4400" spc="-1" strike="noStrike">
                <a:solidFill>
                  <a:srgbClr val="336699"/>
                </a:solidFill>
                <a:latin typeface="Microsoft New Tai Lue"/>
              </a:rPr>
              <a:t>Trade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4400"/>
            </a:br>
            <a:r>
              <a:rPr b="0" lang="ru-RU" sz="3600" spc="-1" strike="noStrike">
                <a:solidFill>
                  <a:srgbClr val="333333"/>
                </a:solidFill>
                <a:latin typeface="Microsoft Sans Serif"/>
              </a:rPr>
              <a:t>Расчет энергосбытовых услуг</a:t>
            </a:r>
            <a:r>
              <a:rPr b="0" lang="en-US" sz="3600" spc="-1" strike="noStrike">
                <a:solidFill>
                  <a:srgbClr val="333333"/>
                </a:solidFill>
                <a:latin typeface="Microsoft Sans Serif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1" name="Picture 9" descr="Logo2"/>
          <p:cNvPicPr/>
          <p:nvPr/>
        </p:nvPicPr>
        <p:blipFill>
          <a:blip r:embed="rId3"/>
          <a:stretch/>
        </p:blipFill>
        <p:spPr>
          <a:xfrm>
            <a:off x="7958160" y="0"/>
            <a:ext cx="3610080" cy="154296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7" descr="&amp;Kcy;&amp;acy;&amp;rcy;&amp;tcy;&amp;icy;&amp;ncy;&amp;kcy;&amp;icy; &amp;pcy;&amp;ocy; &amp;zcy;&amp;acy;&amp;pcy;&amp;rcy;&amp;ocy;&amp;scy;&amp;ucy; &amp;scy;&amp;khcy;&amp;iecy;&amp;mcy;&amp;acy; &amp;ecy;&amp;ncy;&amp;iecy;&amp;rcy;&amp;gcy;&amp;ocy;&amp;scy;&amp;bcy;&amp;ycy;&amp;tcy;&amp;ocy;&amp;vcy;&amp;acy;&amp;yacy; &amp;kcy;&amp;ocy;&amp;mcy;&amp;pcy;&amp;acy;&amp;ncy;&amp;icy;&amp;yacy;"/>
          <p:cNvPicPr/>
          <p:nvPr/>
        </p:nvPicPr>
        <p:blipFill>
          <a:blip r:embed="rId4"/>
          <a:stretch/>
        </p:blipFill>
        <p:spPr>
          <a:xfrm>
            <a:off x="7381800" y="1571760"/>
            <a:ext cx="4114800" cy="23889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Picture 25" descr=""/>
          <p:cNvPicPr/>
          <p:nvPr/>
        </p:nvPicPr>
        <p:blipFill>
          <a:blip r:embed="rId1"/>
          <a:srcRect l="0" t="0" r="0" b="12160"/>
          <a:stretch/>
        </p:blipFill>
        <p:spPr>
          <a:xfrm>
            <a:off x="880920" y="2500200"/>
            <a:ext cx="5380200" cy="1857600"/>
          </a:xfrm>
          <a:prstGeom prst="rect">
            <a:avLst/>
          </a:prstGeom>
          <a:ln w="0">
            <a:noFill/>
          </a:ln>
        </p:spPr>
      </p:pic>
      <p:sp>
        <p:nvSpPr>
          <p:cNvPr id="665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AD5E-03E1-44B0-816D-0767FC1DA5F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: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оказания и объ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AutoShape 13"/>
          <p:cNvSpPr/>
          <p:nvPr/>
        </p:nvSpPr>
        <p:spPr>
          <a:xfrm>
            <a:off x="1697040" y="-1371600"/>
            <a:ext cx="285732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AutoShape 15"/>
          <p:cNvSpPr/>
          <p:nvPr/>
        </p:nvSpPr>
        <p:spPr>
          <a:xfrm>
            <a:off x="1697040" y="-1371600"/>
            <a:ext cx="285732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AutoShape 18"/>
          <p:cNvSpPr/>
          <p:nvPr/>
        </p:nvSpPr>
        <p:spPr>
          <a:xfrm>
            <a:off x="1697040" y="-1790640"/>
            <a:ext cx="42289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AutoShape 20"/>
          <p:cNvSpPr/>
          <p:nvPr/>
        </p:nvSpPr>
        <p:spPr>
          <a:xfrm>
            <a:off x="1697040" y="-1790640"/>
            <a:ext cx="42289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Rectangle 4"/>
          <p:cNvSpPr/>
          <p:nvPr/>
        </p:nvSpPr>
        <p:spPr>
          <a:xfrm>
            <a:off x="766800" y="1643040"/>
            <a:ext cx="1109016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чет показаний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2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нтегральные (на начало и конец расчетного периода по точкам учета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2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часовы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2" name="Picture 21" descr="C:\Users\denis\Desktop\Материалы для презентации ET\leonardo255111100010.jpg"/>
          <p:cNvPicPr/>
          <p:nvPr/>
        </p:nvPicPr>
        <p:blipFill>
          <a:blip r:embed="rId2"/>
          <a:stretch/>
        </p:blipFill>
        <p:spPr>
          <a:xfrm>
            <a:off x="839880" y="447192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673" name="Rectangle 4"/>
          <p:cNvSpPr/>
          <p:nvPr/>
        </p:nvSpPr>
        <p:spPr>
          <a:xfrm>
            <a:off x="2495520" y="4357800"/>
            <a:ext cx="893916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пособы сбора показаний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учной вв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втоматический расчет на основе </a:t>
            </a:r>
            <a:r>
              <a:rPr b="0" lang="ru-RU" sz="1400" spc="-1" strike="noStrike">
                <a:solidFill>
                  <a:srgbClr val="ff3c3c"/>
                </a:solidFill>
                <a:latin typeface="Verdana"/>
              </a:rPr>
              <a:t>профиля потребител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а также другими способам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грузка из файлов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cel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ли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XML (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80020, 51070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ем показаний на электронный почтовый ящик </a:t>
            </a:r>
            <a:r>
              <a:rPr b="0" lang="ru-RU" sz="1400" spc="-1" strike="noStrike">
                <a:solidFill>
                  <a:srgbClr val="ff3c3c"/>
                </a:solidFill>
                <a:latin typeface="Verdana"/>
              </a:rPr>
              <a:t>от систем АСКУЭ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и последующая автоматическая загрузк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вод показаний потребителем в его личном кабинет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4" name="Picture 24" descr=""/>
          <p:cNvPicPr/>
          <p:nvPr/>
        </p:nvPicPr>
        <p:blipFill>
          <a:blip r:embed="rId3"/>
          <a:stretch/>
        </p:blipFill>
        <p:spPr>
          <a:xfrm>
            <a:off x="3695760" y="2214720"/>
            <a:ext cx="7686720" cy="18572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35" descr="MoBill-EnergoTrade"/>
          <p:cNvPicPr/>
          <p:nvPr/>
        </p:nvPicPr>
        <p:blipFill>
          <a:blip r:embed="rId4"/>
          <a:stretch/>
        </p:blipFill>
        <p:spPr>
          <a:xfrm>
            <a:off x="10207800" y="0"/>
            <a:ext cx="2000160" cy="380880"/>
          </a:xfrm>
          <a:prstGeom prst="rect">
            <a:avLst/>
          </a:prstGeom>
          <a:ln w="0">
            <a:noFill/>
          </a:ln>
        </p:spPr>
      </p:pic>
      <p:sp>
        <p:nvSpPr>
          <p:cNvPr id="676" name="TextBox 14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256B-3EE9-4D5D-90BF-43272D20934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: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цен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AutoShape 13"/>
          <p:cNvSpPr/>
          <p:nvPr/>
        </p:nvSpPr>
        <p:spPr>
          <a:xfrm>
            <a:off x="1697040" y="-1371600"/>
            <a:ext cx="285732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AutoShape 15"/>
          <p:cNvSpPr/>
          <p:nvPr/>
        </p:nvSpPr>
        <p:spPr>
          <a:xfrm>
            <a:off x="1697040" y="-1371600"/>
            <a:ext cx="285732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AutoShape 18"/>
          <p:cNvSpPr/>
          <p:nvPr/>
        </p:nvSpPr>
        <p:spPr>
          <a:xfrm>
            <a:off x="1697040" y="-1790640"/>
            <a:ext cx="42289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AutoShape 20"/>
          <p:cNvSpPr/>
          <p:nvPr/>
        </p:nvSpPr>
        <p:spPr>
          <a:xfrm>
            <a:off x="1697040" y="-1790640"/>
            <a:ext cx="42289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Rectangle 4"/>
          <p:cNvSpPr/>
          <p:nvPr/>
        </p:nvSpPr>
        <p:spPr>
          <a:xfrm>
            <a:off x="3143160" y="1714680"/>
            <a:ext cx="6193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Цены на электроэнергию, мощность и услуги по передач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гнозные и фактически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бщие и почасовы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4" name="Rectangle 4"/>
          <p:cNvSpPr/>
          <p:nvPr/>
        </p:nvSpPr>
        <p:spPr>
          <a:xfrm>
            <a:off x="1919160" y="3000240"/>
            <a:ext cx="817884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пособы ввода цен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2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учной ввод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2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грузка из файлов в формате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c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2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втоматическое </a:t>
            </a:r>
            <a:r>
              <a:rPr b="0" lang="ru-RU" sz="1600" spc="-1" strike="noStrike">
                <a:solidFill>
                  <a:srgbClr val="ff3c3c"/>
                </a:solidFill>
                <a:latin typeface="Verdana"/>
              </a:rPr>
              <a:t>скачивание с сайта коммерческого оператор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оптового рынка и загрузка в систему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2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счет цен на основе данных предыдущих расчетных период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5" name="Picture 2" descr="&amp;Kcy;&amp;acy;&amp;rcy;&amp;tcy;&amp;icy;&amp;ncy;&amp;kcy;&amp;icy; &amp;pcy;&amp;ocy; &amp;zcy;&amp;acy;&amp;pcy;&amp;rcy;&amp;ocy;&amp;scy;&amp;ucy; &amp;tscy;&amp;iecy;&amp;ncy;&amp;ycy; &amp;icy;&amp;kcy;&amp;ocy;&amp;ncy;&amp;kcy;&amp;acy;"/>
          <p:cNvPicPr/>
          <p:nvPr/>
        </p:nvPicPr>
        <p:blipFill>
          <a:blip r:embed="rId1">
            <a:lum bright="26000"/>
          </a:blip>
          <a:stretch/>
        </p:blipFill>
        <p:spPr>
          <a:xfrm>
            <a:off x="9480600" y="157176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686" name="Rectangle 4"/>
          <p:cNvSpPr/>
          <p:nvPr/>
        </p:nvSpPr>
        <p:spPr>
          <a:xfrm>
            <a:off x="766800" y="4948200"/>
            <a:ext cx="904392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Также возможн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ыгрузка цен в удобном формате (например,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cel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змещение цен на сайте Заказчика при условии интеграции с сайто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7" name="Picture 35" descr="MoBill-EnergoTrade"/>
          <p:cNvPicPr/>
          <p:nvPr/>
        </p:nvPicPr>
        <p:blipFill>
          <a:blip r:embed="rId2"/>
          <a:stretch/>
        </p:blipFill>
        <p:spPr>
          <a:xfrm>
            <a:off x="10207800" y="0"/>
            <a:ext cx="2000160" cy="380880"/>
          </a:xfrm>
          <a:prstGeom prst="rect">
            <a:avLst/>
          </a:prstGeom>
          <a:ln w="0">
            <a:noFill/>
          </a:ln>
        </p:spPr>
      </p:pic>
      <p:sp>
        <p:nvSpPr>
          <p:cNvPr id="688" name="TextBox 12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5EC3-CF09-4F47-A166-AF54D280E91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/>
          </p:nvPr>
        </p:nvSpPr>
        <p:spPr>
          <a:xfrm>
            <a:off x="766440" y="1714680"/>
            <a:ext cx="10667880" cy="178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иды расчетов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2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АКТ – расчет фактически потребленной электроэнергии, мощности и услуг при закрытии очередного расчетного период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2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ВАНС – расчет авансовых платежей на будущие расчетные период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2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ЕНИ – штраф за просроченную задолженност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: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расчет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Rectangle 4"/>
          <p:cNvSpPr/>
          <p:nvPr/>
        </p:nvSpPr>
        <p:spPr>
          <a:xfrm>
            <a:off x="5952960" y="3571920"/>
            <a:ext cx="407196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етоды расчета АВАНС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2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 договорным величина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2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 предыдущему месяцу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2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етоды расчета ПЕН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2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 ставке рефинансирова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2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цент от суммы долг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3" name="Picture 14" descr="C:\Users\denis\Desktop\Материалы для презентации ET\777922_calculator_512x512.png"/>
          <p:cNvPicPr/>
          <p:nvPr/>
        </p:nvPicPr>
        <p:blipFill>
          <a:blip r:embed="rId1">
            <a:lum bright="32000"/>
          </a:blip>
          <a:stretch/>
        </p:blipFill>
        <p:spPr>
          <a:xfrm>
            <a:off x="3162240" y="3567240"/>
            <a:ext cx="2148120" cy="214776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35" descr="MoBill-EnergoTrade"/>
          <p:cNvPicPr/>
          <p:nvPr/>
        </p:nvPicPr>
        <p:blipFill>
          <a:blip r:embed="rId2"/>
          <a:stretch/>
        </p:blipFill>
        <p:spPr>
          <a:xfrm>
            <a:off x="10207800" y="0"/>
            <a:ext cx="2000160" cy="380880"/>
          </a:xfrm>
          <a:prstGeom prst="rect">
            <a:avLst/>
          </a:prstGeom>
          <a:ln w="0">
            <a:noFill/>
          </a:ln>
        </p:spPr>
      </p:pic>
      <p:sp>
        <p:nvSpPr>
          <p:cNvPr id="695" name="TextBox 7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Picture 2" descr=""/>
          <p:cNvPicPr/>
          <p:nvPr/>
        </p:nvPicPr>
        <p:blipFill>
          <a:blip r:embed="rId1"/>
          <a:stretch/>
        </p:blipFill>
        <p:spPr>
          <a:xfrm>
            <a:off x="4809960" y="3500280"/>
            <a:ext cx="6572520" cy="2611440"/>
          </a:xfrm>
          <a:prstGeom prst="rect">
            <a:avLst/>
          </a:prstGeom>
          <a:ln w="0">
            <a:noFill/>
          </a:ln>
        </p:spPr>
      </p:pic>
      <p:sp>
        <p:nvSpPr>
          <p:cNvPr id="697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3F6F-5872-4767-8304-D6CE00F23BE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/>
          </p:nvPr>
        </p:nvSpPr>
        <p:spPr>
          <a:xfrm>
            <a:off x="766440" y="1785960"/>
            <a:ext cx="682956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Широкий выбор опций при запуске расчета потребителя позволяет персонифицировать расче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c3c"/>
                </a:solidFill>
                <a:latin typeface="Verdana"/>
              </a:rPr>
              <a:t>Массовый расчет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система может автоматически рассчитать начисления всех потребителей за выбранный расчетный период, которые успешно пройдут проверк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: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расчет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Rectangle 4"/>
          <p:cNvSpPr/>
          <p:nvPr/>
        </p:nvSpPr>
        <p:spPr>
          <a:xfrm>
            <a:off x="766800" y="3801960"/>
            <a:ext cx="390060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добное и </a:t>
            </a:r>
            <a:r>
              <a:rPr b="0" lang="ru-RU" sz="1400" spc="-1" strike="noStrike">
                <a:solidFill>
                  <a:srgbClr val="ff3c3c"/>
                </a:solidFill>
                <a:latin typeface="Verdana"/>
              </a:rPr>
              <a:t>детализированное представление результатов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счета с разделением по поставщикам и сетевым организация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озможность выгрузки результатов в популярные формат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1" name="Picture 3" descr=""/>
          <p:cNvPicPr/>
          <p:nvPr/>
        </p:nvPicPr>
        <p:blipFill>
          <a:blip r:embed="rId2"/>
          <a:stretch/>
        </p:blipFill>
        <p:spPr>
          <a:xfrm>
            <a:off x="7738920" y="1617840"/>
            <a:ext cx="3605400" cy="182052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35" descr="MoBill-EnergoTrade"/>
          <p:cNvPicPr/>
          <p:nvPr/>
        </p:nvPicPr>
        <p:blipFill>
          <a:blip r:embed="rId3"/>
          <a:stretch/>
        </p:blipFill>
        <p:spPr>
          <a:xfrm>
            <a:off x="10207800" y="0"/>
            <a:ext cx="2000160" cy="380880"/>
          </a:xfrm>
          <a:prstGeom prst="rect">
            <a:avLst/>
          </a:prstGeom>
          <a:ln w="0">
            <a:noFill/>
          </a:ln>
        </p:spPr>
      </p:pic>
      <p:sp>
        <p:nvSpPr>
          <p:cNvPr id="703" name="TextBox 8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B87D-72CF-4A77-9BE3-5F31973E186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: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расчет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Rectangle 4"/>
          <p:cNvSpPr/>
          <p:nvPr/>
        </p:nvSpPr>
        <p:spPr>
          <a:xfrm>
            <a:off x="766800" y="1714680"/>
            <a:ext cx="10729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пособы и методы расчетов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 показаниям приборов учета или замещающей информаци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 нормативам потребления при отсутствии показаний и замещающей информации, а также истории показани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 отсутствии прибора учета по среднесуточному расходу за предыдущий период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 безучетном потреблении или нарушении учета электроэнерги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2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Rectangle 4"/>
          <p:cNvSpPr/>
          <p:nvPr/>
        </p:nvSpPr>
        <p:spPr>
          <a:xfrm>
            <a:off x="3271680" y="4092480"/>
            <a:ext cx="822492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счет постоянных и переменных потерь электроэнергии от границы раздела с сетевой компании до точки учета потребител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едение перерасчетов объемов электроэнергии и мощности в ручном и автоматическом режимах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8" name="Picture 6" descr="&amp;Kcy;&amp;acy;&amp;rcy;&amp;tcy;&amp;icy;&amp;ncy;&amp;kcy;&amp;icy; &amp;pcy;&amp;ocy; &amp;zcy;&amp;acy;&amp;pcy;&amp;rcy;&amp;ocy;&amp;scy;&amp;ucy; &amp;acy;&amp;lcy;&amp;gcy;&amp;ocy;&amp;rcy;&amp;icy;&amp;tcy;&amp;mcy; &amp;icy;&amp;kcy;&amp;ocy;&amp;ncy;&amp;kcy;&amp;acy;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982800" y="4071960"/>
            <a:ext cx="2071440" cy="207180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35" descr="MoBill-EnergoTrade"/>
          <p:cNvPicPr/>
          <p:nvPr/>
        </p:nvPicPr>
        <p:blipFill>
          <a:blip r:embed="rId2"/>
          <a:stretch/>
        </p:blipFill>
        <p:spPr>
          <a:xfrm>
            <a:off x="10207800" y="0"/>
            <a:ext cx="2000160" cy="380880"/>
          </a:xfrm>
          <a:prstGeom prst="rect">
            <a:avLst/>
          </a:prstGeom>
          <a:ln w="0">
            <a:noFill/>
          </a:ln>
        </p:spPr>
      </p:pic>
      <p:sp>
        <p:nvSpPr>
          <p:cNvPr id="710" name="TextBox 7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51E8-44D7-435E-A497-46E4A2E03DE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/>
          </p:nvPr>
        </p:nvSpPr>
        <p:spPr>
          <a:xfrm>
            <a:off x="3046320" y="1785960"/>
            <a:ext cx="852192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c3c"/>
                </a:solidFill>
                <a:latin typeface="Verdana"/>
              </a:rPr>
              <a:t>Многовариантные расчет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зможность расчета потребителей по нескольким выбранным тарифам (ценовым категориям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поставление и анализ эффекта (прибыли) на основе сравнения расчетов по различным тарифа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равнение результатов расчетов в специализированных отчетных формах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: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расчет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4" name="Picture 2" descr="&amp;Kcy;&amp;acy;&amp;rcy;&amp;tcy;&amp;icy;&amp;ncy;&amp;kcy;&amp;icy; &amp;pcy;&amp;ocy; &amp;zcy;&amp;acy;&amp;pcy;&amp;rcy;&amp;ocy;&amp;scy;&amp;ucy; &amp;vcy;&amp;ycy;&amp;bcy;&amp;ocy;&amp;rcy; &amp;icy;&amp;kcy;&amp;ocy;&amp;ncy;&amp;kcy;&amp;acy;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839880" y="1928880"/>
            <a:ext cx="2071440" cy="207180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4"/>
          <p:cNvSpPr/>
          <p:nvPr/>
        </p:nvSpPr>
        <p:spPr>
          <a:xfrm>
            <a:off x="911160" y="4221000"/>
            <a:ext cx="106570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ланирование потребления электроэнергии и мощност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ормирование месячных, квартальных и годовых планов потребления электроэнергии и мощнос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ем и обработка данных о плановом и фактическом почасовом потреблении в форматах Excel и XM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6" name="Picture 35" descr="MoBill-EnergoTrade"/>
          <p:cNvPicPr/>
          <p:nvPr/>
        </p:nvPicPr>
        <p:blipFill>
          <a:blip r:embed="rId2"/>
          <a:stretch/>
        </p:blipFill>
        <p:spPr>
          <a:xfrm>
            <a:off x="10207800" y="0"/>
            <a:ext cx="2000160" cy="380880"/>
          </a:xfrm>
          <a:prstGeom prst="rect">
            <a:avLst/>
          </a:prstGeom>
          <a:ln w="0">
            <a:noFill/>
          </a:ln>
        </p:spPr>
      </p:pic>
      <p:sp>
        <p:nvSpPr>
          <p:cNvPr id="717" name="TextBox 7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1712-CE6C-4DA3-99C9-E274E88ADE9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: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расчеты с поставщикам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Rectangle 4"/>
          <p:cNvSpPr/>
          <p:nvPr/>
        </p:nvSpPr>
        <p:spPr>
          <a:xfrm>
            <a:off x="766800" y="1857240"/>
            <a:ext cx="878508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 поставщиками и производителями электроэнерги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счет объемов </a:t>
            </a:r>
            <a:r>
              <a:rPr b="0" lang="ru-RU" sz="1600" spc="-1" strike="noStrike">
                <a:solidFill>
                  <a:srgbClr val="ff3c3c"/>
                </a:solidFill>
                <a:latin typeface="Verdana"/>
              </a:rPr>
              <a:t>покупк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электроэнергии и мощнос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ормирование счетов-фактур на покупку электроэнергии и услуг </a:t>
            </a:r>
            <a:r>
              <a:rPr b="0" lang="ru-RU" sz="1600" spc="-1" strike="noStrike">
                <a:solidFill>
                  <a:srgbClr val="ff3c3c"/>
                </a:solidFill>
                <a:latin typeface="Verdana"/>
              </a:rPr>
              <a:t>для проверки входящих счетов-фактур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т поставщик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Rectangle 4"/>
          <p:cNvSpPr/>
          <p:nvPr/>
        </p:nvSpPr>
        <p:spPr>
          <a:xfrm>
            <a:off x="2766960" y="3643200"/>
            <a:ext cx="866772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 сетевыми компаниям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счет объемов электроэнергии и мощности для целей оплаты </a:t>
            </a:r>
            <a:r>
              <a:rPr b="0" lang="ru-RU" sz="1600" spc="-1" strike="noStrike">
                <a:solidFill>
                  <a:srgbClr val="ff3c3c"/>
                </a:solidFill>
                <a:latin typeface="Verdana"/>
              </a:rPr>
              <a:t>услуг по передач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счет объемов резервируемой мощнос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ормирование счетов-фактур на оплату услуг по передаче </a:t>
            </a:r>
            <a:r>
              <a:rPr b="0" lang="ru-RU" sz="1600" spc="-1" strike="noStrike">
                <a:solidFill>
                  <a:srgbClr val="ff3c3c"/>
                </a:solidFill>
                <a:latin typeface="Verdana"/>
              </a:rPr>
              <a:t>для проверки входящих счетов-фактур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от сетевых компани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2" name="Picture 2" descr="&amp;Kcy;&amp;acy;&amp;rcy;&amp;tcy;&amp;icy;&amp;ncy;&amp;kcy;&amp;icy; &amp;pcy;&amp;ocy; &amp;zcy;&amp;acy;&amp;pcy;&amp;rcy;&amp;ocy;&amp;scy;&amp;ucy; &amp;pcy;&amp;rcy;&amp;ocy;&amp;icy;&amp;zcy;&amp;vcy;&amp;ocy;&amp;dcy;&amp;icy;&amp;tcy;&amp;iecy;&amp;lcy;&amp;softcy; &amp;ecy;&amp;lcy;&amp;iecy;&amp;kcy;&amp;tcy;&amp;rcy;&amp;ocy;&amp;ecy;&amp;ncy;&amp;iecy;&amp;rcy;&amp;gcy;&amp;icy;&amp;icy; &amp;icy;&amp;kcy;&amp;ocy;&amp;ncy;&amp;kcy;&amp;acy;"/>
          <p:cNvPicPr/>
          <p:nvPr/>
        </p:nvPicPr>
        <p:blipFill>
          <a:blip r:embed="rId1"/>
          <a:stretch/>
        </p:blipFill>
        <p:spPr>
          <a:xfrm>
            <a:off x="9709200" y="1641600"/>
            <a:ext cx="1571400" cy="1571400"/>
          </a:xfrm>
          <a:prstGeom prst="rect">
            <a:avLst/>
          </a:prstGeom>
          <a:ln w="0">
            <a:noFill/>
          </a:ln>
        </p:spPr>
      </p:pic>
      <p:sp>
        <p:nvSpPr>
          <p:cNvPr id="723" name="AutoShape 4"/>
          <p:cNvSpPr/>
          <p:nvPr/>
        </p:nvSpPr>
        <p:spPr>
          <a:xfrm>
            <a:off x="1697040" y="-1371600"/>
            <a:ext cx="285732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AutoShape 6"/>
          <p:cNvSpPr/>
          <p:nvPr/>
        </p:nvSpPr>
        <p:spPr>
          <a:xfrm>
            <a:off x="1697040" y="-1371600"/>
            <a:ext cx="285732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5" name="Picture 7" descr="C:\Users\denis\Desktop\Материалы для презентации ET\lep-icon-2-300x300.png"/>
          <p:cNvPicPr/>
          <p:nvPr/>
        </p:nvPicPr>
        <p:blipFill>
          <a:blip r:embed="rId2"/>
          <a:stretch/>
        </p:blipFill>
        <p:spPr>
          <a:xfrm>
            <a:off x="623880" y="34290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35" descr="MoBill-EnergoTrade"/>
          <p:cNvPicPr/>
          <p:nvPr/>
        </p:nvPicPr>
        <p:blipFill>
          <a:blip r:embed="rId3"/>
          <a:stretch/>
        </p:blipFill>
        <p:spPr>
          <a:xfrm>
            <a:off x="10207800" y="0"/>
            <a:ext cx="2000160" cy="380880"/>
          </a:xfrm>
          <a:prstGeom prst="rect">
            <a:avLst/>
          </a:prstGeom>
          <a:ln w="0">
            <a:noFill/>
          </a:ln>
        </p:spPr>
      </p:pic>
      <p:sp>
        <p:nvSpPr>
          <p:cNvPr id="727" name="TextBox 11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2F3C-FDAB-474E-B888-BB966592726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/>
          </p:nvPr>
        </p:nvSpPr>
        <p:spPr>
          <a:xfrm>
            <a:off x="814320" y="1714320"/>
            <a:ext cx="87105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чет оплат потребител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втоматическое или ручное </a:t>
            </a:r>
            <a:r>
              <a:rPr b="0" lang="ru-RU" sz="1600" spc="-1" strike="noStrike">
                <a:solidFill>
                  <a:srgbClr val="ff3c3c"/>
                </a:solidFill>
                <a:latin typeface="Verdana"/>
              </a:rPr>
              <a:t>распределение оплат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на счета и счета-фактуры потребителе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зможность автоматической или ручной загрузки оплат из файлов популярных формат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ормирование оборотно-сальдовой ведомос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: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пла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1" name="Picture 2" descr=""/>
          <p:cNvPicPr/>
          <p:nvPr/>
        </p:nvPicPr>
        <p:blipFill>
          <a:blip r:embed="rId1"/>
          <a:stretch/>
        </p:blipFill>
        <p:spPr>
          <a:xfrm>
            <a:off x="1738440" y="3632040"/>
            <a:ext cx="8929440" cy="244008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35" descr="MoBill-EnergoTrade"/>
          <p:cNvPicPr/>
          <p:nvPr/>
        </p:nvPicPr>
        <p:blipFill>
          <a:blip r:embed="rId2"/>
          <a:stretch/>
        </p:blipFill>
        <p:spPr>
          <a:xfrm>
            <a:off x="10207800" y="0"/>
            <a:ext cx="2000160" cy="380880"/>
          </a:xfrm>
          <a:prstGeom prst="rect">
            <a:avLst/>
          </a:prstGeom>
          <a:ln w="0">
            <a:noFill/>
          </a:ln>
        </p:spPr>
      </p:pic>
      <p:sp>
        <p:nvSpPr>
          <p:cNvPr id="733" name="TextBox 7"/>
          <p:cNvSpPr/>
          <p:nvPr/>
        </p:nvSpPr>
        <p:spPr>
          <a:xfrm>
            <a:off x="766800" y="6192720"/>
            <a:ext cx="30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AutoShape 9"/>
          <p:cNvSpPr/>
          <p:nvPr/>
        </p:nvSpPr>
        <p:spPr>
          <a:xfrm>
            <a:off x="173160" y="-1461960"/>
            <a:ext cx="304776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5" name="Picture 10" descr="C:\Users\denis\Pictures\VRS_Donate2_512x512x32_2.png"/>
          <p:cNvPicPr/>
          <p:nvPr/>
        </p:nvPicPr>
        <p:blipFill>
          <a:blip r:embed="rId3"/>
          <a:stretch/>
        </p:blipFill>
        <p:spPr>
          <a:xfrm>
            <a:off x="8953560" y="164304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9A29-8D6D-4BF3-AC37-AD908998E20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/>
          </p:nvPr>
        </p:nvSpPr>
        <p:spPr>
          <a:xfrm>
            <a:off x="828360" y="1714320"/>
            <a:ext cx="1066788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чет и контроль задолженности потребител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ормирование оперативной отчетности по задолженнос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едение баланса потребителя с детализацией по платежным документа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: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задолженность потребителе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Rectangle 4"/>
          <p:cNvSpPr/>
          <p:nvPr/>
        </p:nvSpPr>
        <p:spPr>
          <a:xfrm>
            <a:off x="3197160" y="3071880"/>
            <a:ext cx="804240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граничение режима потребления электроэнерги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ведение  и мониторинг </a:t>
            </a:r>
            <a:r>
              <a:rPr b="0" lang="ru-RU" sz="1600" spc="-1" strike="noStrike">
                <a:solidFill>
                  <a:srgbClr val="ff3c3c"/>
                </a:solidFill>
                <a:latin typeface="Verdana"/>
              </a:rPr>
              <a:t>ограничения режима потреблени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электрической энергии в соответствии с действующим законодательство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ормирование заданий на запуск, приостановку или отмену ограничения режима потребле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ормирование и учет заявок в сетевые компании на услуги по ограничению (возобновлению) поставки электрическо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0" name="Picture 2" descr="&amp;Kcy;&amp;acy;&amp;rcy;&amp;tcy;&amp;icy;&amp;ncy;&amp;kcy;&amp;icy; &amp;pcy;&amp;ocy; &amp;zcy;&amp;acy;&amp;pcy;&amp;rcy;&amp;ocy;&amp;scy;&amp;ucy; &amp;ocy;&amp;gcy;&amp;rcy;&amp;acy;&amp;ncy;&amp;icy;&amp;chcy;&amp;iecy;&amp;ncy;&amp;icy;&amp;iecy; &amp;pcy;&amp;ocy;&amp;tcy;&amp;rcy;&amp;iecy;&amp;bcy;&amp;lcy;&amp;iecy;&amp;ncy;&amp;icy;&amp;yacy; &amp;ecy;&amp;lcy;&amp;iecy;&amp;kcy;&amp;tcy;&amp;rcy;&amp;ocy;&amp;ecy;&amp;ncy;&amp;iecy;&amp;rcy;&amp;gcy;&amp;icy;&amp;icy; &amp;icy;&amp;kcy;&amp;ocy;&amp;ncy;&amp;kcy;&amp;acy;"/>
          <p:cNvPicPr/>
          <p:nvPr/>
        </p:nvPicPr>
        <p:blipFill>
          <a:blip r:embed="rId1"/>
          <a:stretch/>
        </p:blipFill>
        <p:spPr>
          <a:xfrm>
            <a:off x="839880" y="3257640"/>
            <a:ext cx="2171520" cy="217152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35" descr="MoBill-EnergoTrade"/>
          <p:cNvPicPr/>
          <p:nvPr/>
        </p:nvPicPr>
        <p:blipFill>
          <a:blip r:embed="rId2"/>
          <a:stretch/>
        </p:blipFill>
        <p:spPr>
          <a:xfrm>
            <a:off x="10207800" y="0"/>
            <a:ext cx="2000160" cy="3808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8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E720-16A2-4CBA-8506-ABC6F4657A2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: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етензионно-исковая рабо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Rectangle 4"/>
          <p:cNvSpPr/>
          <p:nvPr/>
        </p:nvSpPr>
        <p:spPr>
          <a:xfrm>
            <a:off x="3260880" y="1857240"/>
            <a:ext cx="823572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ормирование списков должников по любым критериям за любой период времени и по любой категории задолженности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учное или автоматическое формирование уведомлений, предупреждений и актов отключений потребителей-неплательщиков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зможность реструктуризации задолженности потребителе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едение графиков погашения задолженности и контроль оплаты по графика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писание дебиторской задолженнос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Хранение переписки с должника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6" name="Picture 4" descr="&amp;Kcy;&amp;acy;&amp;rcy;&amp;tcy;&amp;icy;&amp;ncy;&amp;kcy;&amp;icy; &amp;pcy;&amp;ocy; &amp;zcy;&amp;acy;&amp;pcy;&amp;rcy;&amp;ocy;&amp;scy;&amp;ucy; &amp;pcy;&amp;rcy;&amp;acy;&amp;vcy;&amp;ocy;&amp;scy;&amp;ucy;&amp;dcy;&amp;icy;&amp;iecy; &amp;icy;&amp;kcy;&amp;ocy;&amp;ncy;&amp;kcy;&amp;acy;"/>
          <p:cNvPicPr/>
          <p:nvPr/>
        </p:nvPicPr>
        <p:blipFill>
          <a:blip r:embed="rId1"/>
          <a:stretch/>
        </p:blipFill>
        <p:spPr>
          <a:xfrm>
            <a:off x="831960" y="1857240"/>
            <a:ext cx="2244600" cy="210024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35" descr="MoBill-EnergoTrade"/>
          <p:cNvPicPr/>
          <p:nvPr/>
        </p:nvPicPr>
        <p:blipFill>
          <a:blip r:embed="rId2"/>
          <a:stretch/>
        </p:blipFill>
        <p:spPr>
          <a:xfrm>
            <a:off x="10207800" y="0"/>
            <a:ext cx="2000160" cy="380880"/>
          </a:xfrm>
          <a:prstGeom prst="rect">
            <a:avLst/>
          </a:prstGeom>
          <a:ln w="0">
            <a:noFill/>
          </a:ln>
        </p:spPr>
      </p:pic>
      <p:sp>
        <p:nvSpPr>
          <p:cNvPr id="748" name="TextBox 6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4A3B-F31C-46E5-A04B-FCA7A12E7E6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623880" y="1773000"/>
            <a:ext cx="1065672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1312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тсутствие автоматизации бизнес-процессов ведения договоров с контрагентами и расчета начислений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312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истематические затраты финансовых и человеческих ресурсов на ручное выполнение рутинных процессов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312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ысокая длительность выполнения расчетов и прочих процедур, которые можно автоматизировать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312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едостаточное качество результата, учитывая наличие человеческого фактора 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312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ысокая частота сбоев процессов из-за отсутствия четкой методики выполне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 чем заключается проблема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Заказчика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6" name="Picture 35" descr="MoBill-EnergoTrade"/>
          <p:cNvPicPr/>
          <p:nvPr/>
        </p:nvPicPr>
        <p:blipFill>
          <a:blip r:embed="rId1"/>
          <a:stretch/>
        </p:blipFill>
        <p:spPr>
          <a:xfrm>
            <a:off x="10207800" y="0"/>
            <a:ext cx="2000160" cy="380880"/>
          </a:xfrm>
          <a:prstGeom prst="rect">
            <a:avLst/>
          </a:prstGeom>
          <a:ln w="0">
            <a:noFill/>
          </a:ln>
        </p:spPr>
      </p:pic>
      <p:sp>
        <p:nvSpPr>
          <p:cNvPr id="587" name="TextBox 5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F269-A6F6-480F-9741-88A6F3AD9AF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: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тчетност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Rectangle 4"/>
          <p:cNvSpPr/>
          <p:nvPr/>
        </p:nvSpPr>
        <p:spPr>
          <a:xfrm>
            <a:off x="2654280" y="1785960"/>
            <a:ext cx="87804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ормирование и печать отчетов и документов по одному контрагенту или группе контрагент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ормирование печатных форм договоров и платежных документов – авансовых счетов, счетов-фактур, актов приема-передачи, интервальных акт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ормирование и печать ведомостей потребле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ормирование и печать управленческой и статистической отчетнос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2" name="Picture 2" descr="&amp;Kcy;&amp;acy;&amp;rcy;&amp;tcy;&amp;icy;&amp;ncy;&amp;kcy;&amp;icy; &amp;pcy;&amp;ocy; &amp;zcy;&amp;acy;&amp;pcy;&amp;rcy;&amp;ocy;&amp;scy;&amp;ucy; &amp;ocy;&amp;tcy;&amp;chcy;&amp;iecy;&amp;tcy;&amp;ncy;&amp;ocy;&amp;scy;&amp;tcy;&amp;softcy; &amp;acy;&amp;ncy;&amp;acy;&amp;lcy;&amp;icy;&amp;tcy;&amp;icy;&amp;kcy;&amp;acy; &amp;icy;&amp;kcy;&amp;ocy;&amp;ncy;&amp;kcy;&amp;acy;"/>
          <p:cNvPicPr/>
          <p:nvPr/>
        </p:nvPicPr>
        <p:blipFill>
          <a:blip r:embed="rId1"/>
          <a:stretch/>
        </p:blipFill>
        <p:spPr>
          <a:xfrm>
            <a:off x="839880" y="2000160"/>
            <a:ext cx="1714320" cy="1714680"/>
          </a:xfrm>
          <a:prstGeom prst="rect">
            <a:avLst/>
          </a:prstGeom>
          <a:ln w="0">
            <a:noFill/>
          </a:ln>
        </p:spPr>
      </p:pic>
      <p:sp>
        <p:nvSpPr>
          <p:cNvPr id="753" name="Rectangle 4"/>
          <p:cNvSpPr/>
          <p:nvPr/>
        </p:nvSpPr>
        <p:spPr>
          <a:xfrm>
            <a:off x="766800" y="4857840"/>
            <a:ext cx="865836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зможность формирования различных отчетных форм с помощью внутреннего инструментария построения отчетных форм – </a:t>
            </a:r>
            <a:r>
              <a:rPr b="0" lang="ru-RU" sz="1600" spc="-1" strike="noStrike">
                <a:solidFill>
                  <a:srgbClr val="ff3c3c"/>
                </a:solidFill>
                <a:latin typeface="Verdana"/>
              </a:rPr>
              <a:t>Конструктора отчет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4" name="Picture 6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2"/>
          <a:stretch/>
        </p:blipFill>
        <p:spPr>
          <a:xfrm>
            <a:off x="9425160" y="4143240"/>
            <a:ext cx="2000160" cy="200052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4" descr="&amp;Kcy;&amp;acy;&amp;rcy;&amp;tcy;&amp;icy;&amp;ncy;&amp;kcy;&amp;icy; &amp;pcy;&amp;ocy; &amp;zcy;&amp;acy;&amp;pcy;&amp;rcy;&amp;ocy;&amp;scy;&amp;ucy; &amp;icy;&amp;ncy;&amp;scy;&amp;tcy;&amp;rcy;&amp;ucy;&amp;mcy;&amp;iecy;&amp;ncy;&amp;tcy; &amp;icy;&amp;kcy;&amp;ocy;&amp;ncy;&amp;kcy;&amp;acy;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9353520" y="50007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35" descr="MoBill-EnergoTrade"/>
          <p:cNvPicPr/>
          <p:nvPr/>
        </p:nvPicPr>
        <p:blipFill>
          <a:blip r:embed="rId4"/>
          <a:stretch/>
        </p:blipFill>
        <p:spPr>
          <a:xfrm>
            <a:off x="10207800" y="0"/>
            <a:ext cx="2000160" cy="380880"/>
          </a:xfrm>
          <a:prstGeom prst="rect">
            <a:avLst/>
          </a:prstGeom>
          <a:ln w="0">
            <a:noFill/>
          </a:ln>
        </p:spPr>
      </p:pic>
      <p:sp>
        <p:nvSpPr>
          <p:cNvPr id="757" name="TextBox 9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C800-B945-402D-9B2E-6A5112F633E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: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графическая визуализац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Rectangle 4"/>
          <p:cNvSpPr/>
          <p:nvPr/>
        </p:nvSpPr>
        <p:spPr>
          <a:xfrm>
            <a:off x="4809960" y="1785960"/>
            <a:ext cx="657252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изуализация схемы присоединения точек поставки с наименованиями электроустановок и линий электропередач, как для отдельной точки поставки, так и для территориально-обособленного объекта или всего потребител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ормирование графиков и диаграмм по заданным критерия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1" name="Picture 3" descr=""/>
          <p:cNvPicPr/>
          <p:nvPr/>
        </p:nvPicPr>
        <p:blipFill>
          <a:blip r:embed="rId1"/>
          <a:stretch/>
        </p:blipFill>
        <p:spPr>
          <a:xfrm>
            <a:off x="1738440" y="4137120"/>
            <a:ext cx="8643960" cy="198900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4" descr=""/>
          <p:cNvPicPr/>
          <p:nvPr/>
        </p:nvPicPr>
        <p:blipFill>
          <a:blip r:embed="rId2"/>
          <a:stretch/>
        </p:blipFill>
        <p:spPr>
          <a:xfrm>
            <a:off x="9310680" y="3714840"/>
            <a:ext cx="2071800" cy="20494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fffff"/>
            </a:outerShdw>
          </a:effectLst>
        </p:spPr>
      </p:pic>
      <p:sp>
        <p:nvSpPr>
          <p:cNvPr id="763" name="AutoShape 6"/>
          <p:cNvSpPr/>
          <p:nvPr/>
        </p:nvSpPr>
        <p:spPr>
          <a:xfrm>
            <a:off x="1697040" y="-1165320"/>
            <a:ext cx="24382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AutoShape 9"/>
          <p:cNvSpPr/>
          <p:nvPr/>
        </p:nvSpPr>
        <p:spPr>
          <a:xfrm>
            <a:off x="1697040" y="-1790640"/>
            <a:ext cx="374328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5" name="Picture 12" descr=""/>
          <p:cNvPicPr/>
          <p:nvPr/>
        </p:nvPicPr>
        <p:blipFill>
          <a:blip r:embed="rId3"/>
          <a:stretch/>
        </p:blipFill>
        <p:spPr>
          <a:xfrm>
            <a:off x="888840" y="1714680"/>
            <a:ext cx="3706920" cy="277956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35" descr="MoBill-EnergoTrade"/>
          <p:cNvPicPr/>
          <p:nvPr/>
        </p:nvPicPr>
        <p:blipFill>
          <a:blip r:embed="rId4"/>
          <a:stretch/>
        </p:blipFill>
        <p:spPr>
          <a:xfrm>
            <a:off x="10207800" y="0"/>
            <a:ext cx="2000160" cy="380880"/>
          </a:xfrm>
          <a:prstGeom prst="rect">
            <a:avLst/>
          </a:prstGeom>
          <a:ln w="0">
            <a:noFill/>
          </a:ln>
        </p:spPr>
      </p:pic>
      <p:sp>
        <p:nvSpPr>
          <p:cNvPr id="767" name="TextBox 10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9DB1-B887-4B1C-A754-F42DC367687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Rectangle 4"/>
          <p:cNvSpPr/>
          <p:nvPr/>
        </p:nvSpPr>
        <p:spPr>
          <a:xfrm>
            <a:off x="2690640" y="1785960"/>
            <a:ext cx="88776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здание для потребителя </a:t>
            </a:r>
            <a:r>
              <a:rPr b="0" lang="ru-RU" sz="1600" spc="-1" strike="noStrike">
                <a:solidFill>
                  <a:srgbClr val="cc0000"/>
                </a:solidFill>
                <a:latin typeface="Verdana"/>
              </a:rPr>
              <a:t>Личного кабинета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 сайте Заказчик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вторизация потребителя в личном кабинет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зможность внесения потребителем в личном кабинете показаний приборов учет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AutoShape 6"/>
          <p:cNvSpPr/>
          <p:nvPr/>
        </p:nvSpPr>
        <p:spPr>
          <a:xfrm>
            <a:off x="1697040" y="-1165320"/>
            <a:ext cx="24382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Rectangle 4"/>
          <p:cNvSpPr/>
          <p:nvPr/>
        </p:nvSpPr>
        <p:spPr>
          <a:xfrm>
            <a:off x="905040" y="3571920"/>
            <a:ext cx="1066320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чет даты и времени посещения потребителем личного кабинета, внесения данных, формирования отчет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верка данных, занесенных потребителем через личный кабинет, в режиме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n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братная связь через личный кабине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зможность просмотра и сохранения потребителем из личного кабинета актов, счетов и счетов-фактур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2" name="Picture 2" descr="&amp;Kcy;&amp;acy;&amp;rcy;&amp;tcy;&amp;icy;&amp;ncy;&amp;kcy;&amp;icy; &amp;pcy;&amp;ocy; &amp;zcy;&amp;acy;&amp;pcy;&amp;rcy;&amp;ocy;&amp;scy;&amp;ucy; &amp;lcy;&amp;icy;&amp;chcy;&amp;ncy;&amp;ycy;&amp;jcy; &amp;kcy;&amp;acy;&amp;bcy;&amp;icy;&amp;ncy;&amp;iecy;&amp;tcy; &amp;icy;&amp;kcy;&amp;ocy;&amp;ncy;&amp;kcy;&amp;acy;"/>
          <p:cNvPicPr/>
          <p:nvPr/>
        </p:nvPicPr>
        <p:blipFill>
          <a:blip r:embed="rId1"/>
          <a:stretch/>
        </p:blipFill>
        <p:spPr>
          <a:xfrm>
            <a:off x="905040" y="1857240"/>
            <a:ext cx="1500120" cy="150048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4" descr="&amp;Kcy;&amp;acy;&amp;rcy;&amp;tcy;&amp;icy;&amp;ncy;&amp;kcy;&amp;icy; &amp;pcy;&amp;ocy; &amp;zcy;&amp;acy;&amp;pcy;&amp;rcy;&amp;ocy;&amp;scy;&amp;ucy; &amp;scy;&amp;acy;&amp;jcy;&amp;tcy; &amp;icy;&amp;kcy;&amp;ocy;&amp;ncy;&amp;kcy;&amp;acy;"/>
          <p:cNvPicPr/>
          <p:nvPr/>
        </p:nvPicPr>
        <p:blipFill>
          <a:blip r:embed="rId2"/>
          <a:stretch/>
        </p:blipFill>
        <p:spPr>
          <a:xfrm>
            <a:off x="1755720" y="263988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35" descr="MoBill-EnergoTrade"/>
          <p:cNvPicPr/>
          <p:nvPr/>
        </p:nvPicPr>
        <p:blipFill>
          <a:blip r:embed="rId3"/>
          <a:stretch/>
        </p:blipFill>
        <p:spPr>
          <a:xfrm>
            <a:off x="10207800" y="0"/>
            <a:ext cx="2000160" cy="380880"/>
          </a:xfrm>
          <a:prstGeom prst="rect">
            <a:avLst/>
          </a:prstGeom>
          <a:ln w="0">
            <a:noFill/>
          </a:ln>
        </p:spPr>
      </p:pic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: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нтеграция с сайтом Заказч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TextBox 12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DAC7-EFF6-4287-8962-D73B8A7E813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Криптозащита СУБ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Rectangle 27"/>
          <p:cNvSpPr/>
          <p:nvPr/>
        </p:nvSpPr>
        <p:spPr>
          <a:xfrm>
            <a:off x="809640" y="2510280"/>
            <a:ext cx="1058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УБД Caché® от компании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Systems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сертифицировано в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СТЭК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Сертификат №3257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Caché® сертифицировано на высокие уровни защищенности в соответствии требованиям безопасности информации, установленные РД Гостехкомиссии РФ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 класс защищенност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«Средства вычислительной техники. Защита от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есанкционированного доступа к информаци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 Показатели защищенности от несанкционированного доступа к информации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4 уровень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«Защита от несанкционированного доступа к информации. Часть 1. Программное обеспечение средств защиты информации. Классификация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 уровню контроля отсутствия недекларированных возможносте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0" name="Picture 11" descr="&amp;Kcy;&amp;acy;&amp;rcy;&amp;tcy;&amp;icy;&amp;ncy;&amp;kcy;&amp;icy; &amp;pcy;&amp;ocy; &amp;zcy;&amp;acy;&amp;pcy;&amp;rcy;&amp;ocy;&amp;scy;&amp;ucy; &amp;zcy;&amp;acy;&amp;shchcy;&amp;icy;&amp;tcy;&amp;acy; &amp;icy;&amp;kcy;&amp;ocy;&amp;ncy;&amp;kcy;&amp;acy;"/>
          <p:cNvPicPr/>
          <p:nvPr/>
        </p:nvPicPr>
        <p:blipFill>
          <a:blip r:embed="rId1"/>
          <a:stretch/>
        </p:blipFill>
        <p:spPr>
          <a:xfrm>
            <a:off x="10024920" y="142920"/>
            <a:ext cx="1357560" cy="1357200"/>
          </a:xfrm>
          <a:prstGeom prst="rect">
            <a:avLst/>
          </a:prstGeom>
          <a:ln w="0">
            <a:noFill/>
          </a:ln>
        </p:spPr>
      </p:pic>
      <p:sp>
        <p:nvSpPr>
          <p:cNvPr id="781" name="TextBox 5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Номер слайда 3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3BE3-3E25-4C19-A485-A4CD16CE0F3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3" name="Picture 3" descr="Slogan"/>
          <p:cNvPicPr/>
          <p:nvPr/>
        </p:nvPicPr>
        <p:blipFill>
          <a:blip r:embed="rId2"/>
          <a:stretch/>
        </p:blipFill>
        <p:spPr>
          <a:xfrm>
            <a:off x="4871880" y="5805360"/>
            <a:ext cx="2664000" cy="854280"/>
          </a:xfrm>
          <a:prstGeom prst="rect">
            <a:avLst/>
          </a:prstGeom>
          <a:ln w="0">
            <a:noFill/>
          </a:ln>
        </p:spPr>
      </p:pic>
      <p:sp>
        <p:nvSpPr>
          <p:cNvPr id="784" name="Text Box 6"/>
          <p:cNvSpPr/>
          <p:nvPr/>
        </p:nvSpPr>
        <p:spPr>
          <a:xfrm>
            <a:off x="2905200" y="3643200"/>
            <a:ext cx="654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Компания «Мобилл плюс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Россия, Уфа, улица Менделеева, 138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Text Box 7"/>
          <p:cNvSpPr/>
          <p:nvPr/>
        </p:nvSpPr>
        <p:spPr>
          <a:xfrm>
            <a:off x="2952720" y="4714920"/>
            <a:ext cx="314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те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фак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347) 2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56-66-0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6611760" y="4689360"/>
            <a:ext cx="277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ww.mobill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obill@mobill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Rectangle 4"/>
          <p:cNvSpPr/>
          <p:nvPr/>
        </p:nvSpPr>
        <p:spPr>
          <a:xfrm>
            <a:off x="809640" y="71280"/>
            <a:ext cx="5870520" cy="16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Microsoft New Tai Lue"/>
              </a:rPr>
              <a:t>Mo</a:t>
            </a:r>
            <a:r>
              <a:rPr b="0" lang="en-US" sz="4400" spc="-1" strike="noStrike">
                <a:solidFill>
                  <a:srgbClr val="333333"/>
                </a:solidFill>
                <a:latin typeface="Microsoft New Tai Lue"/>
              </a:rPr>
              <a:t>Bill – </a:t>
            </a:r>
            <a:r>
              <a:rPr b="0" lang="en-US" sz="4000" spc="-1" strike="noStrike">
                <a:solidFill>
                  <a:srgbClr val="333333"/>
                </a:solidFill>
                <a:latin typeface="Microsoft New Tai Lue"/>
              </a:rPr>
              <a:t>Energo</a:t>
            </a:r>
            <a:r>
              <a:rPr b="0" lang="en-US" sz="4000" spc="-1" strike="noStrike">
                <a:solidFill>
                  <a:srgbClr val="336699"/>
                </a:solidFill>
                <a:latin typeface="Microsoft New Tai Lue"/>
              </a:rPr>
              <a:t>Trade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4000"/>
            </a:br>
            <a:r>
              <a:rPr b="0" lang="ru-RU" sz="2800" spc="-1" strike="noStrike">
                <a:solidFill>
                  <a:srgbClr val="333333"/>
                </a:solidFill>
                <a:latin typeface="Microsoft Sans Serif"/>
              </a:rPr>
              <a:t>Расчет энергосбытовых услуг</a:t>
            </a: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8" name="Picture 9" descr="Logo2"/>
          <p:cNvPicPr/>
          <p:nvPr/>
        </p:nvPicPr>
        <p:blipFill>
          <a:blip r:embed="rId3"/>
          <a:stretch/>
        </p:blipFill>
        <p:spPr>
          <a:xfrm>
            <a:off x="4272120" y="1928880"/>
            <a:ext cx="3609720" cy="1542960"/>
          </a:xfrm>
          <a:prstGeom prst="rect">
            <a:avLst/>
          </a:prstGeom>
          <a:ln w="0">
            <a:noFill/>
          </a:ln>
        </p:spPr>
      </p:pic>
      <p:sp>
        <p:nvSpPr>
          <p:cNvPr id="789" name="TextBox 8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78D5-C91B-4C3B-8074-9E0F9661990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1919160" y="1773000"/>
            <a:ext cx="806472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едлагаемое реше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Rectangle 5"/>
          <p:cNvSpPr/>
          <p:nvPr/>
        </p:nvSpPr>
        <p:spPr>
          <a:xfrm>
            <a:off x="793800" y="1773360"/>
            <a:ext cx="1064088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недрение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единой информационной систем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сбора и обработки информаци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400" spc="-1" strike="noStrike">
                <a:solidFill>
                  <a:srgbClr val="333333"/>
                </a:solidFill>
                <a:latin typeface="Verdana"/>
              </a:rPr>
              <a:t>Bill–Energo</a:t>
            </a: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Tr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о полнофункциональный инструмент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зволяющий 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втоматизировать весь цикл работ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с потребителями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еспечивающий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ормирование отчетност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для анализа деятельности, оперативного и долгосрочного планирования и принятия управленческих решений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7"/>
          <p:cNvSpPr/>
          <p:nvPr/>
        </p:nvSpPr>
        <p:spPr>
          <a:xfrm>
            <a:off x="4742640" y="3121200"/>
            <a:ext cx="276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Расчет энергосбытовых услуг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3" name="Picture 35" descr="MoBill-EnergoTrade"/>
          <p:cNvPicPr/>
          <p:nvPr/>
        </p:nvPicPr>
        <p:blipFill>
          <a:blip r:embed="rId1"/>
          <a:stretch/>
        </p:blipFill>
        <p:spPr>
          <a:xfrm>
            <a:off x="10207800" y="0"/>
            <a:ext cx="2000160" cy="380880"/>
          </a:xfrm>
          <a:prstGeom prst="rect">
            <a:avLst/>
          </a:prstGeom>
          <a:ln w="0">
            <a:noFill/>
          </a:ln>
        </p:spPr>
      </p:pic>
      <p:sp>
        <p:nvSpPr>
          <p:cNvPr id="594" name="TextBox 8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0D31-E8DF-4B20-B86B-E48F3844A50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Разработчи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Rectangle 5"/>
          <p:cNvSpPr/>
          <p:nvPr/>
        </p:nvSpPr>
        <p:spPr>
          <a:xfrm>
            <a:off x="695160" y="1773360"/>
            <a:ext cx="84726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мпания</a:t>
            </a: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 «Мобилл плюс»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ециализируется на разработке универсальных программных систем и их внедрении в различных отраслях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ы работаем на рынке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T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 1997 год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Прямоугольник 11"/>
          <p:cNvSpPr/>
          <p:nvPr/>
        </p:nvSpPr>
        <p:spPr>
          <a:xfrm>
            <a:off x="727200" y="4389480"/>
            <a:ext cx="851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ы применяем в своих разработках программное обеспечение СУБД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Systems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Caché, которое обеспечивает высокую скорость обработки данных и высокую степень защищенности информации. Эта СУБД сертифицирована в соответствии с требованиями безопасности информации, установленным руководящими документами ФСТЭК Росс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9" name="Picture 4" descr="http://www.intersystems.com/assets/intersystems-logo.png"/>
          <p:cNvPicPr/>
          <p:nvPr/>
        </p:nvPicPr>
        <p:blipFill>
          <a:blip r:embed="rId1"/>
          <a:stretch/>
        </p:blipFill>
        <p:spPr>
          <a:xfrm>
            <a:off x="9596520" y="4000680"/>
            <a:ext cx="1942920" cy="495000"/>
          </a:xfrm>
          <a:prstGeom prst="rect">
            <a:avLst/>
          </a:prstGeom>
          <a:ln w="0">
            <a:noFill/>
          </a:ln>
        </p:spPr>
      </p:pic>
      <p:sp>
        <p:nvSpPr>
          <p:cNvPr id="600" name="TextBox 14"/>
          <p:cNvSpPr/>
          <p:nvPr/>
        </p:nvSpPr>
        <p:spPr>
          <a:xfrm>
            <a:off x="738360" y="3487680"/>
            <a:ext cx="57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знайте о нас больше: </a:t>
            </a: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www.mobill.r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1" name="Picture 35" descr="MoBill-EnergoTrade"/>
          <p:cNvPicPr/>
          <p:nvPr/>
        </p:nvPicPr>
        <p:blipFill>
          <a:blip r:embed="rId2"/>
          <a:stretch/>
        </p:blipFill>
        <p:spPr>
          <a:xfrm>
            <a:off x="10207800" y="0"/>
            <a:ext cx="2000160" cy="38088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16" descr="C:\Users\denis\Pictures\fstek.png"/>
          <p:cNvPicPr/>
          <p:nvPr/>
        </p:nvPicPr>
        <p:blipFill>
          <a:blip r:embed="rId3"/>
          <a:stretch/>
        </p:blipFill>
        <p:spPr>
          <a:xfrm>
            <a:off x="10024920" y="4714920"/>
            <a:ext cx="1143000" cy="12193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11" descr="C:\Users\denis\Pictures\20-let-raboty.png"/>
          <p:cNvPicPr/>
          <p:nvPr/>
        </p:nvPicPr>
        <p:blipFill>
          <a:blip r:embed="rId4"/>
          <a:stretch/>
        </p:blipFill>
        <p:spPr>
          <a:xfrm>
            <a:off x="9667800" y="185724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9" descr="Logo2"/>
          <p:cNvPicPr/>
          <p:nvPr/>
        </p:nvPicPr>
        <p:blipFill>
          <a:blip r:embed="rId5"/>
          <a:stretch/>
        </p:blipFill>
        <p:spPr>
          <a:xfrm>
            <a:off x="9656640" y="771480"/>
            <a:ext cx="1838520" cy="785880"/>
          </a:xfrm>
          <a:prstGeom prst="rect">
            <a:avLst/>
          </a:prstGeom>
          <a:ln w="0">
            <a:noFill/>
          </a:ln>
        </p:spPr>
      </p:pic>
      <p:sp>
        <p:nvSpPr>
          <p:cNvPr id="605" name="TextBox 13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6" name=""/>
          <p:cNvGraphicFramePr/>
          <p:nvPr/>
        </p:nvGraphicFramePr>
        <p:xfrm>
          <a:off x="839880" y="2714760"/>
          <a:ext cx="10539360" cy="857160"/>
        </p:xfrm>
        <a:graphic>
          <a:graphicData uri="http://schemas.openxmlformats.org/drawingml/2006/table">
            <a:tbl>
              <a:tblPr/>
              <a:tblGrid>
                <a:gridCol w="3477960"/>
                <a:gridCol w="360360"/>
                <a:gridCol w="2862360"/>
                <a:gridCol w="360360"/>
                <a:gridCol w="3478320"/>
              </a:tblGrid>
              <a:tr h="8571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Высокие оценки клиентов.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Внедрение ПО под индивидуальные требования Заказчи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Постгарантийное сопровождение ПО.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Моментальная техническая поддерж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Быстродействие СУБД. Низкие требования к аппаратным ресурса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7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1453-171A-4063-ADF3-33860EF4577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Разработчи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766440" y="3928680"/>
            <a:ext cx="1066788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рамках реализуемых проектов мы осуществляем полный комплекс работ и услуг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едпроектный анализ требований и бизнес-процессов Заказчика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даленное проведение презентаций и конференций предлагаемых решен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вместную разработку технического зада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работку программных сист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недрение программных сист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дготовку персонала Заказчик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ервисное гарантийное и постгарантийное обслуживани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0" name="Picture 5" descr="&amp;Kcy;&amp;acy;&amp;rcy;&amp;tcy;&amp;icy;&amp;ncy;&amp;kcy;&amp;icy; &amp;pcy;&amp;ocy; &amp;zcy;&amp;acy;&amp;pcy;&amp;rcy;&amp;ocy;&amp;scy;&amp;ucy; &amp;kcy;&amp;acy;&amp;chcy;&amp;iecy;&amp;scy;&amp;tcy;&amp;vcy;&amp;ocy; &amp;icy;&amp;kcy;&amp;ocy;&amp;ncy;&amp;kcy;&amp;acy;"/>
          <p:cNvPicPr/>
          <p:nvPr/>
        </p:nvPicPr>
        <p:blipFill>
          <a:blip r:embed="rId1"/>
          <a:stretch/>
        </p:blipFill>
        <p:spPr>
          <a:xfrm>
            <a:off x="1865160" y="1843200"/>
            <a:ext cx="1197000" cy="108576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7" descr="&amp;Kcy;&amp;acy;&amp;rcy;&amp;tcy;&amp;icy;&amp;ncy;&amp;kcy;&amp;icy; &amp;pcy;&amp;ocy; &amp;zcy;&amp;acy;&amp;pcy;&amp;rcy;&amp;ocy;&amp;scy;&amp;ucy; &amp;shchcy;&amp;icy;&amp;tcy; &amp;icy;&amp;kcy;&amp;ocy;&amp;ncy;&amp;kcy;&amp;acy;"/>
          <p:cNvPicPr/>
          <p:nvPr/>
        </p:nvPicPr>
        <p:blipFill>
          <a:blip r:embed="rId2">
            <a:lum bright="26000"/>
          </a:blip>
          <a:stretch/>
        </p:blipFill>
        <p:spPr>
          <a:xfrm>
            <a:off x="5661000" y="2000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9" descr="&amp;Kcy;&amp;acy;&amp;rcy;&amp;tcy;&amp;icy;&amp;ncy;&amp;kcy;&amp;icy; &amp;pcy;&amp;ocy; &amp;zcy;&amp;acy;&amp;pcy;&amp;rcy;&amp;ocy;&amp;scy;&amp;ucy; &amp;scy;&amp;kcy;&amp;ocy;&amp;rcy;&amp;ocy;&amp;scy;&amp;tcy;&amp;softcy; &amp;icy;&amp;kcy;&amp;ocy;&amp;ncy;&amp;kcy;&amp;acy;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8924760" y="1928880"/>
            <a:ext cx="928800" cy="928800"/>
          </a:xfrm>
          <a:prstGeom prst="rect">
            <a:avLst/>
          </a:prstGeom>
          <a:ln w="0">
            <a:noFill/>
          </a:ln>
        </p:spPr>
      </p:pic>
      <p:sp>
        <p:nvSpPr>
          <p:cNvPr id="613" name="TextBox 18"/>
          <p:cNvSpPr/>
          <p:nvPr/>
        </p:nvSpPr>
        <p:spPr>
          <a:xfrm>
            <a:off x="1881360" y="164304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честв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TextBox 19"/>
          <p:cNvSpPr/>
          <p:nvPr/>
        </p:nvSpPr>
        <p:spPr>
          <a:xfrm>
            <a:off x="5265720" y="164304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дежнос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TextBox 20"/>
          <p:cNvSpPr/>
          <p:nvPr/>
        </p:nvSpPr>
        <p:spPr>
          <a:xfrm>
            <a:off x="8550000" y="164304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ыстродейств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6" name="Picture 35" descr="MoBill-EnergoTrade"/>
          <p:cNvPicPr/>
          <p:nvPr/>
        </p:nvPicPr>
        <p:blipFill>
          <a:blip r:embed="rId4"/>
          <a:stretch/>
        </p:blipFill>
        <p:spPr>
          <a:xfrm>
            <a:off x="10207800" y="0"/>
            <a:ext cx="2000160" cy="38088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9" descr="Logo2"/>
          <p:cNvPicPr/>
          <p:nvPr/>
        </p:nvPicPr>
        <p:blipFill>
          <a:blip r:embed="rId5"/>
          <a:stretch/>
        </p:blipFill>
        <p:spPr>
          <a:xfrm>
            <a:off x="9656640" y="771480"/>
            <a:ext cx="1838520" cy="785880"/>
          </a:xfrm>
          <a:prstGeom prst="rect">
            <a:avLst/>
          </a:prstGeom>
          <a:ln w="0">
            <a:noFill/>
          </a:ln>
        </p:spPr>
      </p:pic>
      <p:sp>
        <p:nvSpPr>
          <p:cNvPr id="618" name="TextBox 15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Номер слайда 6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1A4B-506D-4A31-8BD2-9249AF0C8AD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/>
          </p:nvPr>
        </p:nvSpPr>
        <p:spPr>
          <a:xfrm>
            <a:off x="766440" y="1844280"/>
            <a:ext cx="106678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истема расчетов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Bill–Energo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Trade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предназначена для автоматизации процесса энергосбытовой деятельност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я и сопровождения договоров с потребителями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чета электроэнергии и мощности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счетов за электроэнергию и услуги с потребителями и поставщиками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нижения временных затрат на рутинные операции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еративной обработке информации о потребителях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дготовки управленческой и статистической отчет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Назначение сис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AutoShape 7"/>
          <p:cNvSpPr/>
          <p:nvPr/>
        </p:nvSpPr>
        <p:spPr>
          <a:xfrm>
            <a:off x="16970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AutoShape 9"/>
          <p:cNvSpPr/>
          <p:nvPr/>
        </p:nvSpPr>
        <p:spPr>
          <a:xfrm>
            <a:off x="16970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AutoShape 11"/>
          <p:cNvSpPr/>
          <p:nvPr/>
        </p:nvSpPr>
        <p:spPr>
          <a:xfrm>
            <a:off x="16970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13" descr="&amp;Kcy;&amp;acy;&amp;rcy;&amp;tcy;&amp;icy;&amp;ncy;&amp;kcy;&amp;icy; &amp;pcy;&amp;ocy; &amp;zcy;&amp;acy;&amp;pcy;&amp;rcy;&amp;ocy;&amp;scy;&amp;ucy; &amp;vcy;&amp;rcy;&amp;iecy;&amp;mcy;&amp;yacy; &amp;ucy;&amp;scy;&amp;kcy;&amp;ocy;&amp;rcy;&amp;iecy;&amp;ncy;&amp;icy;&amp;iecy; &amp;icy;&amp;kcy;&amp;ocy;&amp;ncy;&amp;kcy;&amp;acy;"/>
          <p:cNvPicPr/>
          <p:nvPr/>
        </p:nvPicPr>
        <p:blipFill>
          <a:blip r:embed="rId1"/>
          <a:stretch/>
        </p:blipFill>
        <p:spPr>
          <a:xfrm>
            <a:off x="901800" y="4381560"/>
            <a:ext cx="288720" cy="2872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15" descr="&amp;Kcy;&amp;acy;&amp;rcy;&amp;tcy;&amp;icy;&amp;ncy;&amp;kcy;&amp;icy; &amp;pcy;&amp;ocy; &amp;zcy;&amp;acy;&amp;pcy;&amp;rcy;&amp;ocy;&amp;scy;&amp;ucy; &amp;dcy;&amp;ocy;&amp;gcy;&amp;ocy;&amp;vcy;&amp;ocy;&amp;rcy; &amp;icy;&amp;kcy;&amp;ocy;&amp;ncy;&amp;kcy;&amp;acy;"/>
          <p:cNvPicPr/>
          <p:nvPr/>
        </p:nvPicPr>
        <p:blipFill>
          <a:blip r:embed="rId2"/>
          <a:stretch/>
        </p:blipFill>
        <p:spPr>
          <a:xfrm>
            <a:off x="847800" y="2928960"/>
            <a:ext cx="426960" cy="4255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17" descr="&amp;Kcy;&amp;acy;&amp;rcy;&amp;tcy;&amp;icy;&amp;ncy;&amp;kcy;&amp;icy; &amp;pcy;&amp;ocy; &amp;zcy;&amp;acy;&amp;pcy;&amp;rcy;&amp;ocy;&amp;scy;&amp;ucy; &amp;ecy;&amp;lcy;&amp;iecy;&amp;kcy;&amp;tcy;&amp;rcy;&amp;ocy;&amp;ecy;&amp;ncy;&amp;iecy;&amp;rcy;&amp;gcy;&amp;icy;&amp;yacy; &amp;icy;&amp;kcy;&amp;ocy;&amp;ncy;&amp;kcy;&amp;acy;"/>
          <p:cNvPicPr/>
          <p:nvPr/>
        </p:nvPicPr>
        <p:blipFill>
          <a:blip r:embed="rId3"/>
          <a:stretch/>
        </p:blipFill>
        <p:spPr>
          <a:xfrm>
            <a:off x="866880" y="34257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9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4"/>
          <a:stretch/>
        </p:blipFill>
        <p:spPr>
          <a:xfrm>
            <a:off x="839880" y="3859200"/>
            <a:ext cx="409320" cy="409680"/>
          </a:xfrm>
          <a:prstGeom prst="rect">
            <a:avLst/>
          </a:prstGeom>
          <a:ln w="0">
            <a:noFill/>
          </a:ln>
        </p:spPr>
      </p:pic>
      <p:sp>
        <p:nvSpPr>
          <p:cNvPr id="629" name="AutoShape 21"/>
          <p:cNvSpPr/>
          <p:nvPr/>
        </p:nvSpPr>
        <p:spPr>
          <a:xfrm>
            <a:off x="1697040" y="-1165320"/>
            <a:ext cx="24382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AutoShape 23"/>
          <p:cNvSpPr/>
          <p:nvPr/>
        </p:nvSpPr>
        <p:spPr>
          <a:xfrm>
            <a:off x="1697040" y="-1165320"/>
            <a:ext cx="24382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AutoShape 25"/>
          <p:cNvSpPr/>
          <p:nvPr/>
        </p:nvSpPr>
        <p:spPr>
          <a:xfrm>
            <a:off x="1697040" y="-1165320"/>
            <a:ext cx="24382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2" name="Picture 27" descr="&amp;Kcy;&amp;acy;&amp;rcy;&amp;tcy;&amp;icy;&amp;ncy;&amp;kcy;&amp;icy; &amp;pcy;&amp;ocy; &amp;zcy;&amp;acy;&amp;pcy;&amp;rcy;&amp;ocy;&amp;scy;&amp;ucy; &amp;icy;&amp;ncy;&amp;fcy;&amp;ocy;&amp;rcy;&amp;mcy;&amp;acy;&amp;tscy;&amp;icy;&amp;icy; &amp;icy;&amp;kcy;&amp;ocy;&amp;ncy;&amp;kcy;&amp;acy;"/>
          <p:cNvPicPr/>
          <p:nvPr/>
        </p:nvPicPr>
        <p:blipFill>
          <a:blip r:embed="rId5"/>
          <a:stretch/>
        </p:blipFill>
        <p:spPr>
          <a:xfrm>
            <a:off x="882720" y="4871880"/>
            <a:ext cx="338040" cy="3384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29" descr="&amp;Kcy;&amp;acy;&amp;rcy;&amp;tcy;&amp;icy;&amp;ncy;&amp;kcy;&amp;icy; &amp;pcy;&amp;ocy; &amp;zcy;&amp;acy;&amp;pcy;&amp;rcy;&amp;ocy;&amp;scy;&amp;ucy; &amp;ocy;&amp;tcy;&amp;chcy;&amp;iecy;&amp;tcy; &amp;icy;&amp;kcy;&amp;ocy;&amp;ncy;&amp;kcy;&amp;acy;"/>
          <p:cNvPicPr/>
          <p:nvPr/>
        </p:nvPicPr>
        <p:blipFill>
          <a:blip r:embed="rId6"/>
          <a:stretch/>
        </p:blipFill>
        <p:spPr>
          <a:xfrm>
            <a:off x="901800" y="5327640"/>
            <a:ext cx="323640" cy="324000"/>
          </a:xfrm>
          <a:prstGeom prst="rect">
            <a:avLst/>
          </a:prstGeom>
          <a:ln w="0">
            <a:noFill/>
          </a:ln>
        </p:spPr>
      </p:pic>
      <p:sp>
        <p:nvSpPr>
          <p:cNvPr id="634" name="AutoShape 31"/>
          <p:cNvSpPr/>
          <p:nvPr/>
        </p:nvSpPr>
        <p:spPr>
          <a:xfrm>
            <a:off x="1697040" y="-91440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AutoShape 33"/>
          <p:cNvSpPr/>
          <p:nvPr/>
        </p:nvSpPr>
        <p:spPr>
          <a:xfrm>
            <a:off x="1697040" y="-91440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6" name="Picture 35" descr="MoBill-EnergoTrade"/>
          <p:cNvPicPr/>
          <p:nvPr/>
        </p:nvPicPr>
        <p:blipFill>
          <a:blip r:embed="rId7"/>
          <a:stretch/>
        </p:blipFill>
        <p:spPr>
          <a:xfrm>
            <a:off x="10207800" y="0"/>
            <a:ext cx="2000160" cy="380880"/>
          </a:xfrm>
          <a:prstGeom prst="rect">
            <a:avLst/>
          </a:prstGeom>
          <a:ln w="0">
            <a:noFill/>
          </a:ln>
        </p:spPr>
      </p:pic>
      <p:sp>
        <p:nvSpPr>
          <p:cNvPr id="637" name="TextBox 19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AAD7-7A55-4DE3-A20E-83F9B2DEF43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/>
          </p:nvPr>
        </p:nvSpPr>
        <p:spPr>
          <a:xfrm>
            <a:off x="838080" y="1714680"/>
            <a:ext cx="575784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чет контрагентов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5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требителей – юридических лиц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5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ставщиков и производителей электроэнерги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5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етевых организаци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0" name="Picture 11" descr="http://www.eskzgroup.ru/upload/medialibrary/33a/33a2f94402b4a50324fbe8a341848534.png"/>
          <p:cNvPicPr/>
          <p:nvPr/>
        </p:nvPicPr>
        <p:blipFill>
          <a:blip r:embed="rId1"/>
          <a:srcRect l="22781" t="15661" r="23231" b="9219"/>
          <a:stretch/>
        </p:blipFill>
        <p:spPr>
          <a:xfrm>
            <a:off x="6738840" y="1531800"/>
            <a:ext cx="4757760" cy="4683240"/>
          </a:xfrm>
          <a:prstGeom prst="rect">
            <a:avLst/>
          </a:prstGeom>
          <a:ln w="0">
            <a:noFill/>
          </a:ln>
        </p:spPr>
      </p:pic>
      <p:sp>
        <p:nvSpPr>
          <p:cNvPr id="641" name="Rectangle 4"/>
          <p:cNvSpPr/>
          <p:nvPr/>
        </p:nvSpPr>
        <p:spPr>
          <a:xfrm>
            <a:off x="838080" y="3643200"/>
            <a:ext cx="619452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бота с договорам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5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Энергоснабже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5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упли-продажи электроэнергии и мощнос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5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казания услуг по передаче электрической энерги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5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упли-продажи электрической энергии в целях компенсации потер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: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контрагенты и договор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3" name="Picture 35" descr="MoBill-EnergoTrade"/>
          <p:cNvPicPr/>
          <p:nvPr/>
        </p:nvPicPr>
        <p:blipFill>
          <a:blip r:embed="rId2"/>
          <a:stretch/>
        </p:blipFill>
        <p:spPr>
          <a:xfrm>
            <a:off x="10207800" y="0"/>
            <a:ext cx="2000160" cy="380880"/>
          </a:xfrm>
          <a:prstGeom prst="rect">
            <a:avLst/>
          </a:prstGeom>
          <a:ln w="0">
            <a:noFill/>
          </a:ln>
        </p:spPr>
      </p:pic>
      <p:sp>
        <p:nvSpPr>
          <p:cNvPr id="644" name="TextBox 7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B520-8540-4974-A7BD-19064BF94A3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Rectangle 14"/>
          <p:cNvSpPr/>
          <p:nvPr/>
        </p:nvSpPr>
        <p:spPr>
          <a:xfrm>
            <a:off x="790560" y="1643040"/>
            <a:ext cx="8474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бота в системе осуществляется с помощью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нтуитивно понятного </a:t>
            </a:r>
            <a:r>
              <a:rPr b="0" lang="ru-RU" sz="1800" spc="-1" strike="noStrike">
                <a:solidFill>
                  <a:srgbClr val="ff3c3c"/>
                </a:solidFill>
                <a:latin typeface="Verdana"/>
              </a:rPr>
              <a:t>веб-интерфейс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бочие места – это веб-страницы, доступны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о всех популярных браузера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7" name="Picture 16" descr="D:\WORKS\MoBill-EnergoTrade\Doc\Документация\Новое\Картинки оригиналы\клиенты 2.png"/>
          <p:cNvPicPr/>
          <p:nvPr/>
        </p:nvPicPr>
        <p:blipFill>
          <a:blip r:embed="rId1"/>
          <a:stretch/>
        </p:blipFill>
        <p:spPr>
          <a:xfrm>
            <a:off x="7640640" y="3263760"/>
            <a:ext cx="4000320" cy="28800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8" descr="&amp;Kcy;&amp;acy;&amp;rcy;&amp;tcy;&amp;icy;&amp;ncy;&amp;kcy;&amp;icy; &amp;pcy;&amp;ocy; &amp;zcy;&amp;acy;&amp;pcy;&amp;rcy;&amp;ocy;&amp;scy;&amp;ucy; &amp;ocy;&amp;scy;&amp;ncy;&amp;ocy;&amp;vcy;&amp;ncy;&amp;ycy;&amp;iecy; &amp;bcy;&amp;rcy;&amp;acy;&amp;ucy;&amp;zcy;&amp;iecy;&amp;rcy;&amp;ycy;"/>
          <p:cNvPicPr/>
          <p:nvPr/>
        </p:nvPicPr>
        <p:blipFill>
          <a:blip r:embed="rId2"/>
          <a:srcRect l="9149" t="0" r="57927" b="0"/>
          <a:stretch/>
        </p:blipFill>
        <p:spPr>
          <a:xfrm>
            <a:off x="8458200" y="1571760"/>
            <a:ext cx="2066760" cy="85716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8" descr="&amp;Kcy;&amp;acy;&amp;rcy;&amp;tcy;&amp;icy;&amp;ncy;&amp;kcy;&amp;icy; &amp;pcy;&amp;ocy; &amp;zcy;&amp;acy;&amp;pcy;&amp;rcy;&amp;ocy;&amp;scy;&amp;ucy; &amp;ocy;&amp;scy;&amp;ncy;&amp;ocy;&amp;vcy;&amp;ncy;&amp;ycy;&amp;iecy; &amp;bcy;&amp;rcy;&amp;acy;&amp;ucy;&amp;zcy;&amp;iecy;&amp;rcy;&amp;ycy;"/>
          <p:cNvPicPr/>
          <p:nvPr/>
        </p:nvPicPr>
        <p:blipFill>
          <a:blip r:embed="rId3"/>
          <a:srcRect l="41159" t="0" r="24089" b="0"/>
          <a:stretch/>
        </p:blipFill>
        <p:spPr>
          <a:xfrm>
            <a:off x="8453520" y="2428920"/>
            <a:ext cx="1987560" cy="78084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20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4"/>
          <a:stretch/>
        </p:blipFill>
        <p:spPr>
          <a:xfrm>
            <a:off x="938160" y="3560760"/>
            <a:ext cx="1231920" cy="123048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14"/>
          <p:cNvSpPr/>
          <p:nvPr/>
        </p:nvSpPr>
        <p:spPr>
          <a:xfrm>
            <a:off x="2208240" y="3565440"/>
            <a:ext cx="5432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нтрагенты, договоры, точки поставки и другие объекты описываются в собственных </a:t>
            </a:r>
            <a:r>
              <a:rPr b="0" lang="ru-RU" sz="1600" spc="-1" strike="noStrike">
                <a:solidFill>
                  <a:srgbClr val="ff3c3c"/>
                </a:solidFill>
                <a:latin typeface="Verdana"/>
              </a:rPr>
              <a:t>карточках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в виде привычных окон: открыл – изменил – сохрани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Прямоугольник 20"/>
          <p:cNvSpPr/>
          <p:nvPr/>
        </p:nvSpPr>
        <p:spPr>
          <a:xfrm>
            <a:off x="2208240" y="5300640"/>
            <a:ext cx="543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Хранение и изменение всех необходимых реквизитов с историей измен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: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нтерфейс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4" name="Picture 2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5">
            <a:lum bright="18000"/>
          </a:blip>
          <a:stretch/>
        </p:blipFill>
        <p:spPr>
          <a:xfrm>
            <a:off x="915840" y="5000760"/>
            <a:ext cx="1214640" cy="12142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35" descr="MoBill-EnergoTrade"/>
          <p:cNvPicPr/>
          <p:nvPr/>
        </p:nvPicPr>
        <p:blipFill>
          <a:blip r:embed="rId6"/>
          <a:stretch/>
        </p:blipFill>
        <p:spPr>
          <a:xfrm>
            <a:off x="10207800" y="0"/>
            <a:ext cx="2000160" cy="380880"/>
          </a:xfrm>
          <a:prstGeom prst="rect">
            <a:avLst/>
          </a:prstGeom>
          <a:ln w="0">
            <a:noFill/>
          </a:ln>
        </p:spPr>
      </p:pic>
      <p:sp>
        <p:nvSpPr>
          <p:cNvPr id="656" name="TextBox 12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Номер слайда 5"/>
          <p:cNvSpPr/>
          <p:nvPr/>
        </p:nvSpPr>
        <p:spPr>
          <a:xfrm>
            <a:off x="8737560" y="6245280"/>
            <a:ext cx="264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76DE-E718-47FB-B905-02C5B273A5F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/>
          </p:nvPr>
        </p:nvSpPr>
        <p:spPr>
          <a:xfrm>
            <a:off x="5976720" y="1714680"/>
            <a:ext cx="6048360" cy="40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чет сложных схем подключени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2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ногоуровневые связи потребителей и </a:t>
            </a:r>
            <a:r>
              <a:rPr b="0" lang="ru-RU" sz="1800" spc="-1" strike="noStrike">
                <a:solidFill>
                  <a:srgbClr val="ff3c3c"/>
                </a:solidFill>
                <a:latin typeface="Verdana"/>
              </a:rPr>
              <a:t>субпотребителе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электроэнерг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2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вязка потребителей к поставщикам и сетевым компания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2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очки поставк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2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очки уч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2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боры учета (счетчики, трансформаторы тока и напряжения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9" name="Picture 11" descr="http://ok-t.ru/studopedia/baza13/264447180228.files/image104.gif"/>
          <p:cNvPicPr/>
          <p:nvPr/>
        </p:nvPicPr>
        <p:blipFill>
          <a:blip r:embed="rId1">
            <a:lum contrast="90000"/>
          </a:blip>
          <a:stretch/>
        </p:blipFill>
        <p:spPr>
          <a:xfrm>
            <a:off x="623880" y="1643040"/>
            <a:ext cx="5410080" cy="3500640"/>
          </a:xfrm>
          <a:prstGeom prst="rect">
            <a:avLst/>
          </a:prstGeom>
          <a:ln w="0">
            <a:noFill/>
          </a:ln>
        </p:spPr>
      </p:pic>
      <p:sp>
        <p:nvSpPr>
          <p:cNvPr id="660" name="Rectangle 4"/>
          <p:cNvSpPr/>
          <p:nvPr/>
        </p:nvSpPr>
        <p:spPr>
          <a:xfrm>
            <a:off x="695160" y="5072040"/>
            <a:ext cx="75438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акж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2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чет установки и снятия приборов учета (акты замены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2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ниторинг поверки приборов учета и уведомление пользователей о сроках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7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зможности системы: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хема подключе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2" name="Picture 35" descr="MoBill-EnergoTrade"/>
          <p:cNvPicPr/>
          <p:nvPr/>
        </p:nvPicPr>
        <p:blipFill>
          <a:blip r:embed="rId2"/>
          <a:stretch/>
        </p:blipFill>
        <p:spPr>
          <a:xfrm>
            <a:off x="10207800" y="0"/>
            <a:ext cx="2000160" cy="380880"/>
          </a:xfrm>
          <a:prstGeom prst="rect">
            <a:avLst/>
          </a:prstGeom>
          <a:ln w="0">
            <a:noFill/>
          </a:ln>
        </p:spPr>
      </p:pic>
      <p:sp>
        <p:nvSpPr>
          <p:cNvPr id="663" name="TextBox 7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8:12:36Z</dcterms:created>
  <dc:creator>ООО "Мобилл плюс"</dc:creator>
  <dc:description/>
  <dc:language>en-US</dc:language>
  <cp:lastModifiedBy>Андрей</cp:lastModifiedBy>
  <dcterms:modified xsi:type="dcterms:W3CDTF">2017-04-03T10:43:08Z</dcterms:modified>
  <cp:revision>341</cp:revision>
  <dc:subject>MoBill-EnergoTrade Расчет энергосбытовых услуг</dc:subject>
  <dc:title>Презентация</dc:title>
</cp:coreProperties>
</file>