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6.wmf" ContentType="image/x-wmf"/>
  <Override PartName="/ppt/media/image1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9F85-29A2-4ACC-9489-EF3928E10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A41E-5142-4944-B0F7-8C28A18BF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FBE-D374-4F3F-BBDC-5E6884640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-сервер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й 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с внешними системами (бухгалтерский учет, документооборот, системы управления предприят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1812-70DC-46EC-A717-46036CDBE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805-9259-4CF5-8368-CD3B79C6D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5FD-23B4-4BE3-A3ED-58EDC9381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B1D1-98DD-488F-9015-3136D5CF0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70D-5F32-40C2-8084-E05CA005D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4FF-E3D0-43E2-8D20-A016E7CA3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F1A-A956-4C49-A52C-57C004ABE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965-145E-4016-955E-ED68B85CF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45D8-3AC7-4B44-B685-B7560FD49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BA9E-AF05-4D32-8FE3-075C73068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D938-38D0-4718-9152-9EF6178C3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BF43-17DC-445F-9372-D8BC05CF3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F8CF-6D53-499F-AF90-A8B88BAA5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EF6-5C81-4470-A12C-ABFDE771C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86B3-C0AE-42BC-A472-CAA20ED95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85D-CB0A-458A-B69F-92A2FF8E1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9BB6-F515-45C0-BD42-9A14899D1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5739-8BA5-4DF0-8E95-66077505F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сертифицированн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взаиморасчетов согласно Правил применения АСР (приказ Министерства информационных технологий и связи РФ №73 от 02.07.2007). Сертификат соответ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Д – Сертификат ФСТЭК 3257 по 4-му уровню контроля от недекларированных возможностей и 1-му классу защищенности от несанкционированного доступа, что обеспечивает возможность учета персональных данных 2-го класса ИСПДн (информационных систем персональных данны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нзия на телематические услуги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провождается Мобилл плюс, а это знач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временное обслу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ое обслу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заказны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СУБ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De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беспечивает жесткий контроль на всех уровнях – руководство, начальники отделов, исполн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2FC-7B68-4B77-A338-345183519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1A50-26ED-459A-9831-D43ABE490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4D52-75E1-4412-8822-E02BC034C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AB7B-8D67-425E-875F-B3DB2C835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164A-EC6A-4CD2-8164-09B30AA67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конвергентн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местной, внутризоновой, междугородной и международной телефонной связ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х сетей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подвижной ради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связи по предоставлению каналов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связи по передаче данных (в том числе для целей передачи голосовой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матические услуги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связи для целей кабельного вещания, эфирного вещания, проводного радиовещ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не только за услуги связи, но и периодические и разовые услуги сопутствующих отраслей – услуг ЖКХ, услуг охранных и пожарных компаний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FA5-0732-48A1-B128-2559157C9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Р MoBill позволяет не только автоматизировать работу оператора, но и получить экономическую выгоду за сч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я расходов и трудозатрат на обслуживание системы и автоматизации рути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го контроля счетов выставляемых поставщикам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я расходов на серверное и клиентское оборудование за счет используемой СУБД «Cache» фирмы Inter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яет предотвратить необоснован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B2DB-439C-42E2-BB15-130A3AE30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конфигурируем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резе начислений можно вести раздельный или объединенный учет по видам услуг по лицевым сче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ьный учет может относится даже к разным предприятиям связи. (Телефонию предоставляет одно предприятие, Интернет друг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линг – кредитно-авансов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сления в начале месяца и в конц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задолженности по текущему состоянию и по состоянию за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блокирование доступа к услугам при задолж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A243-771A-4BC6-B007-A2831FAF7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-сервер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й 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с внешними системами (бухгалтерский учет, документооборот, системы управления предприят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185-5E02-460A-9E3A-F832CB13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E60-FC5F-45E0-9C38-E686417B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625C0-4540-4D0F-99C9-A80A6E23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8E15D-9879-4644-917F-013968A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5C42D-1DB9-4714-97C0-9E10186C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B7455-EA7D-44A3-B9E0-30218C2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E3207-39C3-46DB-8224-04EB2A8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5B15-9727-4528-8EB7-F51392B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1D834-E8F8-4B59-B34E-87536692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649C9-48AE-44E1-958C-BF4E5CB5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A5EC5-B0C6-497A-9543-A62946AB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DF437-88D6-4112-A002-27476C51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49D-8AEF-4E81-8C72-36C4CE6E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87400-2397-4DA5-8AD8-E303421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E478A-8D21-4607-B480-54B3642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6E36-EFED-4E16-AA0A-0B487F8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8D478-3E62-4433-A4AD-56B2B9E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65844-B1BD-4433-AB1A-0FAAC07D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068E7-B814-44AA-89B2-6400295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295A8-A9E1-4BA8-805B-05E417E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65935-74DE-4E22-B850-5B31696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96160-89F4-4BA9-8A83-66FAD38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1BF2E-E723-42A5-AE89-A96AB0D5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E68-B42E-410F-9BAA-40D95201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629ED-DD32-46F6-9881-D8C57012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A6907-A883-49B4-BABF-1C5C09DE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EC8D0-6FBA-4AA2-BFDB-1DA834B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B7435-C2BA-4578-88F1-49C07B6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2D6D9-C3CB-41A5-A611-CB6F75D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9EE3-06A1-4675-AF51-F2F6D044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FCAB1-BC00-40C1-8F59-BDD74D23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F40B9-DE37-42E2-9F80-21CF472C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5DCF8-7ACE-4489-B0D1-79E0C04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E8FB4-0158-4C38-BDC7-CC67A00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9EED-0FB4-4939-B971-79225444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B81EE-C573-44C9-B545-9705FF28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01D0A-77F4-4FAC-A1BC-DB70546E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7764D-84BD-4E18-AAD0-ED330456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FE16D-A0B7-419A-8130-9CBB13E0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82845-EF88-4160-83B8-DAE7C7FF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359B2-E14F-49C7-A573-423D5F4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B901C-E0BC-4487-B735-6B67976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1D0A5-9C5B-4298-B526-14FEADE5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5ECF1-305F-4AB7-86AD-BC4B01A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8DBF0-9365-445B-8AA0-E00F9DFA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C960-4735-4978-B8FC-EB745929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43736-90AD-433B-B3E0-3FE625A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BBC52-725D-4A33-8707-3BA04DA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CA7C1-4D5E-4888-87E2-034177C5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EA023-29C3-4955-B846-CC6644C6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9169A-749A-492E-816B-F20B7672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8CA4D-389A-40B5-A461-AD15AA7C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12656-E971-4B7E-91A9-6939489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55025-0B06-427E-A741-703E10EE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181F9-115E-4898-BDD6-A6636D8E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9F7CB-5A08-4A65-9123-21185EF4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EA6-DAF6-4051-BAE6-6695407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1333F-6E69-4645-BACC-571C5758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BEE99-BA26-459E-AC1C-4D3A476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5F487-A450-4E9D-BCC7-4FF134B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5BD5C-5220-4E15-BF82-44E4407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93CDA-ABED-4D34-94B4-F23EB00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6CF22-DAE7-4032-9D1B-CA39ED47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B3AD2-885D-4F59-93B9-71DB4D32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401-4635-4826-B41D-19AC551B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227D-D638-467C-ABD2-E5BB5F7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D71-3105-40BE-88BA-982625A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FC5D-E458-4B5E-8F87-C368936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831-5C7F-4221-8ED6-93CC2C29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EC27-9F67-4F84-94BF-A6A1D71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F2FE-BCF0-41B4-91C8-9441138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7300-EFC4-4518-BF90-8DCD813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889D-7B2E-4474-AC98-1C003BA7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EF53-26B7-4830-AAF9-0E2B9F53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8E5E-C1E9-42A1-9E34-4E7B984B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444C-05EA-443F-B419-719953ED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3C03-7C41-4C8D-A362-1A82849E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DE66-843F-41A2-90A1-AF70B998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0DC0-1D63-4ADB-A20E-D230D4C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84B-E613-48EE-8678-11C9116A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3523-B5E1-42AC-9F9E-5CC8EFA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A077-906D-47C4-A072-E96898E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7E83-2C11-4BAC-954D-FA934CF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36D5-859F-41F1-B64C-C5AE9C9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A91F-D42B-490B-A28B-B452565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13AF-A4B6-4812-8D2A-4D66C310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7231-FC45-4BA5-9F16-B03F9C23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30F1-4EE9-4CD8-B4F5-221BE6E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847A-FD0C-4D3D-AA92-AC7E43F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BB01-4917-4758-84B5-7B568B9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54-3D9B-4125-B805-22AF0BA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CA75-58CF-431D-BF0E-C7D0732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6BE5-B029-4C45-8D59-0C160E55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5E00-5A4D-492B-BA6B-6198F18C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1353-50F1-4F66-979A-2A3EF13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839C0-ACFD-4EE6-A53F-D35AE90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F46A-C661-462A-A04F-936ACE4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D092-AE2B-41F3-ACC5-B15CBDA1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F137-DBF6-4C1A-9E61-FB0CAE65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BF5B-745F-47C2-AA0B-AA2F5DB4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E0AD-9512-44A7-A51E-F463519E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34F-76EC-41D1-A6EC-2B0CF849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94D1-5A49-43E2-853E-A79411B3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52754-F474-4AED-9B78-6A38F2E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1D56-3B31-4F35-A017-A7662965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34C5-D771-4AA7-9E1F-83BF528E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861C-E380-4B50-B8BB-640357F4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2C3C-1B4E-4DD9-A58C-C032B19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344E-DF30-486D-847D-8A0A7F4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64D2-E235-4801-9A31-1099143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9D03-72A2-4349-8B3B-B42B052E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623C-FD66-4F00-97D0-49E87D78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F2B-32B0-4842-A055-8754C9BD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9FC9-AD66-446B-9C83-AEEC266D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37151-C094-4FDD-A85C-7C646B87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8252-6FE6-4D3B-BD98-F458B22B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24EF6-484B-4F5C-879E-CB73884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D823-1A8D-43CD-89D6-F14B877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5D08C-67A8-4EA9-982F-E2C05EA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E44A-A5B0-4689-9764-A0F2EEFF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81DE-E7AF-4166-8368-BAD24B2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AA18-74F4-49A8-B595-D2BDEE99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B911-2AA6-428B-9964-7EC1358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66B-01FA-4C7A-8A83-2CDB6F3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046A8-D31A-457C-A994-FAEC508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3507-7203-407A-9B7E-CBC2FD8F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68AA-E51D-471E-AD6A-91F6EC87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BED3-EFB9-4767-A656-56084632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C786-C21E-458E-9FC5-98428F1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A0BC4-63A8-4FAE-8B1A-2824F6F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CECB3-99B7-4B6F-8B71-17BEC519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AB1C-8F7C-45F7-BFC7-E87A1141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F290-DCC6-448E-B19E-07243FA8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BAC33-7F97-496D-A69A-C5B3736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8B9-0B08-4A8E-9522-4F1F49F9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A064-F9B7-475E-A04C-05B97940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2DFB-AD52-4244-ACAC-355A3D1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CDD2-8D78-476C-890E-C3F46EFF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35D3-68C5-4728-8574-DACE141E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5328-5FD5-4E37-B9D2-772C4D8D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6031B-C351-4D00-BC3F-6E541A1B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A74E1-813F-4BE7-BDCE-254AB1EA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80DAF-A52B-49E1-99F7-E9C4CA35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F6F5-120A-4027-B24A-04EE2D44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AE4B5-5B12-4FC9-925E-A408C30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D89-942A-47AF-B195-FBB11A7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E8A0-3015-4174-A181-57CBDD88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0A404-FF9E-4534-8E45-A9C2860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0493D-59D7-499F-AC9B-73B2F34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1456-1CA6-407F-9374-93D4188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D28C2-4398-42BD-A945-04D0546B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C5F1-670C-4BBE-8596-63AA6B24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11D16-1E98-4D7C-A0A8-31ECA9D6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9FF7A-7EE4-4F34-ACB3-CC8F8474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C611B-BCE9-4AEB-A2D9-1FB5BAD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707C-C3F8-4461-973D-821405E0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DD0C-1D71-4875-B27D-CA25D0C162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3D05-EF2D-4A29-B6DE-413CC99FA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877-4245-4F65-8300-8C34815743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6CF-9922-4B03-A3BE-55E21915A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C89-0683-45FB-B082-CBB5B5CDC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80D-B379-4472-BF67-9AA62EDB2A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AA98-766C-40A9-AB86-3471AAE501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961-720D-4C77-8423-D2FBBF724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2A62-9DEB-4BAA-B215-BC272F3FDE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E9B5-B4BA-4614-814B-131AFA1D22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20D-AD8B-482D-BB6B-65A445406B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7417-0DF7-4974-8B2A-1EF0D47E7E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563A-5028-4730-8B7F-311FEED403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4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58160" y="0"/>
            <a:ext cx="3610080" cy="15429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809640" y="1714680"/>
            <a:ext cx="5929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33"/>
                </a:solidFill>
                <a:latin typeface="Microsoft New Tai Lue"/>
              </a:rPr>
              <a:t>АСР </a:t>
            </a:r>
            <a:r>
              <a:rPr b="0" lang="en-US" sz="5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5400" spc="-1" strike="noStrike">
                <a:solidFill>
                  <a:srgbClr val="333333"/>
                </a:solidFill>
                <a:latin typeface="Microsoft New Tai Lue"/>
              </a:rPr>
              <a:t>Bill</a:t>
            </a:r>
            <a:br>
              <a:rPr sz="4800"/>
            </a:br>
            <a:r>
              <a:rPr b="0" lang="ru-RU" sz="40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Конвергентная автоматизированна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система расче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Shape 103" descr=""/>
          <p:cNvPicPr/>
          <p:nvPr/>
        </p:nvPicPr>
        <p:blipFill>
          <a:blip r:embed="rId4"/>
          <a:srcRect l="2220" t="7183" r="3324" b="4188"/>
          <a:stretch/>
        </p:blipFill>
        <p:spPr>
          <a:xfrm>
            <a:off x="6953400" y="2176560"/>
            <a:ext cx="4270320" cy="198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C36F-118C-4F54-8FAC-0588FF5D75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64064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заиморасчетов с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ператорами связ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9" name="Object 9"/>
          <p:cNvGraphicFramePr/>
          <p:nvPr/>
        </p:nvGraphicFramePr>
        <p:xfrm>
          <a:off x="2166840" y="736560"/>
          <a:ext cx="849816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736560"/>
                    <a:ext cx="84981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55A-FAA7-4DE5-9356-C4063FB5DD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начислен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809640" y="1714680"/>
            <a:ext cx="106441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исления за различные типы трафика: информация о вызовах, информация о трафике, информация о предоставлении иных услу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иодические начисления по терминалу (телефонный номер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n-IP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бонент кабельного ТВ, декодер кодированного ТВ и т.п.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бонентская плата по плану, услугам ДВО и д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иодические начисления по договору (аренда, ДВ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овые начисления: подключение, разовые услу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совые корректировки начислений, рассрочка платеж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CE23-8CD5-4A47-BA97-48B72017A3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огомодульная сист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809640" y="1714680"/>
            <a:ext cx="106441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остоит из следующих базовых модуле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по работе с абонент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конфигурирования АС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мониторинга процессов А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L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управления профилями абонентов на коммутаторах, маршрутизатор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netsu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администрирования А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RLoader (Mediation)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загрузчик (модуль предбиллинга) А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Compare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детализированной сверки начислений с провайдер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6289-40F4-4174-9198-2E820FE060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обслуживания абонент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849240" y="1714680"/>
            <a:ext cx="105332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и функ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абонентов, договоров, кошель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иска счетов за оказанные услуги связи абонент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детализации звонков, печать актов свер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счетов, счетов-факту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платежей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термина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зада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грация с КЛАДР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орудования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Picture 11" descr=""/>
          <p:cNvPicPr/>
          <p:nvPr/>
        </p:nvPicPr>
        <p:blipFill>
          <a:blip r:embed="rId1"/>
          <a:stretch/>
        </p:blipFill>
        <p:spPr>
          <a:xfrm>
            <a:off x="7024680" y="3249720"/>
            <a:ext cx="431964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4A85-D615-46E7-BE1D-27FA665380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конфигурирования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809640" y="1643040"/>
            <a:ext cx="10072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яет следующие функц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е логической структуры сети заказч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5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операций опера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1"/>
          <a:stretch/>
        </p:blipFill>
        <p:spPr>
          <a:xfrm>
            <a:off x="7453440" y="3422520"/>
            <a:ext cx="3881160" cy="271152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3"/>
          <p:cNvSpPr/>
          <p:nvPr/>
        </p:nvSpPr>
        <p:spPr>
          <a:xfrm>
            <a:off x="880920" y="2428920"/>
            <a:ext cx="10429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ок устройств (коммутатор, маршрутизатор, кодер и т.п.), обслуживаемых систем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ковые группы (каналы), связывающие коммутаторы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уги Д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периодических и разовых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880920" y="4143240"/>
            <a:ext cx="7429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рифное зонирование опера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рмализации и дисконтные набор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планов обслуживания абон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ые диско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BCF-21EF-45B1-9BDF-DE3269C5EF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мониторинга процесс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809640" y="1643040"/>
            <a:ext cx="105728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воляет проводить контроль за следующими процесс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числения за трафиковые услуги (Тарификация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торная оценка по абоненту, списку, полная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ретарификац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стинг тарификации по каждой из записей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D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809640" y="3500280"/>
            <a:ext cx="7215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слеживание текущего остатка абонен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втоматические начисления суточной абонентской плат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полнение отложенных заданий на изменение профилей абонен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6" name="Picture 11" descr=""/>
          <p:cNvPicPr/>
          <p:nvPr/>
        </p:nvPicPr>
        <p:blipFill>
          <a:blip r:embed="rId1"/>
          <a:stretch/>
        </p:blipFill>
        <p:spPr>
          <a:xfrm>
            <a:off x="7667640" y="3365640"/>
            <a:ext cx="3674880" cy="2706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6916-B261-48AE-B28F-938FBB7F85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управления устройствами доступ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809640" y="1643040"/>
            <a:ext cx="10572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модул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ческое и ручное управление профилями абонентов на оборудовании заказч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пы работы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809640" y="3214800"/>
            <a:ext cx="70722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ение заданий из билл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рпретация синтаксиса задания согласно скрипту , заготовленного для данного типа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ение команд на устройстве доступ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роль за исполнением зад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4" name="Picture 9" descr="MML"/>
          <p:cNvPicPr/>
          <p:nvPr/>
        </p:nvPicPr>
        <p:blipFill>
          <a:blip r:embed="rId1"/>
          <a:stretch/>
        </p:blipFill>
        <p:spPr>
          <a:xfrm>
            <a:off x="7453440" y="2719440"/>
            <a:ext cx="385740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620-0C5C-4B9D-BF38-B5562B9C48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предбиллинг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831960" y="1844640"/>
            <a:ext cx="10572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a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ение файлов с коммутатора п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околу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B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л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локальной директор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ние правил проверки и обработк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D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тройка форматов входящих фай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выходных данных заданного формата независимо от формат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DR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мута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рузка звонковой информации в билл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ие отчетов об отбракованных звонк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урналирование действий сист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5D1B-05FE-4980-B7DB-9D7F96C496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загрузки траф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809640" y="1643040"/>
            <a:ext cx="105728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DRLoad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грузка файлов с коммутатора п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околу в АС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грузка данных из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BC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ов в АС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ие отчетов об отбракованных вызов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урналирование информации о процессе загруз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сть проведени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рификаци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ходе загрузки запис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9" descr=""/>
          <p:cNvPicPr/>
          <p:nvPr/>
        </p:nvPicPr>
        <p:blipFill>
          <a:blip r:embed="rId1"/>
          <a:stretch/>
        </p:blipFill>
        <p:spPr>
          <a:xfrm>
            <a:off x="3524400" y="3963960"/>
            <a:ext cx="51433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0EB7-7835-4170-A3D3-FB4664543B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уль администрир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809640" y="1643040"/>
            <a:ext cx="1064412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ение и функции модуля Администратор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од информации о пользователях сист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составом модулей в сист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доступом пользователей к модулям и их функци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809640" y="3357720"/>
            <a:ext cx="68580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списком редактируемых терминалов (отслеживание и снятие блокирово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политикой паро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локировка оператора (отпус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10" descr=""/>
          <p:cNvPicPr/>
          <p:nvPr/>
        </p:nvPicPr>
        <p:blipFill>
          <a:blip r:embed="rId1"/>
          <a:stretch/>
        </p:blipFill>
        <p:spPr>
          <a:xfrm>
            <a:off x="6953400" y="3322800"/>
            <a:ext cx="4405320" cy="274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D6E0-D1E2-436D-A1C4-83DFFE804F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23880" y="1773000"/>
            <a:ext cx="106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сутствие автоматизации бизнес-процессов ведения договоров с контрагентами и расчета начисл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истематические затраты финансовых и человеческих ресурсов на ручное выполнение рути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длительность выполнения расчетов и прочих процедур, которые можно автоматизирова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достаточное качество результата, учитывая наличие человеческого фактора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частота сбоев процессов из-за отсутствия четкой методики выпол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чем заключается проблем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зчика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Прямоугольник 6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439-48CD-410F-BE04-55CE76D5B7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заиморасчеты с операторами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809640" y="1714680"/>
            <a:ext cx="105728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ет услуг операторов связ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ниверсальная настройка тарифов согласно условиям договоров с провайдерами: местное присоединение, агентские договора, роуминговые соглаш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Формирование отчетов и экспортирование детализации провайдер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верка детализации, предоставленной провайдером, и детализации, полученной от </a:t>
            </a: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ость загрузки детализированных счетов провайдеров и распределения звонков по абонент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FDB3-D826-44D7-82C4-D905C7D624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чный кабинет абон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809640" y="1643040"/>
            <a:ext cx="106441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информации об абонент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статистики по трафику за любой пери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счетов и детализированных счетов за любой пери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текущих начис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мотр платежей абон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809640" y="3929040"/>
            <a:ext cx="62863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на плана обслужи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менение набора услуг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вод и редактирование любимых телефон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числение карт экспресс оплаты на свой сч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9" descr="Issa"/>
          <p:cNvPicPr/>
          <p:nvPr/>
        </p:nvPicPr>
        <p:blipFill>
          <a:blip r:embed="rId1"/>
          <a:srcRect l="0" t="0" r="0" b="7365"/>
          <a:stretch/>
        </p:blipFill>
        <p:spPr>
          <a:xfrm>
            <a:off x="6810480" y="3133800"/>
            <a:ext cx="4527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D68B-3FF8-440D-8E7F-E4633B62AE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ем наличных платеж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819000" y="1643040"/>
            <a:ext cx="72057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гистрация платеж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сение платежей с помощью сканера штрих-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рытие дня без гашения и с гашени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нуление кассовой нумер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чать отчета касси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фискального регистратора (Ф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819000" y="4429080"/>
            <a:ext cx="7848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сение/возврат денег в кассу, не связанных с продажами/возвратам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правочника корреспондирующих сч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правочника типов платеж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7" name="Picture 9" descr="Касса 01"/>
          <p:cNvPicPr/>
          <p:nvPr/>
        </p:nvPicPr>
        <p:blipFill>
          <a:blip r:embed="rId1"/>
          <a:stretch/>
        </p:blipFill>
        <p:spPr>
          <a:xfrm>
            <a:off x="8319960" y="1670040"/>
            <a:ext cx="3062520" cy="2187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Касса 02"/>
          <p:cNvPicPr/>
          <p:nvPr/>
        </p:nvPicPr>
        <p:blipFill>
          <a:blip r:embed="rId2"/>
          <a:stretch/>
        </p:blipFill>
        <p:spPr>
          <a:xfrm>
            <a:off x="9248760" y="3767040"/>
            <a:ext cx="210024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D24E-1594-4370-AA97-DA54E53ACC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вергентный биллинг на СУБД </a:t>
            </a:r>
            <a:r>
              <a:rPr b="0" lang="vi-VN" sz="38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809640" y="1643040"/>
            <a:ext cx="105728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шими достоинствам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требовательность к аппаратным ресур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жественность интерфейсов доступа к ба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птация под требования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евременное техническое обслуживание 24х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37B-9212-4BC2-BCBC-94FDF8403C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заимодействие </a:t>
            </a:r>
            <a:r>
              <a:rPr b="0" lang="ru-RU" sz="40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4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4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 СУБД </a:t>
            </a:r>
            <a:r>
              <a:rPr b="0" lang="vi-VN" sz="38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Rectangle 1054"/>
          <p:cNvSpPr/>
          <p:nvPr/>
        </p:nvSpPr>
        <p:spPr>
          <a:xfrm>
            <a:off x="2290680" y="3857760"/>
            <a:ext cx="7886880" cy="2214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AutoShape 1038"/>
          <p:cNvSpPr/>
          <p:nvPr/>
        </p:nvSpPr>
        <p:spPr>
          <a:xfrm>
            <a:off x="5491080" y="5429160"/>
            <a:ext cx="4572000" cy="571680"/>
          </a:xfrm>
          <a:prstGeom prst="ca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 Box 1056"/>
          <p:cNvSpPr/>
          <p:nvPr/>
        </p:nvSpPr>
        <p:spPr>
          <a:xfrm>
            <a:off x="2290680" y="54291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БД </a:t>
            </a:r>
            <a:r>
              <a:rPr b="0" lang="vi-VN" sz="28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1061"/>
          <p:cNvSpPr/>
          <p:nvPr/>
        </p:nvSpPr>
        <p:spPr>
          <a:xfrm>
            <a:off x="2519280" y="4334040"/>
            <a:ext cx="5639040" cy="714240"/>
          </a:xfrm>
          <a:prstGeom prst="foldedCorner">
            <a:avLst>
              <a:gd name="adj" fmla="val 26226"/>
            </a:avLst>
          </a:prstGeom>
          <a:solidFill>
            <a:srgbClr val="8d8f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дуры и методы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1062"/>
          <p:cNvSpPr/>
          <p:nvPr/>
        </p:nvSpPr>
        <p:spPr>
          <a:xfrm>
            <a:off x="6100920" y="5072040"/>
            <a:ext cx="485640" cy="3571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AutoShape 1073"/>
          <p:cNvSpPr/>
          <p:nvPr/>
        </p:nvSpPr>
        <p:spPr>
          <a:xfrm>
            <a:off x="2062080" y="3381480"/>
            <a:ext cx="2438640" cy="9284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tor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AutoShape 1074"/>
          <p:cNvSpPr/>
          <p:nvPr/>
        </p:nvSpPr>
        <p:spPr>
          <a:xfrm>
            <a:off x="5719680" y="3274920"/>
            <a:ext cx="1676520" cy="1042920"/>
          </a:xfrm>
          <a:prstGeom prst="upDownArrow">
            <a:avLst>
              <a:gd name="adj1" fmla="val 50000"/>
              <a:gd name="adj2" fmla="val 20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AutoShape 1078"/>
          <p:cNvSpPr/>
          <p:nvPr/>
        </p:nvSpPr>
        <p:spPr>
          <a:xfrm>
            <a:off x="8462880" y="3090960"/>
            <a:ext cx="1905120" cy="2338200"/>
          </a:xfrm>
          <a:prstGeom prst="upDownArrow">
            <a:avLst>
              <a:gd name="adj1" fmla="val 50000"/>
              <a:gd name="adj2" fmla="val 3519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8" name="Group 1105"/>
          <p:cNvGrpSpPr/>
          <p:nvPr/>
        </p:nvGrpSpPr>
        <p:grpSpPr>
          <a:xfrm>
            <a:off x="5186520" y="1657440"/>
            <a:ext cx="2895480" cy="1676160"/>
            <a:chOff x="5186520" y="1657440"/>
            <a:chExt cx="2895480" cy="1676160"/>
          </a:xfrm>
        </p:grpSpPr>
        <p:sp>
          <p:nvSpPr>
            <p:cNvPr id="769" name="AutoShape 1080"/>
            <p:cNvSpPr/>
            <p:nvPr/>
          </p:nvSpPr>
          <p:spPr>
            <a:xfrm>
              <a:off x="5186520" y="1668600"/>
              <a:ext cx="2895480" cy="16650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EB-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интерфейс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Bi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Rectangle 1081"/>
            <p:cNvSpPr/>
            <p:nvPr/>
          </p:nvSpPr>
          <p:spPr>
            <a:xfrm>
              <a:off x="5591160" y="1657440"/>
              <a:ext cx="2484000" cy="1188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Rectangle 1082"/>
            <p:cNvSpPr/>
            <p:nvPr/>
          </p:nvSpPr>
          <p:spPr>
            <a:xfrm>
              <a:off x="5192640" y="1946160"/>
              <a:ext cx="2484000" cy="1206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Rectangle 1083"/>
            <p:cNvSpPr/>
            <p:nvPr/>
          </p:nvSpPr>
          <p:spPr>
            <a:xfrm>
              <a:off x="7432560" y="1959120"/>
              <a:ext cx="231480" cy="96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Rectangle 1084"/>
            <p:cNvSpPr/>
            <p:nvPr/>
          </p:nvSpPr>
          <p:spPr>
            <a:xfrm>
              <a:off x="7827840" y="1668600"/>
              <a:ext cx="234720" cy="96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Rectangle 1085"/>
            <p:cNvSpPr/>
            <p:nvPr/>
          </p:nvSpPr>
          <p:spPr>
            <a:xfrm>
              <a:off x="5186520" y="1947960"/>
              <a:ext cx="128520" cy="12060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Rectangle 1086"/>
            <p:cNvSpPr/>
            <p:nvPr/>
          </p:nvSpPr>
          <p:spPr>
            <a:xfrm>
              <a:off x="5584680" y="1657440"/>
              <a:ext cx="128160" cy="117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Rectangle 1087"/>
            <p:cNvSpPr/>
            <p:nvPr/>
          </p:nvSpPr>
          <p:spPr>
            <a:xfrm>
              <a:off x="5389560" y="1801800"/>
              <a:ext cx="2485440" cy="11916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Rectangle 1088"/>
            <p:cNvSpPr/>
            <p:nvPr/>
          </p:nvSpPr>
          <p:spPr>
            <a:xfrm>
              <a:off x="5389560" y="1801800"/>
              <a:ext cx="128160" cy="117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Rectangle 1089"/>
            <p:cNvSpPr/>
            <p:nvPr/>
          </p:nvSpPr>
          <p:spPr>
            <a:xfrm>
              <a:off x="7629480" y="1809720"/>
              <a:ext cx="231480" cy="98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9" name="Group 1091"/>
          <p:cNvGrpSpPr/>
          <p:nvPr/>
        </p:nvGrpSpPr>
        <p:grpSpPr>
          <a:xfrm>
            <a:off x="8310600" y="1652760"/>
            <a:ext cx="2286000" cy="1523520"/>
            <a:chOff x="8310600" y="1652760"/>
            <a:chExt cx="2286000" cy="1523520"/>
          </a:xfrm>
        </p:grpSpPr>
        <p:sp>
          <p:nvSpPr>
            <p:cNvPr id="780" name="AutoShape 1092"/>
            <p:cNvSpPr/>
            <p:nvPr/>
          </p:nvSpPr>
          <p:spPr>
            <a:xfrm>
              <a:off x="8310600" y="1663200"/>
              <a:ext cx="2286000" cy="1513080"/>
            </a:xfrm>
            <a:prstGeom prst="flowChartMultidocument">
              <a:avLst/>
            </a:prstGeom>
            <a:solidFill>
              <a:srgbClr val="4859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Сторон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Rectangle 1093"/>
            <p:cNvSpPr/>
            <p:nvPr/>
          </p:nvSpPr>
          <p:spPr>
            <a:xfrm>
              <a:off x="8629560" y="1652760"/>
              <a:ext cx="1962000" cy="10836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Rectangle 1094"/>
            <p:cNvSpPr/>
            <p:nvPr/>
          </p:nvSpPr>
          <p:spPr>
            <a:xfrm>
              <a:off x="8315280" y="1915920"/>
              <a:ext cx="1962000" cy="108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Rectangle 1095"/>
            <p:cNvSpPr/>
            <p:nvPr/>
          </p:nvSpPr>
          <p:spPr>
            <a:xfrm>
              <a:off x="10083240" y="1926360"/>
              <a:ext cx="183600" cy="88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4" name="Rectangle 1096"/>
            <p:cNvSpPr/>
            <p:nvPr/>
          </p:nvSpPr>
          <p:spPr>
            <a:xfrm>
              <a:off x="10396440" y="1663200"/>
              <a:ext cx="184680" cy="87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5" name="Rectangle 1097"/>
            <p:cNvSpPr/>
            <p:nvPr/>
          </p:nvSpPr>
          <p:spPr>
            <a:xfrm>
              <a:off x="8310600" y="1917000"/>
              <a:ext cx="101160" cy="108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Rectangle 1098"/>
            <p:cNvSpPr/>
            <p:nvPr/>
          </p:nvSpPr>
          <p:spPr>
            <a:xfrm>
              <a:off x="8624880" y="1652760"/>
              <a:ext cx="100800" cy="10836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Rectangle 1099"/>
            <p:cNvSpPr/>
            <p:nvPr/>
          </p:nvSpPr>
          <p:spPr>
            <a:xfrm>
              <a:off x="8471520" y="1783800"/>
              <a:ext cx="1962000" cy="10800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Rectangle 1100"/>
            <p:cNvSpPr/>
            <p:nvPr/>
          </p:nvSpPr>
          <p:spPr>
            <a:xfrm>
              <a:off x="8471520" y="1784880"/>
              <a:ext cx="100800" cy="105840"/>
            </a:xfrm>
            <a:prstGeom prst="rect">
              <a:avLst/>
            </a:prstGeom>
            <a:solidFill>
              <a:srgbClr val="dae0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Rectangle 1101"/>
            <p:cNvSpPr/>
            <p:nvPr/>
          </p:nvSpPr>
          <p:spPr>
            <a:xfrm>
              <a:off x="10239480" y="1791360"/>
              <a:ext cx="183240" cy="88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0" name="Group 1103"/>
          <p:cNvGrpSpPr/>
          <p:nvPr/>
        </p:nvGrpSpPr>
        <p:grpSpPr>
          <a:xfrm>
            <a:off x="1833480" y="1643040"/>
            <a:ext cx="3048120" cy="1828800"/>
            <a:chOff x="1833480" y="1643040"/>
            <a:chExt cx="3048120" cy="1828800"/>
          </a:xfrm>
        </p:grpSpPr>
        <p:sp>
          <p:nvSpPr>
            <p:cNvPr id="791" name="AutoShape 1040"/>
            <p:cNvSpPr/>
            <p:nvPr/>
          </p:nvSpPr>
          <p:spPr>
            <a:xfrm>
              <a:off x="1833480" y="1655640"/>
              <a:ext cx="3048120" cy="1816200"/>
            </a:xfrm>
            <a:prstGeom prst="flowChartMultidocument">
              <a:avLst/>
            </a:prstGeom>
            <a:solidFill>
              <a:srgbClr val="0096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Интерфейс 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MoBi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Delphi, C++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Rectangle 1044"/>
            <p:cNvSpPr/>
            <p:nvPr/>
          </p:nvSpPr>
          <p:spPr>
            <a:xfrm>
              <a:off x="2259000" y="1643040"/>
              <a:ext cx="2616120" cy="13032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Rectangle 1046"/>
            <p:cNvSpPr/>
            <p:nvPr/>
          </p:nvSpPr>
          <p:spPr>
            <a:xfrm>
              <a:off x="1839960" y="1959120"/>
              <a:ext cx="2616120" cy="12996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Rectangle 1047"/>
            <p:cNvSpPr/>
            <p:nvPr/>
          </p:nvSpPr>
          <p:spPr>
            <a:xfrm>
              <a:off x="4197240" y="1971720"/>
              <a:ext cx="244440" cy="106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Rectangle 1049"/>
            <p:cNvSpPr/>
            <p:nvPr/>
          </p:nvSpPr>
          <p:spPr>
            <a:xfrm>
              <a:off x="4614840" y="1655640"/>
              <a:ext cx="245880" cy="104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Rectangle 1050"/>
            <p:cNvSpPr/>
            <p:nvPr/>
          </p:nvSpPr>
          <p:spPr>
            <a:xfrm>
              <a:off x="1833480" y="1960560"/>
              <a:ext cx="135000" cy="130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Rectangle 1052"/>
            <p:cNvSpPr/>
            <p:nvPr/>
          </p:nvSpPr>
          <p:spPr>
            <a:xfrm>
              <a:off x="2252520" y="1643040"/>
              <a:ext cx="135000" cy="128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Rectangle 1064"/>
            <p:cNvSpPr/>
            <p:nvPr/>
          </p:nvSpPr>
          <p:spPr>
            <a:xfrm>
              <a:off x="2047680" y="1801800"/>
              <a:ext cx="2616480" cy="13032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Rectangle 1065"/>
            <p:cNvSpPr/>
            <p:nvPr/>
          </p:nvSpPr>
          <p:spPr>
            <a:xfrm>
              <a:off x="2047680" y="1806480"/>
              <a:ext cx="135000" cy="128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Rectangle 1066"/>
            <p:cNvSpPr/>
            <p:nvPr/>
          </p:nvSpPr>
          <p:spPr>
            <a:xfrm>
              <a:off x="4405320" y="1816200"/>
              <a:ext cx="244440" cy="106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01" name="Picture 3" descr="C:\Users\denis\Pictures\Internet_Explorer.png"/>
          <p:cNvPicPr/>
          <p:nvPr/>
        </p:nvPicPr>
        <p:blipFill>
          <a:blip r:embed="rId1"/>
          <a:stretch/>
        </p:blipFill>
        <p:spPr>
          <a:xfrm>
            <a:off x="5319720" y="2643120"/>
            <a:ext cx="541440" cy="54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F3E8-97D8-4035-B15C-978F5D6DDD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интегр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Прямоугольник 6"/>
          <p:cNvSpPr/>
          <p:nvPr/>
        </p:nvSpPr>
        <p:spPr>
          <a:xfrm>
            <a:off x="809640" y="1714680"/>
            <a:ext cx="105728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ая разработка «заказных» модулей и функций Исполнител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разработки отчетов специалистами Заказч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е с популярными бухгалтерскими программами, системами «Клиент-Банк»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Прямоугольник 7"/>
          <p:cNvSpPr/>
          <p:nvPr/>
        </p:nvSpPr>
        <p:spPr>
          <a:xfrm>
            <a:off x="809640" y="3357720"/>
            <a:ext cx="105728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данный момент система взаимодействует со следующими программными комплекс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ПП (Единая система приема платеже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«Город» банка УралСи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тежные системы: ОСМП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berPl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С:Бухгалтерия, Лексема (Эко-Соф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ные системы «Клиент-Банк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DEE8-786C-42BF-9ACA-0CABA85050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интегр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Прямоугольник 6"/>
          <p:cNvSpPr/>
          <p:nvPr/>
        </p:nvSpPr>
        <p:spPr>
          <a:xfrm>
            <a:off x="809640" y="1866960"/>
            <a:ext cx="1042992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и интеграции с системами бухгалтерского уче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нхронизация необходимых справочников НСИ (услуги, контрагенты, договора, финансовые документы и т.п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грузка информации об абонентах, договорах, терминал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грузка разовых, периодических начисл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грузка принятых платежей с платежных систем, касс, электронных реес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грузка платежей с систем бухгалтерского у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0AE9-8B4D-4C75-B409-07A122E64F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риптозащита СУБ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Rectangle 27"/>
          <p:cNvSpPr/>
          <p:nvPr/>
        </p:nvSpPr>
        <p:spPr>
          <a:xfrm>
            <a:off x="809640" y="251028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Д Caché® от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ертифицировано 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СТЭ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ертификат №325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® сертифицировано на высокие уровни защищенности в соответствии требованиям безопасности информации, установленные РД Гостехкомиссии РФ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класс защищен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Средства вычислительной техники. Защита о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санкционированного доступа 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казатели защищенности от несанкционированного доступа к информации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Защита от несанкционированного доступа к информации. Часть 1. Программное обеспечение средств защиты информации. Классифика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уровню контроля отсутствия недекларированных возможност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8" name="Picture 11" descr="&amp;Kcy;&amp;acy;&amp;rcy;&amp;tcy;&amp;icy;&amp;ncy;&amp;kcy;&amp;icy; &amp;pcy;&amp;ocy; &amp;zcy;&amp;acy;&amp;pcy;&amp;rcy;&amp;ocy;&amp;scy;&amp;ucy; &amp;zcy;&amp;acy;&amp;shchcy;&amp;icy;&amp;t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0024920" y="14292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969-778F-4751-B08B-9A1CA18E9D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ертификаты, лицензии, дипло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Прямоугольник 6"/>
          <p:cNvSpPr/>
          <p:nvPr/>
        </p:nvSpPr>
        <p:spPr>
          <a:xfrm>
            <a:off x="738360" y="1928880"/>
            <a:ext cx="457200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l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ртифицированный продукт в системе «Связь» до 5 млн. абон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БД Caché сертифицировано в ФСТЭК. Сертификат №325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ртифицированные разработч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6" name="Picture 3" descr="Сертификат. Полное изображение "/>
          <p:cNvPicPr/>
          <p:nvPr/>
        </p:nvPicPr>
        <p:blipFill>
          <a:blip r:embed="rId1"/>
          <a:stretch/>
        </p:blipFill>
        <p:spPr>
          <a:xfrm>
            <a:off x="8864640" y="2584440"/>
            <a:ext cx="4572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7" name="Picture 4" descr="Сертификат. Полное изображение "/>
          <p:cNvPicPr/>
          <p:nvPr/>
        </p:nvPicPr>
        <p:blipFill>
          <a:blip r:embed="rId2"/>
          <a:stretch/>
        </p:blipFill>
        <p:spPr>
          <a:xfrm>
            <a:off x="8670960" y="2478240"/>
            <a:ext cx="460440" cy="64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8" name="Picture 5" descr="Сертификат. Полное изображение "/>
          <p:cNvPicPr/>
          <p:nvPr/>
        </p:nvPicPr>
        <p:blipFill>
          <a:blip r:embed="rId3"/>
          <a:stretch/>
        </p:blipFill>
        <p:spPr>
          <a:xfrm>
            <a:off x="8504280" y="2360520"/>
            <a:ext cx="45720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9" name="Picture 12" descr="Серфтификат АСР MoBill 2008-2011 mini"/>
          <p:cNvPicPr/>
          <p:nvPr/>
        </p:nvPicPr>
        <p:blipFill>
          <a:blip r:embed="rId4"/>
          <a:stretch/>
        </p:blipFill>
        <p:spPr>
          <a:xfrm>
            <a:off x="8072280" y="1928880"/>
            <a:ext cx="65088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0" name="Picture 7" descr="home_1_1-cache-site"/>
          <p:cNvPicPr/>
          <p:nvPr/>
        </p:nvPicPr>
        <p:blipFill>
          <a:blip r:embed="rId5"/>
          <a:stretch/>
        </p:blipFill>
        <p:spPr>
          <a:xfrm>
            <a:off x="7215120" y="3500280"/>
            <a:ext cx="1511280" cy="5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1" name="Picture 9" descr="Сертификат ФСТЭК ¦ 1634 mini"/>
          <p:cNvPicPr/>
          <p:nvPr/>
        </p:nvPicPr>
        <p:blipFill>
          <a:blip r:embed="rId6"/>
          <a:stretch/>
        </p:blipFill>
        <p:spPr>
          <a:xfrm>
            <a:off x="8512200" y="3932280"/>
            <a:ext cx="809640" cy="11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2" name="Picture 10" descr="Сертификат партнера Cache'. Полное изображение "/>
          <p:cNvPicPr/>
          <p:nvPr/>
        </p:nvPicPr>
        <p:blipFill>
          <a:blip r:embed="rId7"/>
          <a:stretch/>
        </p:blipFill>
        <p:spPr>
          <a:xfrm>
            <a:off x="9231480" y="4363920"/>
            <a:ext cx="79344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90BB-FDD5-4446-BCBF-4003B04980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хническая поддержка </a:t>
            </a:r>
            <a:r>
              <a:rPr b="0" lang="en-US" sz="4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i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Прямоугольник 6"/>
          <p:cNvSpPr/>
          <p:nvPr/>
        </p:nvSpPr>
        <p:spPr>
          <a:xfrm>
            <a:off x="809640" y="4143240"/>
            <a:ext cx="83106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даленный доступ для мгновенного устранения внештатных ситу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сплатные текущие обно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ическая поддержка СУБД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9" name="Picture 14" descr=""/>
          <p:cNvPicPr/>
          <p:nvPr/>
        </p:nvPicPr>
        <p:blipFill>
          <a:blip r:embed="rId1"/>
          <a:stretch/>
        </p:blipFill>
        <p:spPr>
          <a:xfrm>
            <a:off x="7105680" y="1687680"/>
            <a:ext cx="4276800" cy="24555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3" descr=""/>
          <p:cNvPicPr/>
          <p:nvPr/>
        </p:nvPicPr>
        <p:blipFill>
          <a:blip r:embed="rId2"/>
          <a:stretch/>
        </p:blipFill>
        <p:spPr>
          <a:xfrm>
            <a:off x="9167760" y="3286080"/>
            <a:ext cx="2036880" cy="27558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3"/>
          <p:cNvSpPr/>
          <p:nvPr/>
        </p:nvSpPr>
        <p:spPr>
          <a:xfrm>
            <a:off x="809640" y="1714680"/>
            <a:ext cx="642924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глосуточный прием обращений с различных источник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l-HelpDe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270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ультации по телефо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оевременное и качественное техническое обслуживание 24х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13AE-31B5-4DB5-83C0-FE61EA2744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длагаемое реш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809640" y="1785960"/>
            <a:ext cx="10644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недрение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онвергентной автоматизированной системы расчетов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2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лнофункциональная биллинговая систем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основными целями и задачами которой являютс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втоматизация рутинных процес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втоматизация ведения документооборота операто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части расчетов с абонентами и оператор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кращение затра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дение взаиморасчетов согласно Правил применения АСР (приказ Министерства информационных технологий и связи РФ №73 от 02.07.2007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D833-11D6-4D1E-881D-B467700DB3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3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7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809640" y="214200"/>
            <a:ext cx="106441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Microsoft New Tai Lue"/>
              </a:rPr>
              <a:t>АСР </a:t>
            </a: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</a:t>
            </a:r>
            <a:br>
              <a:rPr sz="40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Конвергентная автоматизированная система рас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FEDA-E212-4B53-BB3B-B5BADF5E2F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695160" y="1773360"/>
            <a:ext cx="847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Прямоугольник 11"/>
          <p:cNvSpPr/>
          <p:nvPr/>
        </p:nvSpPr>
        <p:spPr>
          <a:xfrm>
            <a:off x="727200" y="4389480"/>
            <a:ext cx="85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программное обеспечение СУБ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, которое обеспечивает высокую скорость обработки данных и высокую степень защищенности информации. Эта СУБД сертифицирована в соответствии с требованиями безопасности информации, установленным руководящими документами ФСТЭК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http://www.intersystems.com/assets/intersystems-logo.png"/>
          <p:cNvPicPr/>
          <p:nvPr/>
        </p:nvPicPr>
        <p:blipFill>
          <a:blip r:embed="rId1"/>
          <a:stretch/>
        </p:blipFill>
        <p:spPr>
          <a:xfrm>
            <a:off x="9596520" y="4000680"/>
            <a:ext cx="1942920" cy="4950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4"/>
          <p:cNvSpPr/>
          <p:nvPr/>
        </p:nvSpPr>
        <p:spPr>
          <a:xfrm>
            <a:off x="738360" y="348768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Picture 16" descr="C:\Users\denis\Pictures\fstek.png"/>
          <p:cNvPicPr/>
          <p:nvPr/>
        </p:nvPicPr>
        <p:blipFill>
          <a:blip r:embed="rId2"/>
          <a:stretch/>
        </p:blipFill>
        <p:spPr>
          <a:xfrm>
            <a:off x="10024920" y="471492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667800" y="1857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Прямоугольник 12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TextBox 14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839880" y="2714760"/>
          <a:ext cx="10539360" cy="857160"/>
        </p:xfrm>
        <a:graphic>
          <a:graphicData uri="http://schemas.openxmlformats.org/drawingml/2006/table">
            <a:tbl>
              <a:tblPr/>
              <a:tblGrid>
                <a:gridCol w="3477960"/>
                <a:gridCol w="360360"/>
                <a:gridCol w="2862360"/>
                <a:gridCol w="360360"/>
                <a:gridCol w="3478320"/>
              </a:tblGrid>
              <a:tr h="857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AA29-C0C5-4452-A12E-6E528D431F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6440" y="3928680"/>
            <a:ext cx="10667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865160" y="1843200"/>
            <a:ext cx="1197000" cy="1085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1000" y="2000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24760" y="19288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8"/>
          <p:cNvSpPr/>
          <p:nvPr/>
        </p:nvSpPr>
        <p:spPr>
          <a:xfrm>
            <a:off x="1881360" y="1643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Box 19"/>
          <p:cNvSpPr/>
          <p:nvPr/>
        </p:nvSpPr>
        <p:spPr>
          <a:xfrm>
            <a:off x="5265720" y="16430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Box 20"/>
          <p:cNvSpPr/>
          <p:nvPr/>
        </p:nvSpPr>
        <p:spPr>
          <a:xfrm>
            <a:off x="8550000" y="16430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Прямоугольник 14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Box 16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7C0-400F-4254-B575-B87EF71280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бласти применения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400" y="1785600"/>
            <a:ext cx="8245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данный момент система использует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азчиками для расчета следующих услуг связ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лефония:  М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Н, Выделенных сетей связи, передача данных с целью передачи голосовой информации, радиотелефонная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связ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уги передачи данны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уги доступа в интерн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лематические услуги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левидение: Кабельное веща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цифровое вещание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Object 13"/>
          <p:cNvGraphicFramePr/>
          <p:nvPr/>
        </p:nvGraphicFramePr>
        <p:xfrm>
          <a:off x="9310680" y="4143240"/>
          <a:ext cx="25092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10680" y="4143240"/>
                    <a:ext cx="2509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14"/>
          <p:cNvGraphicFramePr/>
          <p:nvPr/>
        </p:nvGraphicFramePr>
        <p:xfrm>
          <a:off x="9953640" y="3286080"/>
          <a:ext cx="5875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53640" y="3286080"/>
                    <a:ext cx="5875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15"/>
          <p:cNvGraphicFramePr/>
          <p:nvPr/>
        </p:nvGraphicFramePr>
        <p:xfrm>
          <a:off x="9381960" y="2857680"/>
          <a:ext cx="622440" cy="58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2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81960" y="2857680"/>
                    <a:ext cx="6224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16"/>
          <p:cNvGraphicFramePr/>
          <p:nvPr/>
        </p:nvGraphicFramePr>
        <p:xfrm>
          <a:off x="9667800" y="4214880"/>
          <a:ext cx="816120" cy="58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4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67800" y="4214880"/>
                    <a:ext cx="8161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7"/>
          <p:cNvGraphicFramePr/>
          <p:nvPr/>
        </p:nvGraphicFramePr>
        <p:xfrm>
          <a:off x="9524880" y="4929120"/>
          <a:ext cx="60336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6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24880" y="4929120"/>
                    <a:ext cx="603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BC77-79E6-402D-8CD1-2C01267007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Экономика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809640" y="1714680"/>
            <a:ext cx="105728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зволяет не только автоматизировать функции оператора, но и принести экономическую выгоду за сч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кращения расходов и трудозатрат на обслуживание системы и автоматизации рутинны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го контроля счетов, выставляемых поставщиками услуг, за счет проведения автоматизированной детализированной сверки начисл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ивает надежное и безопасное хранение данных, а также обеспечивает сокращение расходов на серверное и клиентское оборудование за счет используемой СУБД Caché фирмы Inter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DF11-9566-43E6-86DD-78DEBB48C6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лнофункциональная биллинговая сист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809640" y="1714680"/>
            <a:ext cx="106441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ru-RU" sz="2400" spc="-1" strike="noStrike">
                <a:solidFill>
                  <a:srgbClr val="333333"/>
                </a:solidFill>
                <a:latin typeface="Verdana"/>
              </a:rPr>
              <a:t> АСР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ассификация и систематизация данных о вызовах с разнотипных коммутаторов (предбиллин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на одном лицевом счету абонента различных видов услуг (телефония, интернет, телевидение и т.п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организационной структуры предприятий в разрезе лицевых счетов и разделение начисл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ансовая и кредитная схема начис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с абонентами (расчет, управление профилями абонентов на оборудовании, оповещение, личный кабине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аиморасчеты и детализированная сверка начислений с провайдер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4ECA-094F-4056-ABE8-91CBA9F223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Прямоугольник 20"/>
          <p:cNvSpPr/>
          <p:nvPr/>
        </p:nvSpPr>
        <p:spPr>
          <a:xfrm>
            <a:off x="10524960" y="93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f6f6f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Box 21"/>
          <p:cNvSpPr/>
          <p:nvPr/>
        </p:nvSpPr>
        <p:spPr>
          <a:xfrm>
            <a:off x="10524960" y="29520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расч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69960" y="0"/>
            <a:ext cx="699768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АСР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</a:t>
            </a:r>
            <a:r>
              <a:rPr b="0" lang="ru-RU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заиморасчетов с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абонент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3" name="Object 55"/>
          <p:cNvGraphicFramePr/>
          <p:nvPr/>
        </p:nvGraphicFramePr>
        <p:xfrm>
          <a:off x="2238480" y="571680"/>
          <a:ext cx="8286480" cy="60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571680"/>
                    <a:ext cx="82864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Козлов Петр</cp:lastModifiedBy>
  <dcterms:modified xsi:type="dcterms:W3CDTF">2017-04-19T13:43:15Z</dcterms:modified>
  <cp:revision>350</cp:revision>
  <dc:subject>АСР MoBill Конвергентная автоматизированная система расчетов</dc:subject>
  <dc:title>Презентация</dc:title>
</cp:coreProperties>
</file>