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12188825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82440" y="739440"/>
            <a:ext cx="65707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4A97-4466-455F-9FF0-43AC7624F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2C1-D4F1-4933-87E4-A21265CAD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9D5-FF86-49AB-AC52-6324E24D7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9F3F-85BC-46AE-BDB5-1416B7275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E40-DF1B-4533-8449-947388396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5D5-DE7B-4A65-B65A-7F76F6061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F373-6CC9-4D23-8C34-9361C3595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AA54-A5D1-402D-ADDA-3A72FFBDF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ая система расчето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oBill-EnergoTrad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процесса энергосбытовой деятельности в части заключения и сопровождения договоров с потребителями, учета электроэнергии и мощности, расчетов за электроэнергию и услуги с потребителями и поставщиками, снижения временных трудозатрат на рутинные операции, оперативной обработке информации о потребителях, подготовке управленческой и статистическ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E326-E405-40C0-BD16-44DACC47B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258-C637-4DF4-85D1-3018ECDE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E01-86D6-47A3-B5BA-7C6C3D4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2252E-FF8E-4999-9A10-0DDD090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A0B4F-8755-4776-8CC8-EB0050C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ED5A5-FE98-4666-A6ED-0336DCA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42B61-9AD5-4932-BC17-132753C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7B285-5601-4849-A204-D49F8F3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E96A-DD66-4313-A6B8-3F0053C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8EFC3-571A-4EC5-9255-ED9F692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CC261-52B9-4820-9288-6CF0D16F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7093D-5F71-454F-B30C-01F2D7AE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D395C-05A1-4D1F-8BDE-671B64E3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472-0184-4CE1-988D-0E95B9ED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9A655-E7C2-4557-88A8-6E6AEC2D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1812-A1A1-4D04-B3A5-1186D361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77FF1-EFA6-4656-B08F-86CB3E3B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42ECB-E487-4E6A-AAFE-CF72BE8C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9A145-D271-4D2A-983E-C61DB71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D5B3-DF36-4208-BC75-F5058A0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D241C-1D5E-4693-8D66-845BAE85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AC0D8-0C3D-4844-9BC1-722FCBD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87488-9139-4F7C-A1E9-9B19FAA7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BAE98-0E78-4252-8235-40E97A45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89D-B498-4A65-A567-D3DEEDB5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E72F6-BBC6-43E4-9C9A-56DFB0E3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DD665-D18D-4CEA-9AC9-14EA8965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AA3FB-2515-4F32-8E4E-23C2C88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47496-EC9B-477A-A89A-117B8AC6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5B90-D823-4F29-A1E7-6A82A9C0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EE58-2C9A-40F0-A3E7-303911B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83B4-4C73-4B88-A42B-B9D01AF8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32244-9F89-4771-A891-9C4C19F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C49D4-C62B-46DF-A3A3-752EBF73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7A3A-A231-484B-95E5-7831C60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765-5F0C-4667-9527-9B5C754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B2BE-2883-400F-AE51-A321A7F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AA47C-25FD-46F1-B4EF-35D5ADAD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19A26-4528-456A-AC5D-DC34C37B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E364F-9776-4883-B5AD-56C8C406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1E30-19FC-403C-85A3-C756D22B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6831F-08C2-4449-9E88-00E109C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6111-070C-4B13-830E-1341E2A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09425-4A4C-43D8-94F9-09F8FC7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C45A5-58AB-47FA-A983-82E87893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D562-EE06-42A2-8281-8023B04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D59-E8AD-4A07-8A8F-392DD292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C48F9-D980-4511-8C8A-D66CD3CC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1FD95-4CE1-4813-9B00-674CC76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ED94A-735F-47E9-849B-3784BEC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E7900-E158-4852-971D-841C8DB8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A708E-6377-4B63-83DF-7A06A8F4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E0D0D-DC19-4131-9DAD-5BF77C55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F8DFF-9459-4ABA-9049-1883326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A5993-DE56-4A5B-8259-D05ECF6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7D58F-888C-437F-A01E-2A06FBD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A20AC-33CF-4442-9569-AA12881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BCD5-B0A7-4988-A8C0-F1966A19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0B9B1-D9D9-4118-A02D-EB98DFF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7ABE5-D93E-4EC5-93BE-933A352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B7C3B-EF48-4212-AB9C-EC673A5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35777-9105-4471-B965-DF54F5B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DD80B-62B4-4306-87FD-E794087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4C808-267B-4CF4-A61E-E09E16F2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28CEC-4C47-4EBD-9329-AC92568F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37F1-605F-49CE-B0B3-F4E8C8A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023-F56C-4EE2-ABAE-9D3DAD02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84D1-2F60-4862-B870-265CC8C6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D4C9-141C-4858-A6EB-1C3723B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8C9-03FF-4CA5-BEFF-004DDB7F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8F7E-994D-4CDD-95B1-BB19224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B8A0-80F8-4C79-BB78-39EFC28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DF05-7C57-422B-B4BD-4F0614BA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7F1A-32F0-4F1A-9D7F-521A6083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2AC2-7B2E-4E32-A898-C11B81C1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509F-089C-4330-917D-D6C5D0A6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5C04-552C-4563-BE46-008847DF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56AD-4E46-43A8-8726-EBA42152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4408-9911-4363-8063-B535283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69BC-131A-4017-A18F-ED22DC7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380-06D0-4BA2-896E-E9E2BAD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42BD-802B-41F0-BF11-1A27685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C61D-05E5-4319-B923-6E2C61D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1D4E-6681-4B96-B349-9636ECCC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3A97-09E6-4DF1-8638-6112F56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8B23-EA01-4EB6-9B2A-3248401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59CC-6B6D-48F2-B4C6-5AE8F882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0927-8C5C-4F70-8FB3-172E90BE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5740-2790-46AC-897E-E3780891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ABDD-A09E-489F-B073-73A7019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AED1-C04A-4B1C-99DB-613B568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662-5D00-4AFC-BA30-C4171D4F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6CA2-C6D6-4D70-B231-7CA64F8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DD13-97EB-44F5-80B4-4BF26551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FA5E-5B91-4633-B18D-E56DDAD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FC06-6A97-48C1-BCF2-7C07528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C0AE-377D-41C0-9A36-C610C74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D1AF-8DDA-4998-954A-502B433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2097-B264-420E-AF37-6E613E8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6598-176A-41F3-A268-516BAC4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D8B3-8234-40D7-8D4C-EB5983FC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DD99-9E36-465C-B8F5-4A6B1DE7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F76-BD61-4401-9DEF-01A1FD3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2C1C-7558-447E-81BF-57EA798D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B967-4370-433C-9399-6BC5FD1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65A9-D4EB-4A34-B174-019566E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352A-D620-4E55-ABC0-F287F018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F96B-511B-4CC5-B90E-BBBA12B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095C-C4DA-4961-95BA-58D3387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8F99-8900-4A11-8EC3-CE3F4E1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28F2-8887-45BB-BEAA-FFFC859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8077-35B8-41DD-AA72-D59DAE2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2829-CE09-4648-A850-5A4FD4E6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665-FC93-4155-8D03-2BA69A18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0D02-8467-41A2-9BBA-3845AF89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EDA4-8B08-449B-965A-0FB9553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D009-CA2A-465E-8BD4-FEC7DA72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E6BE-86B8-4AD2-802E-C677F654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3B07-FE53-4633-9C87-C2B77FF6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D5B9-E868-4915-95E7-73FBAD4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46401-08BA-420C-AD57-18E3374A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12D22-1A7F-43BF-A278-82E439D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24D1-7463-42C4-9BD6-3CEC8F8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5B79-6246-4314-8BC0-92E80E9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F5C-A0EF-46D3-9220-FA510B4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F47E-6E54-4759-9E21-1A21CA1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0013-373C-4511-B21B-805841F0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411F-5CF1-4DEF-8DAA-1B01683A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77235-E68E-4DB6-A983-5E4724B0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417C6-E423-4BF7-BC9F-AAEEC6B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36B2-4535-4231-9ECD-43FFBA9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F33A7-F872-41C8-B51C-4704E02E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A6FA-9543-4F62-93E9-AE6DFB0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C5CE-F230-4670-9389-29D2C36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FD8C-285F-4E90-B1D7-BFDB11EF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041-5E64-4A95-A57B-149F153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F4A4-29C4-4F51-811A-276CA64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10DD-C991-4EED-8A7E-FD92BE8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CC51-F46D-4FE7-B8F1-4B3DFAC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6D0B-6408-4D3C-B730-11A3C95B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C998-F30A-411C-980C-C63981DD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EEB0-D939-4249-A07C-6E75CB16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4FB53-209C-4235-8E83-2B8134D7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AAA6E-3C36-47BF-B94A-CDC3E7C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B8C1-81DD-4A4D-B1A0-8CBDC2A6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AC31-AC85-4386-B69F-897D265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F77-1BF6-4F1C-AB45-DA45D8D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C4FA-2002-49E6-B9BB-53B26BB2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2ABAF-405F-4379-A461-438CCE0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AF2A-8722-4307-8900-8599954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D0E7-83A5-482F-A843-06403BD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2B35-4DAC-4B24-A341-1890D22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AA44-3939-4AD0-9934-8BB1A399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9870-EC41-4D4D-84C0-83429223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AFBB-D578-4686-94C7-B368C10E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DFB7A-3AD5-4326-887D-1FD48006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3E2A9-6098-4A49-AAEF-4E316CBA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CE2-9754-47C9-A89D-4694A931E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6D8-A6FC-4013-BCD6-3D3CB12ED3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F527-14F0-445B-8AF0-AA3A24DD0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8A5-7529-4FC6-8432-4CF952CF6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C0BD-BE8E-4B48-8585-B4DD895D7D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1520" cy="109440"/>
          </a:xfrm>
          <a:custGeom>
            <a:avLst/>
            <a:gdLst>
              <a:gd name="textAreaLeft" fmla="*/ 0 w 10361520"/>
              <a:gd name="textAreaRight" fmla="*/ 10361880 w 10361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996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560" y="6249960"/>
            <a:ext cx="385920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5760" y="624996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BB7-D8AA-46EB-91E6-F0666141A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B596-D265-424B-B10D-698D003258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EEFD-618F-4446-8A14-BB3B1C47D7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E3C7-71C9-4110-A55C-4B549CF69D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3FAB-CB7F-43F8-A673-5D62C52BE5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137-9FC4-47BF-A1E9-280E43D595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686B-F334-4EA4-B7E8-44896DA43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1394-548E-47CB-B53D-617918F38A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926316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9" descr="Logo2"/>
          <p:cNvPicPr/>
          <p:nvPr/>
        </p:nvPicPr>
        <p:blipFill>
          <a:blip r:embed="rId2"/>
          <a:stretch/>
        </p:blipFill>
        <p:spPr>
          <a:xfrm>
            <a:off x="7453440" y="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32"/>
          <p:cNvSpPr/>
          <p:nvPr/>
        </p:nvSpPr>
        <p:spPr>
          <a:xfrm>
            <a:off x="990720" y="1785960"/>
            <a:ext cx="1043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Обзор программных продуктов ®</a:t>
            </a:r>
            <a:r>
              <a:rPr b="0" lang="en-US" sz="3200" spc="-1" strike="noStrike">
                <a:solidFill>
                  <a:srgbClr val="a50021"/>
                </a:solidFill>
                <a:latin typeface="Microsoft New Tai Lue"/>
              </a:rPr>
              <a:t> Mo</a:t>
            </a:r>
            <a:r>
              <a:rPr b="0" lang="en-US" sz="32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, разработанных компанией ООО «Мобилл плюс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г.Уфа, Республика Башкортост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Прямоугольник 33"/>
          <p:cNvSpPr/>
          <p:nvPr/>
        </p:nvSpPr>
        <p:spPr>
          <a:xfrm>
            <a:off x="1125360" y="35733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Box 34"/>
          <p:cNvSpPr/>
          <p:nvPr/>
        </p:nvSpPr>
        <p:spPr>
          <a:xfrm>
            <a:off x="1133640" y="3908520"/>
            <a:ext cx="42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Прямоугольник 35"/>
          <p:cNvSpPr/>
          <p:nvPr/>
        </p:nvSpPr>
        <p:spPr>
          <a:xfrm>
            <a:off x="6140520" y="357336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Call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36"/>
          <p:cNvSpPr/>
          <p:nvPr/>
        </p:nvSpPr>
        <p:spPr>
          <a:xfrm>
            <a:off x="6167520" y="39085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Центр обработки вызов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6167520" y="4430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38"/>
          <p:cNvSpPr/>
          <p:nvPr/>
        </p:nvSpPr>
        <p:spPr>
          <a:xfrm>
            <a:off x="6167520" y="4765680"/>
            <a:ext cx="53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Голосовое и </a:t>
            </a:r>
            <a:r>
              <a:rPr b="0" lang="en-US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SMS </a:t>
            </a: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повещ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1127160" y="44308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40"/>
          <p:cNvSpPr/>
          <p:nvPr/>
        </p:nvSpPr>
        <p:spPr>
          <a:xfrm>
            <a:off x="1133640" y="476568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Система учета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Прямоугольник 41"/>
          <p:cNvSpPr/>
          <p:nvPr/>
        </p:nvSpPr>
        <p:spPr>
          <a:xfrm>
            <a:off x="1127160" y="5288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r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42"/>
          <p:cNvSpPr/>
          <p:nvPr/>
        </p:nvSpPr>
        <p:spPr>
          <a:xfrm>
            <a:off x="1141560" y="562284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ЛКС и оборуд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133-F46F-4CAE-8F09-022ED4CD79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6296040" y="1733400"/>
            <a:ext cx="51274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566640" indent="-566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т сложных схем подключ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уровневые связи потребителей и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субпотребите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электроэнер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язка потребителей к поставщикам и сетевым компа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поста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у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боры учета (счетчики, трансформаторы тока и напряже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1" descr="http://ok-t.ru/studopedia/baza13/264447180228.files/image104.gif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949320" y="1643040"/>
            <a:ext cx="4857840" cy="314316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878040" y="4786200"/>
            <a:ext cx="5418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установки и снятия приборов учета (акты замен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ниторинг поверки приборов учета и уведомление пользователей о срок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TextBox 2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21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Box 22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5" descr=""/>
          <p:cNvPicPr/>
          <p:nvPr/>
        </p:nvPicPr>
        <p:blipFill>
          <a:blip r:embed="rId1"/>
          <a:srcRect l="0" t="0" r="0" b="12160"/>
          <a:stretch/>
        </p:blipFill>
        <p:spPr>
          <a:xfrm>
            <a:off x="906480" y="2644920"/>
            <a:ext cx="4551480" cy="1571400"/>
          </a:xfrm>
          <a:prstGeom prst="rect">
            <a:avLst/>
          </a:prstGeom>
          <a:ln w="0">
            <a:noFill/>
          </a:ln>
        </p:spPr>
      </p:pic>
      <p:sp>
        <p:nvSpPr>
          <p:cNvPr id="698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834-35D0-4579-972D-372B9DDB77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ния и объ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13"/>
          <p:cNvSpPr/>
          <p:nvPr/>
        </p:nvSpPr>
        <p:spPr>
          <a:xfrm>
            <a:off x="17316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AutoShape 15"/>
          <p:cNvSpPr/>
          <p:nvPr/>
        </p:nvSpPr>
        <p:spPr>
          <a:xfrm>
            <a:off x="17316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AutoShape 18"/>
          <p:cNvSpPr/>
          <p:nvPr/>
        </p:nvSpPr>
        <p:spPr>
          <a:xfrm>
            <a:off x="17316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17316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906480" y="1643040"/>
            <a:ext cx="8429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гральные (на начало и конец расчетного периода по точкам учет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21" descr="C:\Users\denis\Desktop\Материалы для презентации ET\leonardo255111100010.jpg"/>
          <p:cNvPicPr/>
          <p:nvPr/>
        </p:nvPicPr>
        <p:blipFill>
          <a:blip r:embed="rId2"/>
          <a:stretch/>
        </p:blipFill>
        <p:spPr>
          <a:xfrm>
            <a:off x="977760" y="4400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2763720" y="4143240"/>
            <a:ext cx="86900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сбора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ий расчет на основ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профил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также другими способ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грузка из файлов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ML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0020, 5107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ем показаний на электронный почтовый ящик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от систем АСКУЭ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последующая автоматическая загруз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од показаний потребителем в его личном кабине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Picture 24" descr=""/>
          <p:cNvPicPr/>
          <p:nvPr/>
        </p:nvPicPr>
        <p:blipFill>
          <a:blip r:embed="rId3"/>
          <a:stretch/>
        </p:blipFill>
        <p:spPr>
          <a:xfrm>
            <a:off x="4078440" y="2214720"/>
            <a:ext cx="7414920" cy="1792080"/>
          </a:xfrm>
          <a:prstGeom prst="rect">
            <a:avLst/>
          </a:prstGeom>
          <a:ln w="0">
            <a:noFill/>
          </a:ln>
        </p:spPr>
      </p:pic>
      <p:sp>
        <p:nvSpPr>
          <p:cNvPr id="708" name="TextBox 3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Прямоугольник 34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35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4FA6-2D44-448C-8B25-59A07548A9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879480" y="1714680"/>
            <a:ext cx="4786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кий выбор опций при запуске расчета потребителя позволяет персонифицировать рас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Массовый расче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автоматический расчет больших групп потребителей за расчетный пери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833400" y="3666960"/>
            <a:ext cx="4613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53964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етализированное представление результат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а с разделением по поставщикам и сетевым организаци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Многовариантные расчеты 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поставление и анализ эффекта (прибыли) на основе сравнения расчетов по различным тариф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5921280" y="5357880"/>
            <a:ext cx="5286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ведение и мониторинг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ограничения режима потребле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лектрической энергии в соответствии с действующим законодатель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Прямоугольник 25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Box 26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5594400" y="3214800"/>
            <a:ext cx="5972040" cy="2171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"/>
          <p:cNvPicPr/>
          <p:nvPr/>
        </p:nvPicPr>
        <p:blipFill>
          <a:blip r:embed="rId2"/>
          <a:stretch/>
        </p:blipFill>
        <p:spPr>
          <a:xfrm>
            <a:off x="8024760" y="1714680"/>
            <a:ext cx="3457800" cy="174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CE51-B06C-4CE1-B774-42529DC70A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афическая визуа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4006800" y="1785960"/>
            <a:ext cx="7372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зуализация схемы присоединения точек поставки с наименованиями электроустановок и линий электропередач, как для отдельной точки поставки, так и для территориально-обособленного объекта или всего потреб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графиков и диаграмм по заданным критер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3" descr=""/>
          <p:cNvPicPr/>
          <p:nvPr/>
        </p:nvPicPr>
        <p:blipFill>
          <a:blip r:embed="rId1"/>
          <a:stretch/>
        </p:blipFill>
        <p:spPr>
          <a:xfrm>
            <a:off x="879480" y="4073400"/>
            <a:ext cx="8648640" cy="1990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"/>
          <p:cNvPicPr/>
          <p:nvPr/>
        </p:nvPicPr>
        <p:blipFill>
          <a:blip r:embed="rId2"/>
          <a:stretch/>
        </p:blipFill>
        <p:spPr>
          <a:xfrm>
            <a:off x="9310680" y="4024440"/>
            <a:ext cx="2071800" cy="204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726" name="AutoShape 6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AutoShape 9"/>
          <p:cNvSpPr/>
          <p:nvPr/>
        </p:nvSpPr>
        <p:spPr>
          <a:xfrm>
            <a:off x="17316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12" descr=""/>
          <p:cNvPicPr/>
          <p:nvPr/>
        </p:nvPicPr>
        <p:blipFill>
          <a:blip r:embed="rId3"/>
          <a:stretch/>
        </p:blipFill>
        <p:spPr>
          <a:xfrm>
            <a:off x="960480" y="1846440"/>
            <a:ext cx="2806560" cy="2103120"/>
          </a:xfrm>
          <a:prstGeom prst="rect">
            <a:avLst/>
          </a:prstGeom>
          <a:ln w="0">
            <a:noFill/>
          </a:ln>
        </p:spPr>
      </p:pic>
      <p:sp>
        <p:nvSpPr>
          <p:cNvPr id="729" name="TextBox 2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26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Box 27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6A6-0125-48AF-8F4E-BBEFD4FE1B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2466720" y="3643200"/>
            <a:ext cx="73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2087640" y="492444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7262640" y="492444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800280" y="-71280"/>
            <a:ext cx="58705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7" name="Picture 9" descr="Logo2"/>
          <p:cNvPicPr/>
          <p:nvPr/>
        </p:nvPicPr>
        <p:blipFill>
          <a:blip r:embed="rId2"/>
          <a:stretch/>
        </p:blipFill>
        <p:spPr>
          <a:xfrm>
            <a:off x="4051440" y="1846440"/>
            <a:ext cx="3987720" cy="1703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1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A69A-9FEF-4634-A560-FA8010A908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801720" y="177336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9" descr="Logo2"/>
          <p:cNvPicPr/>
          <p:nvPr/>
        </p:nvPicPr>
        <p:blipFill>
          <a:blip r:embed="rId1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11"/>
          <p:cNvSpPr/>
          <p:nvPr/>
        </p:nvSpPr>
        <p:spPr>
          <a:xfrm>
            <a:off x="833400" y="5214960"/>
            <a:ext cx="850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ши технологии и средства разработки обеспечивают высокую скорость обработки данных и высокую степень защищенности информ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11" descr="C:\Users\denis\Pictures\20-let-raboty.png"/>
          <p:cNvPicPr/>
          <p:nvPr/>
        </p:nvPicPr>
        <p:blipFill>
          <a:blip r:embed="rId2"/>
          <a:stretch/>
        </p:blipFill>
        <p:spPr>
          <a:xfrm>
            <a:off x="9564840" y="164304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11"/>
          <p:cNvSpPr/>
          <p:nvPr/>
        </p:nvSpPr>
        <p:spPr>
          <a:xfrm>
            <a:off x="808200" y="3638520"/>
            <a:ext cx="8286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пания обладает высокой финансовой устойчивостью и платежеспособност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тат квалифицированных разработчиков – 10 челове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AutoShape 15"/>
          <p:cNvSpPr/>
          <p:nvPr/>
        </p:nvSpPr>
        <p:spPr>
          <a:xfrm>
            <a:off x="173160" y="-731880"/>
            <a:ext cx="1428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16" descr="C:\Users\denis\Pictures\fstek.png"/>
          <p:cNvPicPr/>
          <p:nvPr/>
        </p:nvPicPr>
        <p:blipFill>
          <a:blip r:embed="rId3"/>
          <a:stretch/>
        </p:blipFill>
        <p:spPr>
          <a:xfrm>
            <a:off x="9920160" y="492444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36"/>
          <p:cNvSpPr/>
          <p:nvPr/>
        </p:nvSpPr>
        <p:spPr>
          <a:xfrm>
            <a:off x="9566280" y="393048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  <a:ea typeface="Calibri"/>
              </a:rPr>
              <a:t>Узнайте о нас больш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  <a:ea typeface="Calibri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3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75888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838080" y="2916360"/>
          <a:ext cx="100584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79640"/>
                <a:gridCol w="249696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F6F0-ECDE-4C3E-BC61-7D6BBEE956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2381040" y="3951000"/>
            <a:ext cx="8072280" cy="214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882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TextBox 19"/>
          <p:cNvSpPr/>
          <p:nvPr/>
        </p:nvSpPr>
        <p:spPr>
          <a:xfrm>
            <a:off x="519516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52660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2" name="TextBox 2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75888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51B-37AA-4D96-B0C0-6FBA13DD85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773280" y="1714320"/>
            <a:ext cx="4962240" cy="18572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66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начение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ботка клиентских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ллектуальная маршрутизация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ение истории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7046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Центр обработки вызовов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Прямоугольник 17"/>
          <p:cNvSpPr/>
          <p:nvPr/>
        </p:nvSpPr>
        <p:spPr>
          <a:xfrm>
            <a:off x="818352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Call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8352000" y="334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Центр обработки вызов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787320" y="3718080"/>
            <a:ext cx="55245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ые модули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ботка входящих и исходящих звон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зированное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голосов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повещ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ая запись разгов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бор и анализ статист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7967520" y="1785960"/>
            <a:ext cx="33116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Функции АТС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Определитель номе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Интерактивное голосовое мен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Голосовая поч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Запись разгов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остановка звонка в очеред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ерехват зво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ереадресация зво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Конференцсвяз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Режим «Не беспокоит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рием и передача фак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Гибкая логика добавочных номе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Интеграция с базами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Picture 9" descr=""/>
          <p:cNvPicPr/>
          <p:nvPr/>
        </p:nvPicPr>
        <p:blipFill>
          <a:blip r:embed="rId1"/>
          <a:stretch/>
        </p:blipFill>
        <p:spPr>
          <a:xfrm>
            <a:off x="5722920" y="2544840"/>
            <a:ext cx="1884240" cy="1884240"/>
          </a:xfrm>
          <a:prstGeom prst="rect">
            <a:avLst/>
          </a:prstGeom>
          <a:ln w="0">
            <a:noFill/>
          </a:ln>
        </p:spPr>
      </p:pic>
      <p:sp>
        <p:nvSpPr>
          <p:cNvPr id="623" name="TextBox 2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173-0051-4F4C-8F8E-BCE4E1CE81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MS-</a:t>
            </a: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сервисы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18"/>
          <p:cNvSpPr/>
          <p:nvPr/>
        </p:nvSpPr>
        <p:spPr>
          <a:xfrm>
            <a:off x="8183520" y="0"/>
            <a:ext cx="25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19"/>
          <p:cNvSpPr/>
          <p:nvPr/>
        </p:nvSpPr>
        <p:spPr>
          <a:xfrm>
            <a:off x="8352000" y="334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Голосовое и </a:t>
            </a:r>
            <a:r>
              <a:rPr b="0" lang="en-US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SMS </a:t>
            </a: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повещени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"/>
          <p:cNvSpPr/>
          <p:nvPr/>
        </p:nvSpPr>
        <p:spPr>
          <a:xfrm>
            <a:off x="6238800" y="1916280"/>
            <a:ext cx="48006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Verdana"/>
              </a:rPr>
              <a:t>SMS </a:t>
            </a: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вещение должни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вещение ГО и Ч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журное оповещение об авариях и т.п. событи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Прямоугольник 6"/>
          <p:cNvSpPr/>
          <p:nvPr/>
        </p:nvSpPr>
        <p:spPr>
          <a:xfrm>
            <a:off x="6238800" y="4005360"/>
            <a:ext cx="537696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Verdana"/>
              </a:rPr>
              <a:t>SMS </a:t>
            </a: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по запрос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м показаний ПУ: электросчетчик, ГВС, ХВС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рос информации о задолж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рос информации о состоянии обработки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AutoShape 2"/>
          <p:cNvSpPr/>
          <p:nvPr/>
        </p:nvSpPr>
        <p:spPr>
          <a:xfrm>
            <a:off x="173160" y="-503280"/>
            <a:ext cx="1904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15" descr=""/>
          <p:cNvPicPr/>
          <p:nvPr/>
        </p:nvPicPr>
        <p:blipFill>
          <a:blip r:embed="rId1"/>
          <a:stretch/>
        </p:blipFill>
        <p:spPr>
          <a:xfrm>
            <a:off x="838080" y="3971880"/>
            <a:ext cx="5079960" cy="2071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6" descr=""/>
          <p:cNvPicPr/>
          <p:nvPr/>
        </p:nvPicPr>
        <p:blipFill>
          <a:blip r:embed="rId2"/>
          <a:stretch/>
        </p:blipFill>
        <p:spPr>
          <a:xfrm>
            <a:off x="838080" y="1784520"/>
            <a:ext cx="5079960" cy="2076120"/>
          </a:xfrm>
          <a:prstGeom prst="rect">
            <a:avLst/>
          </a:prstGeom>
          <a:ln w="0">
            <a:noFill/>
          </a:ln>
        </p:spPr>
      </p:pic>
      <p:sp>
        <p:nvSpPr>
          <p:cNvPr id="634" name="TextBox 2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711-CABB-4BC6-8B6E-E2ADF3ABFE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4640" y="304920"/>
            <a:ext cx="84265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ет линейно-кабель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ружений и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65200" y="2000160"/>
            <a:ext cx="3971880" cy="23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2667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кладка физических канал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ъемы и порты оборуд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ческие каналы (пары, оптоволокно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рвисы передачи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ыкованные канал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капсуляция канал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24"/>
          <p:cNvSpPr/>
          <p:nvPr/>
        </p:nvSpPr>
        <p:spPr>
          <a:xfrm>
            <a:off x="8337600" y="0"/>
            <a:ext cx="22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Box 25"/>
          <p:cNvSpPr/>
          <p:nvPr/>
        </p:nvSpPr>
        <p:spPr>
          <a:xfrm>
            <a:off x="8423280" y="334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ЛКС и оборудов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Прямоугольник 1"/>
          <p:cNvSpPr/>
          <p:nvPr/>
        </p:nvSpPr>
        <p:spPr>
          <a:xfrm>
            <a:off x="820800" y="164304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ровня учета объек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Shape 417" descr=""/>
          <p:cNvPicPr/>
          <p:nvPr/>
        </p:nvPicPr>
        <p:blipFill>
          <a:blip r:embed="rId1"/>
          <a:srcRect l="11242" t="3732" r="10991" b="3310"/>
          <a:stretch/>
        </p:blipFill>
        <p:spPr>
          <a:xfrm>
            <a:off x="8024760" y="1725480"/>
            <a:ext cx="3371760" cy="42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3" name="Rectangle 3"/>
          <p:cNvSpPr/>
          <p:nvPr/>
        </p:nvSpPr>
        <p:spPr>
          <a:xfrm>
            <a:off x="787320" y="2000160"/>
            <a:ext cx="35798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оружения связ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дания, Шкафные объек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бельная канализ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душные линии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ссивное, активное оборуд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бельные ли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Текст 31"/>
          <p:cNvSpPr/>
          <p:nvPr/>
        </p:nvSpPr>
        <p:spPr>
          <a:xfrm>
            <a:off x="1182600" y="4510080"/>
            <a:ext cx="6424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оенный графический редакто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гических и картографических сх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паспортов, схем, отче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нтрализованное бюро ремо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1"/>
          <p:cNvSpPr/>
          <p:nvPr/>
        </p:nvSpPr>
        <p:spPr>
          <a:xfrm>
            <a:off x="10292400" y="5581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GS-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TextBox 3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6C1-8788-4115-9311-CE2F2EC36E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39520" y="177300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расчетов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ad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процесса энергосбытовой деятель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я и сопровождения договоров с потребителя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а электроэнергии и мощност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ов за электроэнергию и услуги с потребителями и поставщик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ения временных затрат на рутинные операци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тивной обработки информации о потребителя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и управленческой и статистической отче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736200" y="304920"/>
            <a:ext cx="110473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Расчет энергосбытовых услуг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13" descr="&amp;Kcy;&amp;acy;&amp;rcy;&amp;tcy;&amp;icy;&amp;ncy;&amp;kcy;&amp;icy; &amp;pcy;&amp;ocy; &amp;zcy;&amp;acy;&amp;pcy;&amp;rcy;&amp;ocy;&amp;scy;&amp;ucy; &amp;vcy;&amp;rcy;&amp;iecy;&amp;mcy;&amp;yacy; &amp;ucy;&amp;scy;&amp;kcy;&amp;ocy;&amp;rcy;&amp;iecy;&amp;n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3240" y="4500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" descr="&amp;Kcy;&amp;acy;&amp;rcy;&amp;tcy;&amp;icy;&amp;ncy;&amp;kcy;&amp;icy; &amp;pcy;&amp;ocy; &amp;zcy;&amp;acy;&amp;pcy;&amp;rcy;&amp;ocy;&amp;scy;&amp;ucy; &amp;dcy;&amp;ocy;&amp;gcy;&amp;ocy;&amp;vcy;&amp;ocy;&amp;r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3196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7" descr="&amp;Kcy;&amp;acy;&amp;rcy;&amp;tcy;&amp;icy;&amp;ncy;&amp;kcy;&amp;icy; &amp;pcy;&amp;ocy; &amp;zcy;&amp;acy;&amp;pcy;&amp;rcy;&amp;ocy;&amp;scy;&amp;ucy; &amp;ecy;&amp;lcy;&amp;iecy;&amp;kcy;&amp;tcy;&amp;rcy;&amp;ocy;&amp;ecy;&amp;ncy;&amp;iecy;&amp;rcy;&amp;gcy;&amp;icy;&amp;yacy; &amp;icy;&amp;kcy;&amp;ocy;&amp;ncy;&amp;kcy;&amp;acy;"/>
          <p:cNvPicPr/>
          <p:nvPr/>
        </p:nvPicPr>
        <p:blipFill>
          <a:blip r:embed="rId3"/>
          <a:stretch/>
        </p:blipFill>
        <p:spPr>
          <a:xfrm>
            <a:off x="831960" y="32148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831960" y="38577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21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AutoShape 23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AutoShape 25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0" name="Picture 27" descr="&amp;Kcy;&amp;acy;&amp;rcy;&amp;tcy;&amp;icy;&amp;ncy;&amp;kcy;&amp;icy; &amp;pcy;&amp;ocy; &amp;zcy;&amp;acy;&amp;pcy;&amp;rcy;&amp;ocy;&amp;scy;&amp;ucy; &amp;icy;&amp;ncy;&amp;fcy;&amp;ocy;&amp;rcy;&amp;mcy;&amp;acy;&amp;tscy;&amp;icy;&amp;icy; &amp;icy;&amp;kcy;&amp;ocy;&amp;ncy;&amp;kcy;&amp;acy;"/>
          <p:cNvPicPr/>
          <p:nvPr/>
        </p:nvPicPr>
        <p:blipFill>
          <a:blip r:embed="rId5"/>
          <a:stretch/>
        </p:blipFill>
        <p:spPr>
          <a:xfrm>
            <a:off x="893880" y="500076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9" descr="&amp;Kcy;&amp;acy;&amp;rcy;&amp;tcy;&amp;icy;&amp;ncy;&amp;kcy;&amp;icy; &amp;pcy;&amp;ocy; &amp;zcy;&amp;acy;&amp;pcy;&amp;rcy;&amp;ocy;&amp;scy;&amp;ucy; &amp;ocy;&amp;tcy;&amp;chcy;&amp;iecy;&amp;tcy; &amp;icy;&amp;kcy;&amp;ocy;&amp;ncy;&amp;kcy;&amp;acy;"/>
          <p:cNvPicPr/>
          <p:nvPr/>
        </p:nvPicPr>
        <p:blipFill>
          <a:blip r:embed="rId6"/>
          <a:stretch/>
        </p:blipFill>
        <p:spPr>
          <a:xfrm>
            <a:off x="895320" y="5565600"/>
            <a:ext cx="439920" cy="43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31"/>
          <p:cNvSpPr/>
          <p:nvPr/>
        </p:nvSpPr>
        <p:spPr>
          <a:xfrm>
            <a:off x="173160" y="-914400"/>
            <a:ext cx="1904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AutoShape 33"/>
          <p:cNvSpPr/>
          <p:nvPr/>
        </p:nvSpPr>
        <p:spPr>
          <a:xfrm>
            <a:off x="173160" y="-914400"/>
            <a:ext cx="1904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40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TextBox 41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Box 4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8AF-2A8F-4489-9C7E-1DA7581EEB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800280" y="1643040"/>
            <a:ext cx="55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интуитивно понят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9" name="Picture 16" descr="D:\WORKS\MoBill-EnergoTrade\Doc\Документация\Новое\Картинки оригиналы\клиенты 2.png"/>
          <p:cNvPicPr/>
          <p:nvPr/>
        </p:nvPicPr>
        <p:blipFill>
          <a:blip r:embed="rId1"/>
          <a:stretch/>
        </p:blipFill>
        <p:spPr>
          <a:xfrm>
            <a:off x="6546960" y="1811160"/>
            <a:ext cx="4948200" cy="35625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2"/>
          <a:srcRect l="9149" t="0" r="57927" b="0"/>
          <a:stretch/>
        </p:blipFill>
        <p:spPr>
          <a:xfrm>
            <a:off x="9285120" y="1863720"/>
            <a:ext cx="2067120" cy="857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41159" t="0" r="24089" b="0"/>
          <a:stretch/>
        </p:blipFill>
        <p:spPr>
          <a:xfrm>
            <a:off x="9263160" y="2720880"/>
            <a:ext cx="1987560" cy="7812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20"/>
          <p:cNvSpPr/>
          <p:nvPr/>
        </p:nvSpPr>
        <p:spPr>
          <a:xfrm>
            <a:off x="1941480" y="357192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истор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793800" y="35002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&amp;Kcy;&amp;acy;&amp;rcy;&amp;tcy;&amp;icy;&amp;ncy;&amp;kcy;&amp;icy; &amp;pcy;&amp;ocy; &amp;zcy;&amp;acy;&amp;pcy;&amp;rcy;&amp;ocy;&amp;scy;&amp;ucy; &amp;ocy;&amp;tcy;&amp;chcy;&amp;iecy;&amp;tcy;&amp;ncy;&amp;ocy;&amp;scy;&amp;tcy;&amp;softcy; &amp;acy;&amp;ncy;&amp;acy;&amp;lcy;&amp;icy;&amp;tcy;&amp;icy;&amp;kcy;&amp;acy; &amp;icy;&amp;kcy;&amp;ocy;&amp;ncy;&amp;kcy;&amp;acy;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816120" y="484812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&amp;Kcy;&amp;acy;&amp;rcy;&amp;tcy;&amp;icy;&amp;ncy;&amp;kcy;&amp;icy; &amp;pcy;&amp;ocy; &amp;zcy;&amp;acy;&amp;pcy;&amp;rcy;&amp;ocy;&amp;scy;&amp;ucy; &amp;icy;&amp;ncy;&amp;scy;&amp;tcy;&amp;rcy;&amp;ucy;&amp;mcy;&amp;iecy;&amp;ncy;&amp;tcy; &amp;icy;&amp;kcy;&amp;ocy;&amp;ncy;&amp;kcy;&amp;acy;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928800" y="5276880"/>
            <a:ext cx="642960" cy="60480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29"/>
          <p:cNvSpPr/>
          <p:nvPr/>
        </p:nvSpPr>
        <p:spPr>
          <a:xfrm>
            <a:off x="1959120" y="5062680"/>
            <a:ext cx="507204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формирования различных отчетных форм с помощью внутреннего инструментар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онструктора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3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32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33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36200" y="304920"/>
            <a:ext cx="110473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Расчет энергосбытовых услуг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8B1-1496-48DB-8EFA-D17499DCCA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836640" y="1785960"/>
            <a:ext cx="59785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контраген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требителей – юридических л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вщиков и производителей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тевы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3" name="Picture 11" descr="http://www.eskzgroup.ru/upload/medialibrary/33a/33a2f94402b4a50324fbe8a341848534.png"/>
          <p:cNvPicPr/>
          <p:nvPr/>
        </p:nvPicPr>
        <p:blipFill>
          <a:blip r:embed="rId1"/>
          <a:srcRect l="22781" t="15661" r="23231" b="9219"/>
          <a:stretch/>
        </p:blipFill>
        <p:spPr>
          <a:xfrm>
            <a:off x="6815160" y="1571760"/>
            <a:ext cx="4572000" cy="4500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836640" y="3643200"/>
            <a:ext cx="59785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с договорами (учет и расчеты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нергоснаб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казания услуг по передаче электрической 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ической энергии в целях компенсации потер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агенты и догово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2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Прямоугольник 21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Box 22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cp:lastPrinted>2017-04-03T08:05:01Z</cp:lastPrinted>
  <dcterms:modified xsi:type="dcterms:W3CDTF">2017-06-01T10:42:06Z</dcterms:modified>
  <cp:revision>389</cp:revision>
  <dc:subject>Обзор продуктов MoBill</dc:subject>
  <dc:title>Презентация</dc:title>
</cp:coreProperties>
</file>