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9503-7FCB-4BDF-8FFE-CF8B40342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BAA2-5FA2-49C2-A0FA-6D3587C2A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321B-63A3-4103-9182-B1F974907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75D4-BFB1-4DB9-BB93-F89DF4A03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6EE-37C1-4F41-A994-43699BB91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DE40-7E16-4D02-98D7-E6377EF4A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13A-64FC-4A44-BC6C-B2F095A80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CA4A-8911-4D33-965C-23BFA9A4B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F57-E811-498C-BD7C-BF633C63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42A-4689-42E6-9D7B-7963FE3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D922D-3A43-4B72-9FD4-8DF144E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08C39-10A3-4BBD-9865-96B2BB7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6CAB9-CCA5-41A0-A0CD-8C24D6E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0A5F7-1025-4211-838C-D69335F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382F5-C5FA-40D2-8EC0-5997729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6B9AE-4A6A-48C0-8ADB-A787188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F475C-B3FD-4E42-BDC9-28CA4551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2A69A-E58F-472D-B6BC-894C597E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FC029-E4FA-4E0D-9676-7B9690F7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D4495-3087-43D5-A68A-BC6D356B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353-5C01-447F-91B5-FF2638B8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F5199-AA2B-4BCB-8F9B-7881534A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B821-4A32-49FC-B215-103EA6BA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7F57F-9970-406F-8958-EAF53FF4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7C25D-94B0-430C-95DE-F4076C6F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F31F4-A7B3-4EE3-AAE0-140178AF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F4FBC-DEBE-472D-8D50-50EE46B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AA324-E350-41F6-B6F9-29CC7CA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4DC09-8DBB-4868-8A15-78C5DA1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57D45-6C41-45CA-AF70-A2982C5C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A6ADD-EB86-4BD0-AE63-776A1E6C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569-BC61-4B67-97FF-B579C532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32103-E635-4E94-B974-11F92F95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7A2D5-4C25-4526-A959-57B9821E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157DE-A1A5-4B02-A231-B37A21D9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76756-35C1-4411-86C7-8B0F4020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656D7-8354-465F-BA1F-AB22476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45407-3AA5-4936-BDA5-854608EE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B0475-8888-4E15-838B-50D3944D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BE405-FB5A-4F09-AFBA-218D5498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96281-82C3-4222-ACDF-055A41D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758B0-A790-419B-A8F6-7DD82B8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B891-1A0E-49F1-9649-B1F47976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43057-3650-45EC-BE70-39BCF4E8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3F66F-5062-4958-B1F5-60A3E481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EB027-0D1B-41B4-BF60-D195CB78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0D62E-57A3-4C89-86BF-87EB142C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4ADF1-ED1F-48CA-9DF9-D11F7CAB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8E285-4DA6-4CF3-BAA4-7FD6CB26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D6D06-E221-4818-9B52-BFFED5ED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C35C2-26EB-462F-8523-CA28733A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4A962-75F5-4BB0-A232-514DAF5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BE6AE-B733-4929-9248-4E1F3AC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1647-5E4A-48BE-8950-75D29865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4EC3D-D37A-4837-9C7F-FBE4E58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12DB8-A5E2-4A67-9D58-618FD14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3F6AD-003B-47F0-B7CD-F2160D60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9ED64-7F20-4561-A840-0053A9DB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DF470-CA4C-4E06-9D04-FAFAEAE0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E37D7-EC7D-4B77-9CC7-1A2C4FB6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D2772-47B6-46D5-8A08-6B9FE8C6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54749-4372-4AAD-B87D-6969EFE9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8214A-491F-4272-801D-3BE96383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551B4-7716-4997-AAE3-2F14A231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E075-1FAC-4031-9D89-B3D189A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77F2D-604C-4579-8D4E-762C0CE6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4916B-CE74-4366-ADEE-FF4ADAAE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6610F-AF6A-4E84-9E71-4FBF176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CED0D-5302-453B-84B5-5F1B814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7EC15-17B3-49D9-BA35-85A79CB5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5418A-B355-4587-8695-FCD0CDB5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E688F-EDDD-45DE-94D7-F02C2DD7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1ADC-FCFF-44F6-BEA6-8B853C4D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A16-8D95-4022-AC35-FDB3101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447-9319-4747-9545-62D40F67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180E-8E8B-4E9F-B1AA-AD3B131B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267-65EC-4265-9CF4-8D17DE19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02A7-6D3F-451D-BB52-DDAF40D8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1087-37DA-41DB-BA32-0B3942F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BBA2-B53A-4983-BB85-2F656FA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E001-8D14-42EE-B03E-2A93F6A4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CE23-CAEA-46C3-902F-6DEBE4A8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972E-C24A-4503-AE0C-EADA902B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F359-EB2D-4CDC-8F22-B9E9DC8D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9306-D89A-4987-AE77-FFB612A0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FBA8-BA90-464B-AA18-0636EB5E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CD9B-5F85-4694-AADA-CBB98C05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7C7-378A-493C-BAC8-4A5B9C36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ECCA-8590-4703-9915-F251BA3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263E-FEE5-4102-BE61-074B1B5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6EFF-0541-47BD-A36D-A444C1A3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10CA-C641-4E41-A009-7DE2686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968C-123E-49B8-A0F8-2C4A44FF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8289-DBAD-4C39-BD4C-8237C36C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571F-DF42-4226-89D8-37944CA6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9E42-C750-4704-BE64-D7E098B9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FD12-C1A6-4549-9FA2-8AE907D9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8747C-C8AB-484C-BECA-3EEDE743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505-508E-45E0-B16E-4053C031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8C03-9B72-451D-BCE1-EE61C56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AEAE-047A-4747-94E0-C0D52031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D65C-B674-4F9E-97E1-CD600404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D08F-4887-4871-AEAA-ACBF5A5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0632-6627-4947-81F9-D057C24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F10A-A1B1-4442-B8F0-BACFB97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AAA4-9591-4ED0-861D-E8D51EE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0EFD-FDB8-4FD2-96A5-95F7AAC6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CE67E-DE16-494B-AD41-FA6F968B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8B6C-AB19-4DD9-A0C2-07F9E10A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877-44EE-471C-8055-4E4C2599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D4EC-2EC1-430B-B421-9D97F68B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FF6F-14D0-4C1D-93E5-AF655F44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5AFA9-8412-4739-916D-CF2C8920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BF63-C9DD-490D-AF40-F1ED3FF2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4422-C1CD-4606-B8CB-E544A0EE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65D56-4261-4339-B26D-4F9C0A0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0CC1-963A-4E7A-9335-7AB46FAD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2257-A0C8-4319-B4CC-E209FEA9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8159-FBF0-4E75-88C7-8FCD20E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484B-06A8-4315-A985-9ABB43DA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102-8253-4D56-8F2D-3902976C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C745-CD01-4EC5-9F5A-0B455DCC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AFB5F-62A9-478A-858E-1F93278D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1E197-8462-4C2E-82DF-62D49BBB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4B08-25E2-4FF8-B04B-14878583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0C6A-B67F-431B-A775-0E62E175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FF4E-6351-4537-8F1A-2A0F11AB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F783-F412-41E8-A931-7C45C091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9658F-ABBD-4A61-A909-E7FC40E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6D0F7-F953-441B-9714-E4EC263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C1AE-A82F-4BE2-888E-4E65B41A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46F-44CB-499D-B541-9FCD9D4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FC45-9E9F-4D32-B603-1C627F21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CCF9-BD2B-4456-8104-26A0C479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9CAA-A52D-4F8E-83CA-383939BE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6C9D5-37E9-41C7-813F-E581CC69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24E7C-2DDA-4138-87D5-E4FCFA2C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8906-EDE6-4715-8624-0181A009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E142-99C9-4678-8F52-9388EC3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04FA-1CBA-4BA7-A1A2-F8B781B6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0FC2-0D43-46F2-BA70-45B9FBD5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9644-9D31-4EAC-B8D3-4620E90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32C-1BA3-44C8-A053-BC45602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D57E-53C7-41D9-9125-613D92BB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DEF1-824F-4944-8E82-8C5257C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81FA-BEE5-4AD9-8A93-5A0EBB5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5504-C51A-4342-A010-8295663D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4BF06-7482-487F-9EAE-58A518F9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3695E-8F76-450A-8BCA-0BC8CC4B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8AF18-F559-4678-B691-0DAB9764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ED002-44A9-4803-9AC5-3552AE19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2905-DDCD-4D32-8814-F5FE2D9C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1B94-2E16-4CC6-A92D-06D1CD97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FD8-D13F-4894-810B-91EA58E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8396-1AFE-45EA-BBE2-2DEEE1D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0B3A-F200-44DB-BE20-85C4228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9F217-3F35-48F2-99FF-059899D0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EA50F-957E-4BED-9B72-FDE978B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BBF46-5DE5-43F0-867F-0BCCEB49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0CCC9-847D-459A-8490-CD5E3E21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ECD69-602C-4B93-A3CE-36A38E9F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DD060-26F9-4D6F-992A-68FF706E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8ACCF-0AD0-4AA6-9D8C-9E4A56E9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94F69-7F21-4C20-B01F-F70D9A0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BD7-6ECF-4226-8E8E-48B2C4316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CCBF-0A57-41C5-A693-8773B5744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7F8A-31EB-4CE1-80BD-B50A4DB907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CDA2-2A1C-402E-A21D-C12696D0BE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EAF9-B1A9-4FE8-8823-FAF2FAAD0C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9EF-788E-4EAA-BE00-02796100F2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DFE4-E97D-47D7-B2BA-4B8F00B744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3B99-EFBB-4E13-A570-70EFE6568F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06A1-E258-4058-8428-118D91A62D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FC42-12C5-4B89-BAB9-E271C194F6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CBA-63CB-4DA6-BDC8-F34E89569E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8DE0-50C8-4CE1-A61C-CB741E9B9F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1C9A-ED84-4B6B-BE33-587454ADB2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5816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&amp;Kcy;&amp;acy;&amp;rcy;&amp;tcy;&amp;icy;&amp;ncy;&amp;kcy;&amp;icy; &amp;pcy;&amp;ocy; &amp;zcy;&amp;acy;&amp;pcy;&amp;rcy;&amp;ocy;&amp;scy;&amp;ucy; warehouse icon"/>
          <p:cNvPicPr/>
          <p:nvPr/>
        </p:nvPicPr>
        <p:blipFill>
          <a:blip r:embed="rId4"/>
          <a:stretch/>
        </p:blipFill>
        <p:spPr>
          <a:xfrm>
            <a:off x="8524800" y="1714680"/>
            <a:ext cx="2657520" cy="26571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714240" y="2000160"/>
            <a:ext cx="752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5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Ware</a:t>
            </a:r>
            <a:r>
              <a:rPr b="0" lang="en-US" sz="4800" spc="-1" strike="noStrike">
                <a:solidFill>
                  <a:srgbClr val="336699"/>
                </a:solidFill>
                <a:latin typeface="Microsoft New Tai Lue"/>
              </a:rPr>
              <a:t>house</a:t>
            </a:r>
            <a:br>
              <a:rPr sz="48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Учет товарно-материальных ценностей на предприят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7" descr=""/>
          <p:cNvPicPr/>
          <p:nvPr/>
        </p:nvPicPr>
        <p:blipFill>
          <a:blip r:embed="rId1"/>
          <a:stretch/>
        </p:blipFill>
        <p:spPr>
          <a:xfrm>
            <a:off x="1595520" y="4116240"/>
            <a:ext cx="8786880" cy="1963800"/>
          </a:xfrm>
          <a:prstGeom prst="rect">
            <a:avLst/>
          </a:prstGeom>
          <a:ln w="0">
            <a:noFill/>
          </a:ln>
        </p:spPr>
      </p:pic>
      <p:sp>
        <p:nvSpPr>
          <p:cNvPr id="66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B062-7800-4DA4-848D-842FF2E906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Box 14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1" name="Picture 7" descr="D:\WORKS\MoBill-Box\Concept\productlogo_wh.png"/>
          <p:cNvPicPr/>
          <p:nvPr/>
        </p:nvPicPr>
        <p:blipFill>
          <a:blip r:embed="rId2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5" descr=""/>
          <p:cNvPicPr/>
          <p:nvPr/>
        </p:nvPicPr>
        <p:blipFill>
          <a:blip r:embed="rId3"/>
          <a:stretch/>
        </p:blipFill>
        <p:spPr>
          <a:xfrm>
            <a:off x="1336680" y="2000160"/>
            <a:ext cx="5688000" cy="20005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3" descr=""/>
          <p:cNvPicPr/>
          <p:nvPr/>
        </p:nvPicPr>
        <p:blipFill>
          <a:blip r:embed="rId4"/>
          <a:stretch/>
        </p:blipFill>
        <p:spPr>
          <a:xfrm>
            <a:off x="7715160" y="2000160"/>
            <a:ext cx="2952720" cy="208620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744480" y="1677960"/>
            <a:ext cx="10709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дение единой клиентской ба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4C50-F637-42AD-865F-0150B8071C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4"/>
          <p:cNvSpPr/>
          <p:nvPr/>
        </p:nvSpPr>
        <p:spPr>
          <a:xfrm>
            <a:off x="809640" y="1679400"/>
            <a:ext cx="106441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учета ТМЦ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правочника номенклатуры ТМЦ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инвентарных и серийных номер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ирокий набор операций движения ТМ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мест хранения ТМЦ, в том числе и по адресам (КЛАДР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хранения ТМЦ на складах, выдачи и возврата от материально-ответственных лиц, подразделений предприятия, сторонних организа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ние структуры склад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ение комплектации и разукомплектации ТМЦ (полной или частичной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7C8-8CB2-47FB-9435-9B6519783F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4"/>
          <p:cNvSpPr/>
          <p:nvPr/>
        </p:nvSpPr>
        <p:spPr>
          <a:xfrm>
            <a:off x="809640" y="1679400"/>
            <a:ext cx="106441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учета ТМЦ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кабельной продук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грузка и прикрепление любых файлов (фотографий, инструкций, электронных документов) к карточкам ТМ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учета ТМЦ по нескольким собственникам в одной систем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кладских журнал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и выгрузка различных отчетов в систем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печатка документ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интеграции с бухгалтерскими программ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790E-9AA8-4DCC-8611-4183CE2ACF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25"/>
          <p:cNvSpPr/>
          <p:nvPr/>
        </p:nvSpPr>
        <p:spPr>
          <a:xfrm>
            <a:off x="3720960" y="1662480"/>
            <a:ext cx="53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дение справочника номенклатуры ТМ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45" descr=""/>
          <p:cNvPicPr/>
          <p:nvPr/>
        </p:nvPicPr>
        <p:blipFill>
          <a:blip r:embed="rId2"/>
          <a:stretch/>
        </p:blipFill>
        <p:spPr>
          <a:xfrm>
            <a:off x="1774800" y="2492280"/>
            <a:ext cx="3178080" cy="27939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6" descr=""/>
          <p:cNvPicPr/>
          <p:nvPr/>
        </p:nvPicPr>
        <p:blipFill>
          <a:blip r:embed="rId3"/>
          <a:stretch/>
        </p:blipFill>
        <p:spPr>
          <a:xfrm>
            <a:off x="5595840" y="2000160"/>
            <a:ext cx="5214960" cy="412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1476-8AAE-4EDB-8A5B-43C15F4FD9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9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5"/>
          <p:cNvSpPr/>
          <p:nvPr/>
        </p:nvSpPr>
        <p:spPr>
          <a:xfrm>
            <a:off x="3808080" y="166212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инвентарных и серийных номер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1" name="Picture 4" descr=""/>
          <p:cNvPicPr/>
          <p:nvPr/>
        </p:nvPicPr>
        <p:blipFill>
          <a:blip r:embed="rId2"/>
          <a:stretch/>
        </p:blipFill>
        <p:spPr>
          <a:xfrm>
            <a:off x="6066000" y="3929040"/>
            <a:ext cx="5244840" cy="21668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3" descr=""/>
          <p:cNvPicPr/>
          <p:nvPr/>
        </p:nvPicPr>
        <p:blipFill>
          <a:blip r:embed="rId3"/>
          <a:stretch/>
        </p:blipFill>
        <p:spPr>
          <a:xfrm>
            <a:off x="971640" y="2000160"/>
            <a:ext cx="505296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AFCF-E9AC-4490-A629-313B066275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6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9"/>
          <p:cNvSpPr/>
          <p:nvPr/>
        </p:nvSpPr>
        <p:spPr>
          <a:xfrm>
            <a:off x="4119480" y="1662480"/>
            <a:ext cx="36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бор операций движения ТМ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8" name="Picture 14" descr=""/>
          <p:cNvPicPr/>
          <p:nvPr/>
        </p:nvPicPr>
        <p:blipFill>
          <a:blip r:embed="rId2"/>
          <a:stretch/>
        </p:blipFill>
        <p:spPr>
          <a:xfrm>
            <a:off x="2238480" y="1974960"/>
            <a:ext cx="781200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3AEE-A5BD-4AFA-A22D-6F503713C3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TextBox 11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6"/>
          <p:cNvSpPr/>
          <p:nvPr/>
        </p:nvSpPr>
        <p:spPr>
          <a:xfrm>
            <a:off x="3045960" y="1644120"/>
            <a:ext cx="65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мест хранения ТМЦ, в том числе и по адресам (КЛАДР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6" name="Picture 12" descr=""/>
          <p:cNvPicPr/>
          <p:nvPr/>
        </p:nvPicPr>
        <p:blipFill>
          <a:blip r:embed="rId2"/>
          <a:stretch/>
        </p:blipFill>
        <p:spPr>
          <a:xfrm>
            <a:off x="1595520" y="2143080"/>
            <a:ext cx="2886120" cy="32101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" descr=""/>
          <p:cNvPicPr/>
          <p:nvPr/>
        </p:nvPicPr>
        <p:blipFill>
          <a:blip r:embed="rId3"/>
          <a:stretch/>
        </p:blipFill>
        <p:spPr>
          <a:xfrm>
            <a:off x="5238720" y="2643120"/>
            <a:ext cx="56008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67E9-259E-45AA-8823-A885A1021D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TextBox 7"/>
          <p:cNvSpPr/>
          <p:nvPr/>
        </p:nvSpPr>
        <p:spPr>
          <a:xfrm>
            <a:off x="766800" y="619272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AutoShape 9"/>
          <p:cNvSpPr/>
          <p:nvPr/>
        </p:nvSpPr>
        <p:spPr>
          <a:xfrm>
            <a:off x="17316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10"/>
          <p:cNvSpPr/>
          <p:nvPr/>
        </p:nvSpPr>
        <p:spPr>
          <a:xfrm>
            <a:off x="712800" y="1644840"/>
            <a:ext cx="1081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хранения ТМЦ на складах, выдачи и возврата от материально-ответственных лиц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дразделений предприятия, сторонних организац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14" descr=""/>
          <p:cNvPicPr/>
          <p:nvPr/>
        </p:nvPicPr>
        <p:blipFill>
          <a:blip r:embed="rId2"/>
          <a:stretch/>
        </p:blipFill>
        <p:spPr>
          <a:xfrm>
            <a:off x="2422440" y="2313000"/>
            <a:ext cx="7174080" cy="379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FA39-B44B-4A10-AD77-A1FAC51690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8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9"/>
          <p:cNvSpPr/>
          <p:nvPr/>
        </p:nvSpPr>
        <p:spPr>
          <a:xfrm>
            <a:off x="4709520" y="1662480"/>
            <a:ext cx="32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исание структуры скла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0" name="Picture 12" descr=""/>
          <p:cNvPicPr/>
          <p:nvPr/>
        </p:nvPicPr>
        <p:blipFill>
          <a:blip r:embed="rId2"/>
          <a:stretch/>
        </p:blipFill>
        <p:spPr>
          <a:xfrm>
            <a:off x="3595680" y="2060640"/>
            <a:ext cx="5543640" cy="40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7C5C-F2C8-42C4-AFEC-E5C5C2EDB5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1" descr=""/>
          <p:cNvPicPr/>
          <p:nvPr/>
        </p:nvPicPr>
        <p:blipFill>
          <a:blip r:embed="rId2"/>
          <a:stretch/>
        </p:blipFill>
        <p:spPr>
          <a:xfrm>
            <a:off x="3049560" y="2076480"/>
            <a:ext cx="6048360" cy="40672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2"/>
          <p:cNvSpPr/>
          <p:nvPr/>
        </p:nvSpPr>
        <p:spPr>
          <a:xfrm>
            <a:off x="3161520" y="166248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полнение комплектации и разукомплектации ТМ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106-47CA-45DB-835C-2EB700B68D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 чем заключается проблема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зчика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23680" y="1822320"/>
            <a:ext cx="1055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утствие автоматизации бизнес-процессов учета товарно-материальных ценнос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чной учет или полное отсутствие учета ТМЦ, выданных материально-ответственным лиц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утствие систематизированной информации об истории движения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тические затраты финансовых, временных и человеческих ресурсов на ручное выполнение рутинных проце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остаточное качество результата, учитывая наличие человеческого фактора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ая частота сбоев процессов из-за отсутствия четкой методики выпол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CD7D-14C3-49EF-94AD-FDD7BB6CFE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0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3" descr=""/>
          <p:cNvPicPr/>
          <p:nvPr/>
        </p:nvPicPr>
        <p:blipFill>
          <a:blip r:embed="rId2"/>
          <a:stretch/>
        </p:blipFill>
        <p:spPr>
          <a:xfrm>
            <a:off x="1380960" y="2000160"/>
            <a:ext cx="9387000" cy="38577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14"/>
          <p:cNvSpPr/>
          <p:nvPr/>
        </p:nvSpPr>
        <p:spPr>
          <a:xfrm>
            <a:off x="4003920" y="1674000"/>
            <a:ext cx="41288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кабельной продукц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76C5-F3C8-4EAE-ABF7-3FD5C27985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2"/>
          <p:cNvSpPr/>
          <p:nvPr/>
        </p:nvSpPr>
        <p:spPr>
          <a:xfrm>
            <a:off x="2561760" y="1705680"/>
            <a:ext cx="7455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грузка и прикрепление любых файлов к карточкам ТМ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8" name="Picture 14" descr=""/>
          <p:cNvPicPr/>
          <p:nvPr/>
        </p:nvPicPr>
        <p:blipFill>
          <a:blip r:embed="rId2"/>
          <a:stretch/>
        </p:blipFill>
        <p:spPr>
          <a:xfrm>
            <a:off x="1881360" y="2133720"/>
            <a:ext cx="8555040" cy="383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06D8-EEDB-4B87-A7E1-A5D295AAD32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1" descr=""/>
          <p:cNvPicPr/>
          <p:nvPr/>
        </p:nvPicPr>
        <p:blipFill>
          <a:blip r:embed="rId2"/>
          <a:stretch/>
        </p:blipFill>
        <p:spPr>
          <a:xfrm>
            <a:off x="880920" y="2214720"/>
            <a:ext cx="10626840" cy="321444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12"/>
          <p:cNvSpPr/>
          <p:nvPr/>
        </p:nvSpPr>
        <p:spPr>
          <a:xfrm>
            <a:off x="3924000" y="1674000"/>
            <a:ext cx="43603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дение складских журнал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464-1A07-46E4-A96F-08DA9DCD5A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2"/>
          <p:cNvSpPr/>
          <p:nvPr/>
        </p:nvSpPr>
        <p:spPr>
          <a:xfrm>
            <a:off x="776160" y="1677960"/>
            <a:ext cx="106063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сновные виды операций движения ТМ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иходование ТМЦ от поставщик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мещение ТМЦ между складами, материально-ответственными лицами и подразделения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ажа ТМЦ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сание и выбытие ТМЦ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ная или частичная комплектация и разукомплектация ТМЦ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оценка ТМЦ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ём/передача ТМЦ в ремон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ём/передача ТМЦ на ответственное хранен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ём/передача в арен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CE1A-E889-48FB-9C85-BF0B193424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3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2"/>
          <p:cNvSpPr/>
          <p:nvPr/>
        </p:nvSpPr>
        <p:spPr>
          <a:xfrm>
            <a:off x="816120" y="1677960"/>
            <a:ext cx="105663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явки на ТМЦ, контроль заяв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заяв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ервирование ТМ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остатков и автоматизированная генерация заяв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тория по заявке, отслеживание выполнения заяво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генерация тендера на основе заяв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B9C2-4002-483A-B2CE-73C41E63EA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8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3171960" y="1674000"/>
            <a:ext cx="63277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ение заявки на ТМЦ с резервирование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Picture 12" descr=""/>
          <p:cNvPicPr/>
          <p:nvPr/>
        </p:nvPicPr>
        <p:blipFill>
          <a:blip r:embed="rId2"/>
          <a:stretch/>
        </p:blipFill>
        <p:spPr>
          <a:xfrm>
            <a:off x="3338640" y="1989000"/>
            <a:ext cx="5905440" cy="413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145F-FA3E-4406-A447-42F5ACB73F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2"/>
          <p:cNvSpPr/>
          <p:nvPr/>
        </p:nvSpPr>
        <p:spPr>
          <a:xfrm>
            <a:off x="816120" y="1677960"/>
            <a:ext cx="10637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закупками, тендер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электронных закупочных процедур на основании заявок на ТМ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атизированное проведение тенде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договора на поставку на основании результатов проведенных тенде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спецификаций к договорам поставки с привязкой к заявкам на ТМ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ность по закупк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434-9A4C-4797-BAC1-71EF9C0BDD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7"/>
          <p:cNvSpPr/>
          <p:nvPr/>
        </p:nvSpPr>
        <p:spPr>
          <a:xfrm>
            <a:off x="3713400" y="1674000"/>
            <a:ext cx="58525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втоматизированное проведение тенде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Picture 11" descr=""/>
          <p:cNvPicPr/>
          <p:nvPr/>
        </p:nvPicPr>
        <p:blipFill>
          <a:blip r:embed="rId2"/>
          <a:stretch/>
        </p:blipFill>
        <p:spPr>
          <a:xfrm>
            <a:off x="2357280" y="2038320"/>
            <a:ext cx="5181840" cy="31053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2" descr=""/>
          <p:cNvPicPr/>
          <p:nvPr/>
        </p:nvPicPr>
        <p:blipFill>
          <a:blip r:embed="rId3"/>
          <a:stretch/>
        </p:blipFill>
        <p:spPr>
          <a:xfrm>
            <a:off x="6638760" y="2048040"/>
            <a:ext cx="3672000" cy="32382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3" descr=""/>
          <p:cNvPicPr/>
          <p:nvPr/>
        </p:nvPicPr>
        <p:blipFill>
          <a:blip r:embed="rId4"/>
          <a:stretch/>
        </p:blipFill>
        <p:spPr>
          <a:xfrm>
            <a:off x="3292560" y="4797360"/>
            <a:ext cx="627696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F9FB-1DD5-4521-B34C-0D81B05A9E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6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7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8" name="Object 22"/>
          <p:cNvGraphicFramePr/>
          <p:nvPr/>
        </p:nvGraphicFramePr>
        <p:xfrm>
          <a:off x="880920" y="1785960"/>
          <a:ext cx="10464840" cy="43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9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0920" y="1785960"/>
                    <a:ext cx="104648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79EA-59EE-4D27-A3E8-4A8CD1D3AE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Box 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3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4" name="Object 23"/>
          <p:cNvGraphicFramePr/>
          <p:nvPr/>
        </p:nvGraphicFramePr>
        <p:xfrm>
          <a:off x="1001880" y="1785960"/>
          <a:ext cx="10308960" cy="21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5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1880" y="1785960"/>
                    <a:ext cx="1030896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26"/>
          <p:cNvGraphicFramePr/>
          <p:nvPr/>
        </p:nvGraphicFramePr>
        <p:xfrm>
          <a:off x="1001880" y="4002120"/>
          <a:ext cx="10308960" cy="207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7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002120"/>
                    <a:ext cx="1030896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158-13A5-4FD9-BA8B-5891CEA10F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длагаемое реш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5"/>
          <p:cNvSpPr/>
          <p:nvPr/>
        </p:nvSpPr>
        <p:spPr>
          <a:xfrm>
            <a:off x="809640" y="1714680"/>
            <a:ext cx="106441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дрени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диной информацио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бора и обработки складской информа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Ware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полнофункциональный инструмент, позволяющий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втоматизировать весь цикл рабо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 ТМЦ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ивающ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отчет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для анализа деятельности, оперативного и долгосрочного планирования снабжения или распределения ТМЦ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1"/>
          <p:cNvSpPr/>
          <p:nvPr/>
        </p:nvSpPr>
        <p:spPr>
          <a:xfrm>
            <a:off x="4433760" y="3000240"/>
            <a:ext cx="44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Учет товарно-материальных цен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FCEE-C181-4988-A2FA-D68875A6BA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AutoShape 9"/>
          <p:cNvSpPr/>
          <p:nvPr/>
        </p:nvSpPr>
        <p:spPr>
          <a:xfrm>
            <a:off x="1697040" y="-179064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Box 1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4" name="Object 24"/>
          <p:cNvGraphicFramePr/>
          <p:nvPr/>
        </p:nvGraphicFramePr>
        <p:xfrm>
          <a:off x="1095480" y="1714680"/>
          <a:ext cx="9858240" cy="44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5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5480" y="1714680"/>
                    <a:ext cx="985824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3A93-5476-4FE5-A106-6B2467C5A1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0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1" name="Object 21"/>
          <p:cNvGraphicFramePr/>
          <p:nvPr/>
        </p:nvGraphicFramePr>
        <p:xfrm>
          <a:off x="880920" y="2063880"/>
          <a:ext cx="10572840" cy="365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2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0920" y="2063880"/>
                    <a:ext cx="1057284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1E3-BE39-46F1-8357-D022A25D22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риптозащита СУБ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809640" y="2510280"/>
            <a:ext cx="105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Д Caché® от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ертифицировано 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СТЭ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Сертификат №325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® сертифицировано на высокие уровни защищенности в соответствии требованиям безопасности информации, установленные РД Гостехкомиссии РФ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класс защищен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Средства вычислительной техники. Защита о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санкционированного доступа 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казатели защищенности от несанкционированного доступа к информации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уровен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Защита от несанкционированного доступа к информации. Часть 1. Программное обеспечение средств защиты информации. Классифика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уровню контроля отсутствия недекларированных возможност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6" name="Picture 11" descr="&amp;Kcy;&amp;acy;&amp;rcy;&amp;tcy;&amp;icy;&amp;ncy;&amp;kcy;&amp;icy; &amp;pcy;&amp;ocy; &amp;zcy;&amp;acy;&amp;pcy;&amp;rcy;&amp;ocy;&amp;scy;&amp;ucy; &amp;zcy;&amp;acy;&amp;shchcy;&amp;icy;&amp;t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0024920" y="14292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817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5A6-44F9-4F50-91CB-399AF875A8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3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738360" y="71280"/>
            <a:ext cx="11001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Ware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house</a:t>
            </a:r>
            <a:br>
              <a:rPr sz="4400"/>
            </a:b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Учет товарно-материальных ценностей на предприят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81AD-4D59-4275-9A90-F408589B66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695160" y="1773360"/>
            <a:ext cx="8472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Прямоугольник 11"/>
          <p:cNvSpPr/>
          <p:nvPr/>
        </p:nvSpPr>
        <p:spPr>
          <a:xfrm>
            <a:off x="727200" y="4143240"/>
            <a:ext cx="85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программное обеспечение СУБ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, которое обеспечивает высокую скорость обработки данных и высокую степень защищенности информации. Эта СУБД сертифицирована в соответствии с требованиями безопасности информации, установленным руководящими документами ФСТЭК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http://www.intersystems.com/assets/intersystems-logo.png"/>
          <p:cNvPicPr/>
          <p:nvPr/>
        </p:nvPicPr>
        <p:blipFill>
          <a:blip r:embed="rId1"/>
          <a:stretch/>
        </p:blipFill>
        <p:spPr>
          <a:xfrm>
            <a:off x="9596520" y="4000680"/>
            <a:ext cx="1942920" cy="495000"/>
          </a:xfrm>
          <a:prstGeom prst="rect">
            <a:avLst/>
          </a:prstGeom>
          <a:ln w="0">
            <a:noFill/>
          </a:ln>
        </p:spPr>
      </p:pic>
      <p:sp>
        <p:nvSpPr>
          <p:cNvPr id="599" name="TextBox 14"/>
          <p:cNvSpPr/>
          <p:nvPr/>
        </p:nvSpPr>
        <p:spPr>
          <a:xfrm>
            <a:off x="738360" y="3487680"/>
            <a:ext cx="57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16" descr="C:\Users\denis\Pictures\fstek.png"/>
          <p:cNvPicPr/>
          <p:nvPr/>
        </p:nvPicPr>
        <p:blipFill>
          <a:blip r:embed="rId2"/>
          <a:stretch/>
        </p:blipFill>
        <p:spPr>
          <a:xfrm>
            <a:off x="10024920" y="471492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667800" y="18572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3" name="TextBox 1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7" descr="D:\WORKS\MoBill-Box\Concept\productlogo_wh.png"/>
          <p:cNvPicPr/>
          <p:nvPr/>
        </p:nvPicPr>
        <p:blipFill>
          <a:blip r:embed="rId5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839880" y="2714760"/>
          <a:ext cx="10539360" cy="857160"/>
        </p:xfrm>
        <a:graphic>
          <a:graphicData uri="http://schemas.openxmlformats.org/drawingml/2006/table">
            <a:tbl>
              <a:tblPr/>
              <a:tblGrid>
                <a:gridCol w="3477960"/>
                <a:gridCol w="360360"/>
                <a:gridCol w="2862360"/>
                <a:gridCol w="360360"/>
                <a:gridCol w="3478320"/>
              </a:tblGrid>
              <a:tr h="857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310D-A060-4CF8-A1C4-D203DB109A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66440" y="3928680"/>
            <a:ext cx="10667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865160" y="1843200"/>
            <a:ext cx="1197000" cy="1085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1000" y="2000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924760" y="19288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1881360" y="16430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5265720" y="16430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50000" y="16430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7" descr="D:\WORKS\MoBill-Box\Concept\productlogo_wh.png"/>
          <p:cNvPicPr/>
          <p:nvPr/>
        </p:nvPicPr>
        <p:blipFill>
          <a:blip r:embed="rId5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CA6F-869B-43C2-A9CF-9C81673097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9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17200" y="1701720"/>
            <a:ext cx="106362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Ware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hous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обеспечения автоматизации предприятия в области организаци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учета товарно-материальных ценностей на склад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позволяет автоматиз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Picture 4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309760" y="3000240"/>
            <a:ext cx="1220760" cy="7146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7" descr="&amp;Kcy;&amp;acy;&amp;rcy;&amp;tcy;&amp;icy;&amp;ncy;&amp;kcy;&amp;icy; &amp;pcy;&amp;ocy; &amp;zcy;&amp;acy;&amp;pcy;&amp;rcy;&amp;ocy;&amp;scy;&amp;ucy; &amp;khcy;&amp;rcy;&amp;acy;&amp;ncy;&amp;iecy;&amp;ncy;&amp;icy;&amp;iecy; &amp;tcy;&amp;ocy;&amp;vcy;&amp;acy;&amp;rcy;&amp;acy;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381400" y="39290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4" descr="C:\Users\denis\Pictures\27276-200.png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6381720" y="40719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7" descr="C:\Users\denis\Pictures\li-img30.png"/>
          <p:cNvPicPr/>
          <p:nvPr/>
        </p:nvPicPr>
        <p:blipFill>
          <a:blip r:embed="rId5"/>
          <a:stretch/>
        </p:blipFill>
        <p:spPr>
          <a:xfrm>
            <a:off x="3881520" y="5214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8" descr="C:\Users\denis\Pictures\images.jpg"/>
          <p:cNvPicPr/>
          <p:nvPr/>
        </p:nvPicPr>
        <p:blipFill>
          <a:blip r:embed="rId6"/>
          <a:stretch/>
        </p:blipFill>
        <p:spPr>
          <a:xfrm>
            <a:off x="6381720" y="29289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28"/>
          <p:cNvSpPr/>
          <p:nvPr/>
        </p:nvSpPr>
        <p:spPr>
          <a:xfrm>
            <a:off x="3426120" y="321480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ем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Прямоугольник 29"/>
          <p:cNvSpPr/>
          <p:nvPr/>
        </p:nvSpPr>
        <p:spPr>
          <a:xfrm>
            <a:off x="7360920" y="321480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е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Прямоугольник 30"/>
          <p:cNvSpPr/>
          <p:nvPr/>
        </p:nvSpPr>
        <p:spPr>
          <a:xfrm>
            <a:off x="3381480" y="4071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мещение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Прямоугольник 31"/>
          <p:cNvSpPr/>
          <p:nvPr/>
        </p:nvSpPr>
        <p:spPr>
          <a:xfrm>
            <a:off x="7310520" y="3929040"/>
            <a:ext cx="292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пределение ТМ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материально-ответственным лиц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Прямоугольник 32"/>
          <p:cNvSpPr/>
          <p:nvPr/>
        </p:nvSpPr>
        <p:spPr>
          <a:xfrm>
            <a:off x="4667400" y="52862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формление отчетных докум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294A-75EF-49B6-A23C-07AB65B36E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3"/>
          <p:cNvSpPr/>
          <p:nvPr/>
        </p:nvSpPr>
        <p:spPr>
          <a:xfrm>
            <a:off x="746280" y="1701720"/>
            <a:ext cx="10421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нацелена именно на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кладской учет ТМЦ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особенно упрощает и автоматизирует работ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ладских работник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стов отделов И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ов технической эксплуатации средств связи и т.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также система автоматизирует работу бухгалтерии благодаря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интегр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 бухгалтерскими программами, например, с 1С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м образом, данный программный продукт дополняет и расширяет возможности бухгалтерского учета товарно-материальных ценностей на предприят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2" descr=""/>
          <p:cNvPicPr/>
          <p:nvPr/>
        </p:nvPicPr>
        <p:blipFill>
          <a:blip r:embed="rId1"/>
          <a:stretch/>
        </p:blipFill>
        <p:spPr>
          <a:xfrm>
            <a:off x="6810480" y="3179880"/>
            <a:ext cx="4203720" cy="2939760"/>
          </a:xfrm>
          <a:prstGeom prst="rect">
            <a:avLst/>
          </a:prstGeom>
          <a:ln w="0">
            <a:noFill/>
          </a:ln>
        </p:spPr>
      </p:pic>
      <p:sp>
        <p:nvSpPr>
          <p:cNvPr id="64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20D4-732B-402B-85EE-C639DA6F78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рфей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Picture 7" descr="D:\WORKS\MoBill-Box\Concept\productlogo_wh.png"/>
          <p:cNvPicPr/>
          <p:nvPr/>
        </p:nvPicPr>
        <p:blipFill>
          <a:blip r:embed="rId2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14"/>
          <p:cNvSpPr/>
          <p:nvPr/>
        </p:nvSpPr>
        <p:spPr>
          <a:xfrm>
            <a:off x="1023480" y="1665360"/>
            <a:ext cx="54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в системе осуществляется с помощь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уитивно понятного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веб-интерфей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чие места – это веб-страницы, доступ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сех популярных браузе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3"/>
          <a:srcRect l="9149" t="0" r="57927" b="0"/>
          <a:stretch/>
        </p:blipFill>
        <p:spPr>
          <a:xfrm>
            <a:off x="7886880" y="1643040"/>
            <a:ext cx="2066760" cy="8571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4"/>
          <a:srcRect l="41159" t="0" r="24089" b="0"/>
          <a:stretch/>
        </p:blipFill>
        <p:spPr>
          <a:xfrm>
            <a:off x="7881840" y="2571840"/>
            <a:ext cx="1987560" cy="780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0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878040" y="327960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14"/>
          <p:cNvSpPr/>
          <p:nvPr/>
        </p:nvSpPr>
        <p:spPr>
          <a:xfrm>
            <a:off x="2362320" y="3236760"/>
            <a:ext cx="41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агенты, ТМЦ, документы и другие объекты описываются в собственных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карточка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виде привычных окон: открыл – изменил – сохрани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Прямоугольник 20"/>
          <p:cNvSpPr/>
          <p:nvPr/>
        </p:nvSpPr>
        <p:spPr>
          <a:xfrm>
            <a:off x="2381400" y="5072040"/>
            <a:ext cx="36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ение и изменение всех необходимых реквизитов с историей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7" name="Picture 2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952560" y="492912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4FE3-3921-467C-A1E7-E49E41312D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1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4"/>
          <p:cNvSpPr/>
          <p:nvPr/>
        </p:nvSpPr>
        <p:spPr>
          <a:xfrm>
            <a:off x="744480" y="1677960"/>
            <a:ext cx="10709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дение единой клиентской баз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организациями и физическими лиц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связей между организациями и физическими лиц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 к единой базе данных по клиентам для всех служб и отделов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ение всей истории взаимоотношений с клиенто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 КЛАД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4-12T10:05:56Z</dcterms:modified>
  <cp:revision>345</cp:revision>
  <dc:subject>MoBill-Warehouse Учет товарно-материальных ценностей</dc:subject>
  <dc:title>Презентация</dc:title>
</cp:coreProperties>
</file>