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D86B-8AC1-4CEF-8BED-375D933D0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C3E7-C952-41E0-BF21-D225B38E2A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DEC9-5F95-4462-9358-932E4A219D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4BD5-8C55-4FDD-AE47-2A743F10F0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4117-1DA9-416F-8296-7A9E0CF555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99F8-4CDD-4E78-9223-BE3E4733F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8D05-A747-4B85-8596-E7C126857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66A-D1E4-47C7-AC2E-6363BCA7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EA15-C6E2-40AC-918D-3FF42B9E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E18F3-D1A4-4733-B969-32535861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4BBA5-AFF5-403D-8EC3-893F7A88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105CB-6FEE-4FF7-A3E3-CA7761A5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F4443-AC0D-46E8-B201-63DE09FA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7DB6E-4580-4765-B728-3CEEE0D6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4E73F-5AEA-4C87-884B-3E9FA403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48EBA-1181-4B37-852A-C68D9E83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0D47F-2E76-4864-B363-47E1F970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0B9A1-3C39-438C-AB88-C8BFFD9E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F4FFA-C9A1-46BD-9545-05AB8325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F08-C13A-4134-A805-A4A5566C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5E309-F6DF-4E0F-9F7A-8DD36E77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43047-2876-4BEB-B7D5-A9CEA673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C2A68-4FEE-4BAF-8BBD-A6F7692C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BEE7F-09D0-41A2-9126-EE4581A4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84430-9E6B-4902-A7B2-5AC65B0E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DFE63-299F-4E84-9FA9-F82E72A1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6F44D-45AB-402E-BF37-DAD16D1B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6A644-3D6E-461E-B255-298998ED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6E8B5-1CC5-4E5B-80EC-95065DDB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BC7E8-C54F-4287-B04B-B378EF47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4E0-F69E-41A3-8311-DA5E0C6A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39AAD-9C43-4E7A-9A87-42F3C9E9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04CC0-FE10-44AE-B388-BEA8BA83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65389-D2EF-4789-AA95-6F6AC86F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53756-C319-4551-9935-5122E1D3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32636-9C8F-41E4-BE0F-5CB784C5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0F416-ABAC-438A-B8AB-0A6AF865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ADF6A-2FAF-43B5-B826-4B56AF90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625F4-1F76-48E7-9409-A6478C3A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4A343-B945-42E3-81F9-FBBEE0C6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8FEEF-4FA8-4FA0-B40A-F689071E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1A37-8C0C-4F73-BA7B-9675BB4B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A1913-2F70-46F7-95A2-08AEB365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35A83-3D21-452E-A97E-DAAD9AE8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4987F-A30B-4D16-9854-848F5D20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A9AE3-F58B-4D73-AB6E-057EE742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065E7-ACB0-48A6-8B25-2A18384A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05F7F-131B-4B53-A737-2251E3D6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F2957-B7F2-4435-A60C-FBD95F01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8CF71-F57D-464E-A539-56AAF44A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95543-B926-46CE-B703-E896A206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D3996-F544-42BB-B25C-0C4B164F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EDF2-1129-4E1C-9BC0-DD672A8B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57C3E-A10A-486F-80F0-CA286E0A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59AB3-1E16-41AB-9F97-38E9FBD2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A304E-5609-4845-894E-C6C1F9F9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7D866-B146-4E60-A3B0-1F458BA9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2E376-4E92-48EC-BE1C-B22DC669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56D34-D663-4723-89CE-6E450633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159A8-7265-4310-A565-9AEFA7B1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24D5D-E90E-4DF4-887D-F774A2C8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06404-63A6-432C-804E-D8DB2B64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13102-5A80-442F-B225-71AE2A7A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D401-78A1-4018-A186-A5062ED8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9B2CF-7BD8-4664-B701-A3DA649F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47D1B-D59F-496C-A127-64DA3052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270D50-2D98-4F28-9B09-3E737F12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ECF55-AE95-4238-85A4-809927A3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3B851-B734-444F-8333-75ABF12A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C2814-BF44-4F48-90DB-781787C1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8C27D-6626-428A-ABCE-60FC6CA0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C4DC-81D1-4C84-94A5-3CEB03EB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208C-B8CC-487C-83F0-3BBF3C5A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BF6D-C845-433D-B1DC-6BD8AF61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22AA-C281-469D-BB9B-835304A5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911-C019-412B-8AC8-4BFF6AED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AC47-27BA-43A2-B4B1-CABC0627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CC7D-35F4-488C-B41C-3A39471B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AA82-6FB8-4DFA-80D4-6E743C94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B3B2-4845-4A16-998E-68ECDEEF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CA15-829B-455A-AB6C-FD361E4B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F2EFD-8B8A-4557-AD22-C206636D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EAE15-20D0-407C-B416-41490C87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4EE02-6584-4D74-B215-A930F15A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2D77C-04E2-4CA4-9C60-01148E79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03AC8-1FC5-449A-A3E4-FA85ADC4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D8D-8C97-4FD8-8C0A-5EFBAABC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F6FDF-3F18-4136-A1C2-6AFB4DB1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17847-17F4-4908-9823-F0B7BCE0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18D1-2A34-4979-9D20-94EFA790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C7C91-CA46-48CE-981A-73AD127B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8A314-E356-4AAE-B405-5EE97EF6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AF6B-3C4F-48E0-826F-795D5143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C3E25-7AE6-46A2-A5AC-19F4A777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78556-85E5-497B-A212-7BE61A96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A4D49-EF4E-4431-8932-82B8E04F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31262-9C8B-4EAA-A5DE-EF2995A6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2A4-AE36-4772-96D0-BD013AAF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0EEB-947A-41E1-A3B2-AB2470CB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83564-BF95-4040-B858-0D711098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7EE6F-AC58-4558-A04E-1E95B38D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00F1-7E3F-45BE-BE42-E7E95A96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CBCD-3213-4E34-BCC2-7CCF35FE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373B2-EB05-4DF9-98A3-9E9D9BD7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092BD-01A3-4609-A742-449E40F8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5A7EF-4517-494B-9FC6-B9A454C5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58606-C189-4F2E-89A2-DEE50C22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266FF-9EDE-42E3-B8ED-EAD24403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852-66C5-48C4-9A02-2686EB5D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088B3-1EF2-4745-BCC4-3BA8B150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DC733-242E-4A6C-9F77-F187EBFF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5D2C6-6241-447D-8B0C-FF1E4CAB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FF62B-6C89-4523-9056-EAE93808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3A8B1-3E73-43F2-8EDC-8A379BBA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AFE68-9644-4406-A607-0B6B4683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EE92A-82B5-4B73-BA02-3980CF32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5DD3D-D6C0-4CAD-BD1D-C1D5AF52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26DCE-68B2-4206-BF46-7C198E6C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07623-C2D2-4AF3-A985-973E8F99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E21-9C61-444D-863D-7ACEABBA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71721-235D-4BC7-BFE3-DF5731F3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54201-6E8D-47A1-8052-019F84AE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A3B7E-D5D8-4903-A8BF-EF5DDA99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0878C-5A28-4056-A113-3EB1977A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57E77-EDF1-4384-8FCA-FEDF3128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521FA-12B5-40EC-8FD2-03F7CAF7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FD032-576B-4521-8D54-93D5C9F4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2BBBB-1B8B-41A1-8984-75E0F618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16C19-87F7-4E78-9F5B-B36F4986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F3FF9-75C3-42C1-93C5-918CFBFF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5FB-67F0-4930-845C-6F4F9464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E574F-3E12-46B6-B0E6-9D3C653B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F1D56-EA68-4423-B344-CA3DCBB8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1EAC4-2963-47A9-BAC0-1D516EF2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98FF5-09C7-4B67-991C-87A1F65D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3D29C-4D15-4D01-B16B-E90AD87F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F147C-43F7-44F1-8AB2-511B0ACB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BEF8F-A4BF-42E1-984E-C9B69CA8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4946E-4BF9-4349-B1FA-A96C515A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0199C-B5B3-4F5B-B218-1BF584C4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0923A-052B-4131-A36F-580DF161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052-C80E-4A03-935B-BF1EFE4B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2DD47-58D8-4A25-859A-9966F54C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86644-0821-4718-BF49-AF663B9C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B4046-738C-428D-970A-887CE69D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95DAA-1193-4949-96AD-AD2C5068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AE5E0-3FA6-4C15-83B4-9E184F12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55F31-4DCF-4636-8142-BEF23395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22E55-659E-4E04-B952-A3C53A48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F772E-1B81-4072-A85D-C75C2D80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7864C-C883-4F7E-89ED-61F7B807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3A457-C0C3-4FEE-80A2-AFF19E48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6DA-19C7-4074-AB96-5E90C43D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C4E70-052A-4904-970D-B25B08ED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C3A61-EEE9-45D1-87BE-30ABB153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1F6E8-9950-4003-8029-511EF8F4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C394E-6F15-4D5A-B733-D704D875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C6997-BD3B-46BC-86F5-346125DE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B9D4D-F3D0-4556-B197-F2FB29AE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616A3-9510-4226-A384-B5EC9E37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2CBED-C78F-43AF-993F-CD69ECBE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4ED5B-D3AC-4AEA-822D-8D80EF5C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3ED50-24ED-4327-9DE0-89ED5E40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E4DF-6E2E-456F-A051-D0EA1374B6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стрелка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6EBF-AEF8-4103-81E6-3DD41A49B6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D757-4500-474F-8A7F-08A0434D56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DFF3-74DE-4447-8485-F701571E61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E99F-DF29-4A9F-84FF-01BBBA271A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914400" y="2394000"/>
            <a:ext cx="10363320" cy="109440"/>
          </a:xfrm>
          <a:custGeom>
            <a:avLst/>
            <a:gdLst>
              <a:gd name="textAreaLeft" fmla="*/ 0 w 10363320"/>
              <a:gd name="textAreaRight" fmla="*/ 10363680 w 10363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стрелка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3E2C-1E19-4DA0-8ED9-3BA79F26C2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9043-1BA7-4EB2-B3EE-82259A3D79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90CD-4DB0-4BF9-9A69-703DCCA44F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CC0D-96BC-4850-B1A1-DAFD2E92C0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E22A-D3D1-4606-8789-B52C0417A4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EF56-2E7E-44D1-AE4E-49C8A112AF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FA7A-9142-49FB-9E37-48B7824219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BFC5-6271-4673-B2EA-1783FF2119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Logo2"/>
          <p:cNvPicPr/>
          <p:nvPr/>
        </p:nvPicPr>
        <p:blipFill>
          <a:blip r:embed="rId3"/>
          <a:stretch/>
        </p:blipFill>
        <p:spPr>
          <a:xfrm>
            <a:off x="7940520" y="0"/>
            <a:ext cx="3610080" cy="15429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8" descr="&amp;Kcy;&amp;acy;&amp;rcy;&amp;tcy;&amp;icy;&amp;ncy;&amp;kcy;&amp;icy; &amp;pcy;&amp;ocy; &amp;zcy;&amp;acy;&amp;pcy;&amp;rcy;&amp;ocy;&amp;scy;&amp;ucy; sms"/>
          <p:cNvPicPr/>
          <p:nvPr/>
        </p:nvPicPr>
        <p:blipFill>
          <a:blip r:embed="rId4"/>
          <a:stretch/>
        </p:blipFill>
        <p:spPr>
          <a:xfrm>
            <a:off x="8596440" y="157176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4"/>
          <p:cNvSpPr/>
          <p:nvPr/>
        </p:nvSpPr>
        <p:spPr>
          <a:xfrm>
            <a:off x="797040" y="1785960"/>
            <a:ext cx="58705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Bill – </a:t>
            </a:r>
            <a:r>
              <a:rPr b="0" lang="en-US" sz="4000" spc="-1" strike="noStrike">
                <a:solidFill>
                  <a:srgbClr val="333333"/>
                </a:solidFill>
                <a:latin typeface="Microsoft New Tai Lue"/>
              </a:rPr>
              <a:t>STS.</a:t>
            </a:r>
            <a:r>
              <a:rPr b="0" lang="en-US" sz="4000" spc="-1" strike="noStrike">
                <a:solidFill>
                  <a:srgbClr val="336699"/>
                </a:solidFill>
                <a:latin typeface="Microsoft New Tai Lue"/>
              </a:rPr>
              <a:t>SMS</a:t>
            </a:r>
            <a:br>
              <a:rPr sz="4000"/>
            </a:br>
            <a:r>
              <a:rPr b="0" lang="ru-RU" sz="28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Автоматизированная система предоставления </a:t>
            </a:r>
            <a:r>
              <a:rPr b="0" lang="en-US" sz="28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SMS</a:t>
            </a:r>
            <a:r>
              <a:rPr b="0" lang="ru-RU" sz="28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-сервисов</a:t>
            </a:r>
            <a:r>
              <a:rPr b="0" lang="en-US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Прямоугольник 7"/>
          <p:cNvSpPr/>
          <p:nvPr/>
        </p:nvSpPr>
        <p:spPr>
          <a:xfrm>
            <a:off x="880920" y="4618080"/>
            <a:ext cx="614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Сервисы «SMS информирование» и «SMS по запрос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2708-B3F6-4C20-954F-1A52CC1293B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766800" y="1773360"/>
            <a:ext cx="8962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«Мобилл плюс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уется на разработке универсальных программных систем и их внедрении в различных отраслях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работаем на рынк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1997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7" name="Picture 9" descr="Logo2"/>
          <p:cNvPicPr/>
          <p:nvPr/>
        </p:nvPicPr>
        <p:blipFill>
          <a:blip r:embed="rId1"/>
          <a:stretch/>
        </p:blipFill>
        <p:spPr>
          <a:xfrm>
            <a:off x="9667800" y="7858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588" name="Прямоугольник 11"/>
          <p:cNvSpPr/>
          <p:nvPr/>
        </p:nvSpPr>
        <p:spPr>
          <a:xfrm>
            <a:off x="809640" y="3929040"/>
            <a:ext cx="87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применяем в своих разработках технологии и программное обеспечение, которое обеспечивает высокую скорость обработки данных и высокую степень защищенности информ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9" name="Picture 6" descr="&amp;Kcy;&amp;acy;&amp;rcy;&amp;tcy;&amp;icy;&amp;ncy;&amp;kcy;&amp;icy; &amp;pcy;&amp;ocy; &amp;zcy;&amp;acy;&amp;pcy;&amp;rcy;&amp;ocy;&amp;scy;&amp;ucy; &amp;Bcy;&amp;Dcy; &amp;icy;&amp;kcy;&amp;ocy;&amp;ncy;&amp;kcy;&amp;acy;"/>
          <p:cNvPicPr/>
          <p:nvPr/>
        </p:nvPicPr>
        <p:blipFill>
          <a:blip r:embed="rId2"/>
          <a:stretch/>
        </p:blipFill>
        <p:spPr>
          <a:xfrm>
            <a:off x="9882360" y="364320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590" name="TextBox 14"/>
          <p:cNvSpPr/>
          <p:nvPr/>
        </p:nvSpPr>
        <p:spPr>
          <a:xfrm>
            <a:off x="1825560" y="3214800"/>
            <a:ext cx="65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знайте о нас больше: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ww.mobill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16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2" name="Picture 11" descr="C:\Users\denis\Pictures\20-let-raboty.png"/>
          <p:cNvPicPr/>
          <p:nvPr/>
        </p:nvPicPr>
        <p:blipFill>
          <a:blip r:embed="rId3"/>
          <a:stretch/>
        </p:blipFill>
        <p:spPr>
          <a:xfrm>
            <a:off x="9739440" y="1714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"/>
          <p:cNvGraphicFramePr/>
          <p:nvPr/>
        </p:nvGraphicFramePr>
        <p:xfrm>
          <a:off x="838080" y="2916360"/>
          <a:ext cx="10060200" cy="946080"/>
        </p:xfrm>
        <a:graphic>
          <a:graphicData uri="http://schemas.openxmlformats.org/drawingml/2006/table">
            <a:tbl>
              <a:tblPr/>
              <a:tblGrid>
                <a:gridCol w="2917800"/>
                <a:gridCol w="898560"/>
                <a:gridCol w="2665440"/>
                <a:gridCol w="1081080"/>
                <a:gridCol w="2497320"/>
              </a:tblGrid>
              <a:tr h="946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30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ысокие оценки клиентов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недрение ПО под индивидуальные требования Заказч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Постгарантийное сопровождение ПО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Моментальная техническая поддерж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Быстродействие СУБД. Низкие требования к аппаратным ресурс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4" name="Номер слайда 6"/>
          <p:cNvSpPr/>
          <p:nvPr/>
        </p:nvSpPr>
        <p:spPr>
          <a:xfrm>
            <a:off x="9299520" y="62434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DDAF-2EA8-46EE-AADA-042B4D9E1C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2381040" y="3949560"/>
            <a:ext cx="807372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рамках реализуемых проектов мы осуществляем полный комплекс работ и услу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роектный анализ требований и бизнес-процессов Заказч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аленное проведение презентаций и конференций предлагаемых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ую разработку технического за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у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ку персонала Заказч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висное гарантийное и постгарантийное обслуживание 24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6" name="Picture 5" descr="&amp;Kcy;&amp;acy;&amp;rcy;&amp;tcy;&amp;icy;&amp;ncy;&amp;kcy;&amp;icy; &amp;pcy;&amp;ocy; &amp;zcy;&amp;acy;&amp;pcy;&amp;rcy;&amp;ocy;&amp;scy;&amp;ucy; &amp;kcy;&amp;acy;&amp;chcy;&amp;iecy;&amp;scy;&amp;tcy;&amp;vcy;&amp;o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739880" y="1911240"/>
            <a:ext cx="1197000" cy="10861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&amp;Kcy;&amp;acy;&amp;rcy;&amp;tcy;&amp;icy;&amp;ncy;&amp;kcy;&amp;icy; &amp;pcy;&amp;ocy; &amp;zcy;&amp;acy;&amp;pcy;&amp;rcy;&amp;ocy;&amp;scy;&amp;ucy; &amp;shchcy;&amp;icy;&amp;tcy; &amp;icy;&amp;kcy;&amp;ocy;&amp;ncy;&amp;kcy;&amp;acy;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668920" y="2068560"/>
            <a:ext cx="787320" cy="7858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9" descr="&amp;Kcy;&amp;acy;&amp;rcy;&amp;tcy;&amp;icy;&amp;ncy;&amp;kcy;&amp;icy; &amp;pcy;&amp;ocy; &amp;zcy;&amp;acy;&amp;pcy;&amp;rcy;&amp;ocy;&amp;scy;&amp;ucy; &amp;scy;&amp;kcy;&amp;ocy;&amp;rcy;&amp;ocy;&amp;scy;&amp;tcy;&amp;sof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9190080" y="199692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599" name="TextBox 18"/>
          <p:cNvSpPr/>
          <p:nvPr/>
        </p:nvSpPr>
        <p:spPr>
          <a:xfrm>
            <a:off x="1666080" y="164304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TextBox 19"/>
          <p:cNvSpPr/>
          <p:nvPr/>
        </p:nvSpPr>
        <p:spPr>
          <a:xfrm>
            <a:off x="5195880" y="164304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Box 20"/>
          <p:cNvSpPr/>
          <p:nvPr/>
        </p:nvSpPr>
        <p:spPr>
          <a:xfrm>
            <a:off x="8528040" y="164304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758880" y="341280"/>
            <a:ext cx="80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О компани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3" name="Picture 9" descr="Logo2"/>
          <p:cNvPicPr/>
          <p:nvPr/>
        </p:nvPicPr>
        <p:blipFill>
          <a:blip r:embed="rId4"/>
          <a:stretch/>
        </p:blipFill>
        <p:spPr>
          <a:xfrm>
            <a:off x="9667800" y="7858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04" name="TextBox 1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F3EA-59E7-4CAA-A640-7CD0BA34E72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AutoShape 7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AutoShape 9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AutoShape 11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AutoShape 21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AutoShape 23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AutoShape 25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AutoShape 31"/>
          <p:cNvSpPr/>
          <p:nvPr/>
        </p:nvSpPr>
        <p:spPr>
          <a:xfrm>
            <a:off x="169704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AutoShape 33"/>
          <p:cNvSpPr/>
          <p:nvPr/>
        </p:nvSpPr>
        <p:spPr>
          <a:xfrm>
            <a:off x="169704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Прямоугольник 21"/>
          <p:cNvSpPr/>
          <p:nvPr/>
        </p:nvSpPr>
        <p:spPr>
          <a:xfrm>
            <a:off x="9739440" y="-712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Box 24"/>
          <p:cNvSpPr/>
          <p:nvPr/>
        </p:nvSpPr>
        <p:spPr>
          <a:xfrm>
            <a:off x="9882360" y="21420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SMS</a:t>
            </a: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-серви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0928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значение сервиса 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MS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нформирование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13880" y="1844640"/>
            <a:ext cx="10953720" cy="23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6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бота с личным составо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440" indent="-361440"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петчерская служба. Оперативное и своевременное оповещение руководящего состава и сотрудни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440" indent="-361440"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тренное оповещение в целях ГО и защиты от Ч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440" indent="-361440"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овещение о предстоящих и просроченных событ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Прямоугольник 29"/>
          <p:cNvSpPr/>
          <p:nvPr/>
        </p:nvSpPr>
        <p:spPr>
          <a:xfrm>
            <a:off x="709560" y="4400640"/>
            <a:ext cx="1067292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бота с клиентам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овещение должни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ылка рекламных и информационных сообщ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C8AD-66B6-4C48-AFC5-BC616DAB95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хема работы сервиса 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MS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нформирование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Box 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Прямоугольник 13"/>
          <p:cNvSpPr/>
          <p:nvPr/>
        </p:nvSpPr>
        <p:spPr>
          <a:xfrm>
            <a:off x="9739440" y="-712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TextBox 14"/>
          <p:cNvSpPr/>
          <p:nvPr/>
        </p:nvSpPr>
        <p:spPr>
          <a:xfrm>
            <a:off x="9882360" y="21420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SMS</a:t>
            </a: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-серви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43" descr=""/>
          <p:cNvPicPr/>
          <p:nvPr/>
        </p:nvPicPr>
        <p:blipFill>
          <a:blip r:embed="rId1"/>
          <a:stretch/>
        </p:blipFill>
        <p:spPr>
          <a:xfrm>
            <a:off x="952560" y="1785960"/>
            <a:ext cx="10279080" cy="421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34C0-F410-4354-A4E9-A1F1C654369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значение сервиса 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MS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 запросу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Box 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Прямоугольник 12"/>
          <p:cNvSpPr/>
          <p:nvPr/>
        </p:nvSpPr>
        <p:spPr>
          <a:xfrm>
            <a:off x="9739440" y="-712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TextBox 13"/>
          <p:cNvSpPr/>
          <p:nvPr/>
        </p:nvSpPr>
        <p:spPr>
          <a:xfrm>
            <a:off x="9882360" y="21420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SMS</a:t>
            </a: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-серви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738360" y="1785960"/>
            <a:ext cx="8135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ередача информации от клиент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ем показаний приборов учета: Электросчетчик, ГВС, ХВС и т.п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Rectangle 24"/>
          <p:cNvSpPr/>
          <p:nvPr/>
        </p:nvSpPr>
        <p:spPr>
          <a:xfrm>
            <a:off x="666720" y="3429000"/>
            <a:ext cx="81360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Обработка запросов от клиентов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апрос информации о задолженнос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апрос состояния обработки обращения клиен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правление услугами: подключение, блокировани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65DF-9A94-4D62-81EB-BC25A78369A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хема работы сервиса 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MS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 запросу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TextBox 1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Прямоугольник 20"/>
          <p:cNvSpPr/>
          <p:nvPr/>
        </p:nvSpPr>
        <p:spPr>
          <a:xfrm>
            <a:off x="9739440" y="-712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extBox 21"/>
          <p:cNvSpPr/>
          <p:nvPr/>
        </p:nvSpPr>
        <p:spPr>
          <a:xfrm>
            <a:off x="9882360" y="21420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SMS</a:t>
            </a: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-серви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878040" y="1857240"/>
            <a:ext cx="10432800" cy="41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2E53-BD56-4AFB-B601-4CAC6991A6F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0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6"/>
          <p:cNvSpPr/>
          <p:nvPr/>
        </p:nvSpPr>
        <p:spPr>
          <a:xfrm>
            <a:off x="2905200" y="364320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пания «Мобилл плюс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Уфа, улица Менделеева, 13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2952720" y="471492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47)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6-66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Text Box 8"/>
          <p:cNvSpPr/>
          <p:nvPr/>
        </p:nvSpPr>
        <p:spPr>
          <a:xfrm>
            <a:off x="6611760" y="468936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bill@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4" name="Picture 9" descr="Logo2"/>
          <p:cNvPicPr/>
          <p:nvPr/>
        </p:nvPicPr>
        <p:blipFill>
          <a:blip r:embed="rId3"/>
          <a:stretch/>
        </p:blipFill>
        <p:spPr>
          <a:xfrm>
            <a:off x="4272120" y="1928880"/>
            <a:ext cx="3609720" cy="15429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766800" y="142920"/>
            <a:ext cx="108014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Bill – </a:t>
            </a:r>
            <a:r>
              <a:rPr b="0" lang="en-US" sz="4000" spc="-1" strike="noStrike">
                <a:solidFill>
                  <a:srgbClr val="333333"/>
                </a:solidFill>
                <a:latin typeface="Microsoft New Tai Lue"/>
              </a:rPr>
              <a:t>STS.</a:t>
            </a:r>
            <a:r>
              <a:rPr b="0" lang="en-US" sz="4000" spc="-1" strike="noStrike">
                <a:solidFill>
                  <a:srgbClr val="336699"/>
                </a:solidFill>
                <a:latin typeface="Microsoft New Tai Lue"/>
              </a:rPr>
              <a:t>SMS </a:t>
            </a:r>
            <a:br>
              <a:rPr sz="4000"/>
            </a:br>
            <a:r>
              <a:rPr b="0" lang="ru-RU" sz="24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 Автоматизированная система предоставления </a:t>
            </a:r>
            <a:r>
              <a:rPr b="0" lang="en-US" sz="24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SMS</a:t>
            </a:r>
            <a:r>
              <a:rPr b="0" lang="ru-RU" sz="24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-сервисов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TextBox 9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12:36Z</dcterms:created>
  <dc:creator>ООО "Мобилл плюс"</dc:creator>
  <dc:description/>
  <dc:language>en-US</dc:language>
  <cp:lastModifiedBy>Андрей</cp:lastModifiedBy>
  <dcterms:modified xsi:type="dcterms:W3CDTF">2017-06-01T10:26:38Z</dcterms:modified>
  <cp:revision>335</cp:revision>
  <dc:subject>MoBill-STS.SMS SMS-сервисы</dc:subject>
  <dc:title>Презентация</dc:title>
</cp:coreProperties>
</file>