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5A8C-F517-42F5-B16F-8DBCCCA0A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1BFA-4C10-4CF7-942A-398EDA57D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A44D-F3B9-4A3D-A6F8-A452194D0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5FCD-D665-4398-A5B5-C0B8B8018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9D6F-85A8-4351-875C-BB68A9B2A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CD3C-E535-40C5-9155-4B5F02D78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2F3-9206-44BD-900C-F9612A41F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72B2-8B31-4F77-B094-2646C9B46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58B-12F6-4610-81F4-FD274EFD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DDA-4586-42D9-8C0E-DB171514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22B47-7C98-4C1A-9077-1CFE477A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129E8-EB15-4DEF-A489-F5B88A45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7FFD4-114E-4500-B287-36706EE9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6422C-D0B9-4BF2-AC5A-A78EB83B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714EB-E4AE-4734-985F-5C5B62D0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B5FC7-7F48-423C-B933-E586564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C613B-C95C-4F9A-81B8-76C70B17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26089-4896-4EDE-91AB-0914C1F9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067B-EE88-4A8E-8109-F79CEDBD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AF5EF-2A49-49E7-BCD7-2AE4278E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56F-D63A-4A26-9CBF-0ED72DD9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ADF31-814D-444B-A231-D713AA8D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D948F-915E-45C5-A309-6E4CCE30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A29C8-F44C-4D36-ADF1-ED3583DF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408DD-8770-44CF-A6AE-6EB73A12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09ECD-F520-466A-B7FB-EA2EE84F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4BDD0-524C-4DCA-AE8A-645A2EAB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BCC95-3037-41E7-B5D2-BFD3C076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3D07F-E08C-4058-BFCA-A31500BF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FFCEE-4E17-4584-AAD5-1C2268D1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94D02-BDC4-402A-898A-46B15AD0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3E7-9766-42EF-8A38-2BA4C0DA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E7432-FA33-40BF-A02E-96BD6EDA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1DA52-479E-4A1C-A7CD-424B24EC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FD7C3-1CC9-4AF4-8E10-1CF915F5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BEAF9-CF66-4150-82DF-FA45D4C3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BA851-A087-4C73-97BB-E139D3CB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BBEA3-B0FE-4B9C-8562-C004BA75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40835-2FC6-439F-840D-048B77B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79320-1FA1-4A1E-9064-8AF57D9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4E7CB-B0AF-430A-B19D-0F6E9EF2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6C8AF-DC2B-4174-BB7F-1453E9B6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F9DD-B69F-457A-B779-7B233DB0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538EE-9A87-49C3-A5DE-3015ABB2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FAAC9-D918-4F37-9057-9EFFA129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93C73-B8A2-49D7-8F60-89A07DEF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3B9D7-866B-4F26-8A1F-045EF44B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C4866-B400-4C9F-9DAC-CDFFAE72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2D851-1E01-47AA-A978-F2CCA6ED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95CC3-685B-4C48-97BF-9AEAC3AA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D35AD-F66C-4F0B-935B-BBC00FCB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FB2EB-490A-4BFB-9E1C-F242DB7A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347A6-B45C-4250-B9B0-3F00D140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3B0C-906D-42CC-B610-701D4D78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8E638-A2B1-4961-96F0-FC4E4C6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3F591-3CAA-4563-9573-3BF16DB2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E53AA-7D1C-4541-8BF5-EF464B69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1AB37-CABD-4518-80EA-B6433760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4A7D4-80DB-4220-9A87-B9258EC6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D8D4B-3E2E-4D0F-9177-0F75FBD7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89510-15D9-4756-A8DB-9BA316C5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3C0D7-4BC4-49DE-A230-50475501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347D0-BC47-4318-BCF8-E5480E68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92E5D-B6FB-443B-BF62-08BBB665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22AB-0433-4813-9DE7-1E47E47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46CAD-A165-441F-A4CA-53BA1A79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7093F-DD17-472B-8730-3EEE75F4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9915A-86A9-4B42-B7CC-C5559EF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0C59A-CC5F-41D7-B981-38BD30D9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52F16-35A4-439B-AE78-AE07E08C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1097F-35BE-4CED-A0D9-E943672B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D5E2F-0F7A-47FA-91DC-16C54814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93AD-D2AB-475C-A059-9C126296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B7C9-654E-4797-A8E6-5C35757F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64A2-8D53-420E-B8B5-D8A73C54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984B-B1DA-476A-A2E8-49056CF6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F55-C72F-4E8F-BAA4-D91D940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9BC7-C1E4-4803-88C6-DD93F48E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CF50-6B90-42AD-A000-1579F50E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6452-495F-4881-BD32-17BDE882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7E4B-E796-4F91-8708-5C49EACE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019B-D243-4C1A-9038-3EAB6FAA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C275-C424-403A-913F-C5964569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072F3-E747-4A2B-9CC5-76ED221F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96B0-68EC-4E38-94D9-D3D99D90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F651-42A3-4A39-BDF5-9FCB75B3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E2B3-085A-49C9-808F-326A551F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B26-39FC-4BC7-8465-5871FCE3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EF3F-3976-4B10-AA65-9F851753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9538-B158-4869-BC1C-1EA60BD0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5D9C-65D0-4506-9723-18DB51B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A217-AB77-4F1A-B580-D9DE8203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90BF-0C3B-4311-958E-417ACDEA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09D8-E2E4-417E-8D5D-E65B771F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5200-D3EE-4386-8DA7-40CF6F4A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908E-8416-4FAB-B737-88180584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6B1D-80D0-4B54-B44A-B54E6277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8D5BA-CCAC-4FD8-91CA-9DBC5A32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7D8-82CC-4950-A738-8874C9F9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6D9D-B1E6-45EB-A8D1-31C73D8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523E-A45D-43BB-963D-BAAF0D4C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3A88-0622-46EA-A821-CE7AAB0A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42F8-D5AB-4C34-AD21-C4F0320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8E783-6135-4322-B5D9-4156E91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EE26E-A96E-4F6A-81E6-8200B55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72B6-5E59-429B-854A-95B06A84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B873-8EFC-42D5-90C7-8992BEFF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6ADC3-95E2-4B48-8FC2-418135E3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C05D4-3C5B-4EC6-8C64-88B9FB9D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3E2-D007-451A-9036-4F23028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17D98-1379-4E86-91ED-C2015126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46A2-A2A9-4026-B751-ADDC5E81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9CB1-1CBD-468B-8B10-FA3B2949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DAA9-4E72-4678-95BE-68B3FD0D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F87E1-A0A1-4B3C-AF74-FEFBD3D4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D07C1-504B-4322-B98B-9C4F900D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6760D-F635-412B-A883-CF4607CF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F04A-9BE9-4BE4-9453-A8D8B8CF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AEBD-0611-48CF-A51E-8148DAC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83787-ACB8-44BA-8DE6-8EBF469E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7CF-8168-4C3E-A007-6F0B9114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0897-F2AF-4C85-B306-FA254DFA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E561D-6C3F-45D8-AA64-511146C9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612BA-9A2E-43FA-8830-8BD173F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98213-8829-4D31-A630-F0D723F3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0F27E-59B1-4BA7-8A21-30F895C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D84D0-4614-43E1-A7D4-AF98CD65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25BEB-3C66-40E6-9ED5-244F9578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922AE-C2BF-4B6C-912E-4A913F3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240D7-E05F-475A-A064-3942BFF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9CD1-BAEC-4EAE-B8CF-06DC2994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F21-C8DD-4D92-9679-16488FF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B40E9-7B33-4EF2-AD5D-C56D11C4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2A2C-948F-4816-A314-AD8AA06C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D3A81-7031-42E4-A06B-6CC13DE4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F7881-F6B0-422C-8B12-10D7D4B4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C4570-4ED4-4851-B92E-B879910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37CDC-B223-4F40-8518-A0459D15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37A2-37A7-4686-8B10-AD142144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16F91-1E77-4741-AF7A-D6C485A3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F0167-0590-428A-B901-F4C9008D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8F614-04B3-4EA9-8722-ABC51E44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B6B-F36B-4FEF-A54E-CEE0F75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BDD3-D916-447F-8BB1-9CF34133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FC74D-3031-4A85-A7BF-E62B9EA9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07C85-F6DA-4120-9876-A6FDB194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D9FB-300D-4C70-B0DA-92FEC993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B3089-D170-405C-AC15-57663B42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929AE-A472-4FCE-A85F-0C4F24EC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02B22-7C5E-42B2-BD79-A630A183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1BD5D-E608-43EA-BC84-644C5F2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B8AF0-F850-4AC3-861B-C51106A3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12201-5964-4EA2-A220-AA598EC7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53D-3C23-43B8-87B3-9D01B56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02EDA-8A90-41E2-8C93-41E3C100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6B20E-D21C-45E9-8E69-504A58D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4A532-5AEC-4E60-B885-20B8B914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8829F-9591-4FFD-9F34-9A96843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7367C-02DD-44BD-8193-18B2FEF8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C7905-6591-4A32-AE4F-110A3691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21FCF-4973-4483-B913-3E98B9FE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FB70F-2B5B-4F11-9ED5-CB769239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2F237-8518-458E-BE4E-9D011E81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9DA9-8E5F-4006-BCD7-21C225A3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38A5-A169-4385-BEEE-94F3C76DBD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FAD2-4423-44D1-8225-3E92500D64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C213-EE69-4DCB-A44D-D8EFB4AA7F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219F-D2A4-4121-A8A9-BF7E04109D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45BE-7332-44EF-AD2B-470348492D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BA78-2AAC-4D67-B265-83DEAB5B34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20AE-37D9-4BEA-B833-DADA5B19B5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19F3-DEEF-4640-82D9-99404392CB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088D-6F29-4062-BAEF-E828280280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71DB-EE11-4780-AA19-79DFACD825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4006-3C70-4227-ABA0-E920BBBA42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508D-CE0A-4AE3-8BDB-6854EA107A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5D90-8737-4B64-B27B-B28867B378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40520" y="0"/>
            <a:ext cx="3610080" cy="15429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725400" y="1785960"/>
            <a:ext cx="6942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Bill – STS.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Notify</a:t>
            </a:r>
            <a:br>
              <a:rPr sz="4400"/>
            </a:b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Автоматизирован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голосового и </a:t>
            </a:r>
            <a:r>
              <a:rPr b="0" lang="en-US" sz="3200" spc="-1" strike="noStrike">
                <a:solidFill>
                  <a:srgbClr val="333333"/>
                </a:solidFill>
                <a:latin typeface="Microsoft Sans Serif"/>
              </a:rPr>
              <a:t>SMS-</a:t>
            </a: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оповещ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14" descr="&amp;Kcy;&amp;acy;&amp;rcy;&amp;tcy;&amp;icy;&amp;ncy;&amp;kcy;&amp;icy; &amp;pcy;&amp;ocy; &amp;zcy;&amp;acy;&amp;pcy;&amp;rcy;&amp;ocy;&amp;scy;&amp;ucy; &amp;ocy;&amp;bcy;&amp;zcy;&amp;vcy;&amp;ocy;&amp;ncy;"/>
          <p:cNvPicPr/>
          <p:nvPr/>
        </p:nvPicPr>
        <p:blipFill>
          <a:blip r:embed="rId4"/>
          <a:stretch/>
        </p:blipFill>
        <p:spPr>
          <a:xfrm>
            <a:off x="8786880" y="17859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FC30-C3B3-4D67-9035-61CAD487D5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обен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Box 12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Прямоугольник 8"/>
          <p:cNvSpPr/>
          <p:nvPr/>
        </p:nvSpPr>
        <p:spPr>
          <a:xfrm>
            <a:off x="738360" y="1714680"/>
            <a:ext cx="1081080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ножество сценариев работы систем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ограниченное количество сообще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ндивидуальная работа с различными группами абонентов вплоть до работы с отдельными абонентам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новременное оповещение нескольких абонентов по различным канала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учной или автоматический запуск систем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можность интеграции с другими информационными системам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можность поэтапного расширения как по операторским местам, так и по количеству подключаемых каналов оповещ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4EF7-442B-44C9-94FA-2C563AC28D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TextBox 12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714240" y="1785960"/>
            <a:ext cx="1088244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атизация процесса оповещения резко сокращает трудозатраты персонала оперативных и диспетчерских служ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временное использование нескольких каналов связи резко увеличивает производительность оповещения (голосовое по потоку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о 50 абонентов в минуту, до 10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S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бщений в минуту через Интерне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лючается вероятность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ая поддержка 2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от ООО «Мобилл плюс» позволяет оперативно выявлять и устранять неисправ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D26B-1468-4B31-890A-B54B3C4630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ыт внедр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12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2560" y="1857240"/>
            <a:ext cx="10699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граммное обеспечение комплекса является собственной разработкой ООО «Мобилл плюс» и зарегистрировано (свидетельство о регистрации программы для ЭВМ № 2007612750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истем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недрена и успешно эксплуатируются в таких организациях как Аппарат Правительства Республики Башкортостан, ОАО АНК Башнефть, в подразделении Башкирэнерго в ООО Баштеплосбы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 БашРЭС - БашРТС, ЗАО «АйТи», МУП УЖХ г.Уфы (ЕРКЦ), в подразделении ОАО Газпром - АланияРегионГаз, г.Владикавказ, АФ-Банк, ОАО АКБ «Газпромбанк», Юниаструмбанк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ГУЗ РКБ имени Г.Г. Куватова и др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B59E-1E66-4982-9E2F-F0A74CE386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оугольник 13"/>
          <p:cNvSpPr/>
          <p:nvPr/>
        </p:nvSpPr>
        <p:spPr>
          <a:xfrm>
            <a:off x="714240" y="1812960"/>
            <a:ext cx="1073952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граниченное количество сценариев оповещения для разных групп абоне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временная работа разных сценариев оповещения для разных групп абонентов. Возможность формирования локальных (по филиалам) и общих сценариев опове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временная работа оповещения на нескольких телефонных линиях и передача различной информации разным группам абоне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указания нескольких контактных телефонов оповещаемых абонент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параметров голосового оповещения абонентов: установка приоритетов дозвона до абонентов, последовательность набора номеров абонента, количество попыток соединения, время ожидания соединения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Прямоугольник 9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9D82-C64B-4B21-93CD-7A7DB1D6AA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Box 11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Прямоугольник 13"/>
          <p:cNvSpPr/>
          <p:nvPr/>
        </p:nvSpPr>
        <p:spPr>
          <a:xfrm>
            <a:off x="738360" y="1785960"/>
            <a:ext cx="1064412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уск процесса оповещения в следующих режим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чной. Оператор вручную запускает сценарии для оповещения отдельных абонентов, групп абонентов или всей абонентской баз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ческий. В этом случае настраивается планировщик, который определяет, в какое время и каких абонентов оповещать. Гибкое расписание оповещ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уск по команде из другой системы опов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голосовых сообщений следующими способа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ие звуковых файлов, записанных заране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запись с микрофона подробностей возникшей чрезвычайной ситу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предоставления из базы данных различной персональной информации, сроков, суммы задолженности и т.п. для каждого абонента с авторизацией по логину и парол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308F-BF85-4660-9194-E98807FFED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Box 11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Прямоугольник 13"/>
          <p:cNvSpPr/>
          <p:nvPr/>
        </p:nvSpPr>
        <p:spPr>
          <a:xfrm>
            <a:off x="738360" y="1798560"/>
            <a:ext cx="105724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данных для оповещения абонентов может быть как внешняя база данных, так и  обыкновенный Excel-файл или текстовый док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теграция с различными базами данных для получения актуальной информации об абонент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запроса у оповещаемого абонента подтверждения о прослушивании сообщения, что позволяет вести подробную статистику процента дослушанных до конца сообщ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тверждение приема абонентом сообщения: снятие трубки, голосовой ответ, PIN код (после проигрывания сообщения абонент с клавиатуры набирает последовательность цифр, и, если оповещаемый набрал правильную последовательность, оповещение считается успешны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сь голосового подтверждения абонента о принятии сигнала Системы оповещения с возможностью прослушивания этого подтвержд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8B01-EB64-4BE7-91F7-FA1F90FB9D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Box 11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Прямоугольник 13"/>
          <p:cNvSpPr/>
          <p:nvPr/>
        </p:nvSpPr>
        <p:spPr>
          <a:xfrm>
            <a:off x="738360" y="1820880"/>
            <a:ext cx="107154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рассылки SMS-сообщений на мобильные телефоны абонентов по различным выборкам с указанием актуальной информации об абоненте (номер лицевого счета, задолженность и проче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текста SMS -сообщения согласно шабло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параметров SMS-оповещения (количество сообщений, временной интервал их передачи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матическая рассылка абонентам заранее подготовленных или оперативно сформированных диспетчером SMS-сообщений в качестве резервного варианта при отсутствии связи с абонентом по мобильному или городскому номе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ксация отчетов об отправке для контроля доставки SMS-сообщений абонент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939F-CD9C-4CD9-B8AF-A45C2037EC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Прямоугольник 17"/>
          <p:cNvSpPr/>
          <p:nvPr/>
        </p:nvSpPr>
        <p:spPr>
          <a:xfrm>
            <a:off x="738360" y="1828800"/>
            <a:ext cx="1071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хранение результатов оповещения («Команда в очереди», «Абонент не отвечает», «Абонент занят», «Не удалось полностью проиграть сообщение», «Абонент оповещен», «Абонент не ввел свой код», «Сообщение доставлено», «Получен отчет о доставке» и т.д.) в специальных журналах с целью дальнейшего доступа и анализа данных операторами Системы оповещ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отчетов работы Системы оповещения с выдачей на принтер, сохранением в файлы различных форма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ное журналирование действий пользователе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даленное администрирование системы по IP-се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граничение прав доступа пользователей Системы в зависимости от их функций и обязанност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Прямоугольник 11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Box 12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843-AC05-4EA4-B9FE-FF61648B60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цесс функционир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Прямоугольник 12"/>
          <p:cNvSpPr/>
          <p:nvPr/>
        </p:nvSpPr>
        <p:spPr>
          <a:xfrm>
            <a:off x="738360" y="1712880"/>
            <a:ext cx="1071540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варительно формируются несколько сценариев опов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каждого сценария диспетчером записываются с микрофона стандартные файлы опов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траивается планировщик, который определяет, в какое время и каких абонентов оповещ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запуске одного из сценариев оповещения происходит проигрывание записанного ранее стандартного файла оповещения и, при необходимости, проигрывание дополнительно-записываемого файла с конкретизацией причины или дополнительной информаци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цессе автоматизированного оповещения происходит отметка результатов оповещения в электронном отчете («Команда в очереди», «Абонент не отвечает», «Абонент занят», «Не удалось полностью проиграть сообщение», «Абонент оповещен», «Абонент не ввел свой код»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чески происходит формирование журнала всех действий диспетчера и процесса оповещения персона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Прямоугольник 10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TextBox 11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253E-DEED-4E27-BB55-B1B9CB9B95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РМ операт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extBox 1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Прямоугольник 12"/>
          <p:cNvSpPr/>
          <p:nvPr/>
        </p:nvSpPr>
        <p:spPr>
          <a:xfrm>
            <a:off x="809640" y="1785960"/>
            <a:ext cx="3286080" cy="28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ение заданий на оповещ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списков абонентов для доступных сценарие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общего списка абонентов для данного подразде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Picture 16" descr=""/>
          <p:cNvPicPr/>
          <p:nvPr/>
        </p:nvPicPr>
        <p:blipFill>
          <a:blip r:embed="rId1"/>
          <a:stretch/>
        </p:blipFill>
        <p:spPr>
          <a:xfrm>
            <a:off x="3881520" y="2500200"/>
            <a:ext cx="5283000" cy="36356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7" descr=""/>
          <p:cNvPicPr/>
          <p:nvPr/>
        </p:nvPicPr>
        <p:blipFill>
          <a:blip r:embed="rId2"/>
          <a:stretch/>
        </p:blipFill>
        <p:spPr>
          <a:xfrm>
            <a:off x="8024760" y="1643040"/>
            <a:ext cx="3429000" cy="3957840"/>
          </a:xfrm>
          <a:prstGeom prst="rect">
            <a:avLst/>
          </a:prstGeom>
          <a:ln w="0">
            <a:noFill/>
          </a:ln>
        </p:spPr>
      </p:pic>
      <p:sp>
        <p:nvSpPr>
          <p:cNvPr id="719" name="Прямоугольник 9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822B-9737-4158-BFD8-53A4820FCA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766800" y="1773360"/>
            <a:ext cx="8962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9" descr="Logo2"/>
          <p:cNvPicPr/>
          <p:nvPr/>
        </p:nvPicPr>
        <p:blipFill>
          <a:blip r:embed="rId1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1"/>
          <p:cNvSpPr/>
          <p:nvPr/>
        </p:nvSpPr>
        <p:spPr>
          <a:xfrm>
            <a:off x="809640" y="3929040"/>
            <a:ext cx="87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технологии и программное обеспечение, которое обеспечивает высокую скорость обработки данных и высокую степень защищенности информ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6" descr="&amp;Kcy;&amp;acy;&amp;rcy;&amp;tcy;&amp;icy;&amp;ncy;&amp;kcy;&amp;icy; &amp;pcy;&amp;ocy; &amp;zcy;&amp;acy;&amp;pcy;&amp;rcy;&amp;ocy;&amp;scy;&amp;ucy; &amp;Bcy;&amp;D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9882360" y="364320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4"/>
          <p:cNvSpPr/>
          <p:nvPr/>
        </p:nvSpPr>
        <p:spPr>
          <a:xfrm>
            <a:off x="1825560" y="321480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16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739440" y="1714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10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1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2E76-5151-43E3-B072-F173C03B07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ключение к линиям связ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TextBox 1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Прямоугольник 9"/>
          <p:cNvSpPr/>
          <p:nvPr/>
        </p:nvSpPr>
        <p:spPr>
          <a:xfrm>
            <a:off x="785880" y="1701720"/>
            <a:ext cx="588168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ключение по потоку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Е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ли по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соединительным телефонным линия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СЛ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Е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протокол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DN PR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 - цифровые линии связи (заводятся оптикой или 4-х парной медью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Особенность - через 1 поток одновременно можно оповестить 30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обычные двухпроводные телефонные линии от ГТС или от миниАТС на правах аналогового абонент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не путать с цифровыми или системными двухпроводными линиям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через 1 линию одновременно можно оповестить только 1 абоне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14" descr="e1_pci_t"/>
          <p:cNvPicPr/>
          <p:nvPr/>
        </p:nvPicPr>
        <p:blipFill>
          <a:blip r:embed="rId1"/>
          <a:srcRect l="0" t="5169" r="6809" b="51298"/>
          <a:stretch/>
        </p:blipFill>
        <p:spPr>
          <a:xfrm>
            <a:off x="7093080" y="1643040"/>
            <a:ext cx="2646360" cy="20001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8" descr="последовательное"/>
          <p:cNvPicPr/>
          <p:nvPr/>
        </p:nvPicPr>
        <p:blipFill>
          <a:blip r:embed="rId2">
            <a:lum contrast="6000"/>
            <a:alphaModFix amt="55000"/>
          </a:blip>
          <a:stretch/>
        </p:blipFill>
        <p:spPr>
          <a:xfrm>
            <a:off x="7101000" y="3714840"/>
            <a:ext cx="3781440" cy="2433600"/>
          </a:xfrm>
          <a:prstGeom prst="rect">
            <a:avLst/>
          </a:prstGeom>
          <a:ln w="0">
            <a:noFill/>
          </a:ln>
        </p:spPr>
      </p:pic>
      <p:sp>
        <p:nvSpPr>
          <p:cNvPr id="727" name="Прямоугольник 12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TextBox 13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8E58-8CC3-4996-B566-49EFE10AC5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ниторинг сервера опове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TextBox 1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Прямоугольник 12"/>
          <p:cNvSpPr/>
          <p:nvPr/>
        </p:nvSpPr>
        <p:spPr>
          <a:xfrm>
            <a:off x="785880" y="1857240"/>
            <a:ext cx="47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ниторинг событий в системе (запуск платы, ход оповещения и 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3" name="Object 2"/>
          <p:cNvGraphicFramePr/>
          <p:nvPr/>
        </p:nvGraphicFramePr>
        <p:xfrm>
          <a:off x="5381640" y="1785960"/>
          <a:ext cx="49975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1640" y="1785960"/>
                    <a:ext cx="49975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AutoShape 11"/>
          <p:cNvSpPr/>
          <p:nvPr/>
        </p:nvSpPr>
        <p:spPr>
          <a:xfrm>
            <a:off x="9096480" y="5143680"/>
            <a:ext cx="2100240" cy="636480"/>
          </a:xfrm>
          <a:prstGeom prst="wedgeRoundRectCallout">
            <a:avLst>
              <a:gd name="adj1" fmla="val -149805"/>
              <a:gd name="adj2" fmla="val 187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 по абонент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AutoShape 18"/>
          <p:cNvSpPr/>
          <p:nvPr/>
        </p:nvSpPr>
        <p:spPr>
          <a:xfrm>
            <a:off x="8953560" y="2295360"/>
            <a:ext cx="2038320" cy="919440"/>
          </a:xfrm>
          <a:prstGeom prst="wedgeRoundRectCallout">
            <a:avLst>
              <a:gd name="adj1" fmla="val -65162"/>
              <a:gd name="adj2" fmla="val -349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ало воспроизведения фай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Прямоугольник 12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46FC-DA18-400C-8B37-2327C26B1B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смотр отчет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TextBox 1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2" name="Picture 27" descr=""/>
          <p:cNvPicPr/>
          <p:nvPr/>
        </p:nvPicPr>
        <p:blipFill>
          <a:blip r:embed="rId1"/>
          <a:stretch/>
        </p:blipFill>
        <p:spPr>
          <a:xfrm>
            <a:off x="2809800" y="1790640"/>
            <a:ext cx="6786720" cy="435312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7844-9BC6-4656-AF0E-DAB25B301A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0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751" name="TextBox 9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809640" y="0"/>
            <a:ext cx="105728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STS.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Notify</a:t>
            </a:r>
            <a:br>
              <a:rPr sz="4000"/>
            </a:br>
            <a:r>
              <a:rPr b="0" lang="ru-RU" sz="2400" spc="-1" strike="noStrike">
                <a:solidFill>
                  <a:srgbClr val="333333"/>
                </a:solidFill>
                <a:latin typeface="Microsoft Sans Serif"/>
              </a:rPr>
              <a:t>Автоматизированная система голосового и </a:t>
            </a:r>
            <a:r>
              <a:rPr b="0" lang="en-US" sz="2400" spc="-1" strike="noStrike">
                <a:solidFill>
                  <a:srgbClr val="333333"/>
                </a:solidFill>
                <a:latin typeface="Microsoft Sans Serif"/>
              </a:rPr>
              <a:t>SMS-</a:t>
            </a:r>
            <a:r>
              <a:rPr b="0" lang="ru-RU" sz="2400" spc="-1" strike="noStrike">
                <a:solidFill>
                  <a:srgbClr val="333333"/>
                </a:solidFill>
                <a:latin typeface="Microsoft Sans Serif"/>
              </a:rPr>
              <a:t>оповещ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838080" y="2916360"/>
          <a:ext cx="100602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81080"/>
                <a:gridCol w="249732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Номер слайда 6"/>
          <p:cNvSpPr/>
          <p:nvPr/>
        </p:nvSpPr>
        <p:spPr>
          <a:xfrm>
            <a:off x="9299520" y="62434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FE46-769C-46F2-B1AC-9790A3E7E1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2381040" y="3949560"/>
            <a:ext cx="80737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900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519588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Box 20"/>
          <p:cNvSpPr/>
          <p:nvPr/>
        </p:nvSpPr>
        <p:spPr>
          <a:xfrm>
            <a:off x="852804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758880" y="34128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9" descr="Logo2"/>
          <p:cNvPicPr/>
          <p:nvPr/>
        </p:nvPicPr>
        <p:blipFill>
          <a:blip r:embed="rId4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Прямоугольник 13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A36F-1C7B-4D96-A4A6-D3BAA25E57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AutoShape 9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AutoShape 11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AutoShape 21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AutoShape 23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AutoShape 25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AutoShape 31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AutoShape 33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09280" y="1714680"/>
            <a:ext cx="105728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интеллектуальное решение для автоматизации процедуры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голосов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оповещ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MS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-инфор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большого числа абонентов по телефонным линиям на мобильные и городские номе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оперативного оповещения сотрудников в целях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гражданской оборо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делы мобилизационной подготовки) и при возникновени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резвычайных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варийных ситуац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технологических нарушени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инженерных сетях (диспетчерские службы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оповещения о сумме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ли предстоящих выпла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вещение постоянных клиентов об изменении реквизитов компании, ассортимента или цен на основные товары или услуг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ие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рекламных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ампаний и социологических  опросов по телефо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Прямоугольник 15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Box 16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F263-0540-4DA4-9A86-8419602C63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феры примен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16" descr=""/>
          <p:cNvPicPr/>
          <p:nvPr/>
        </p:nvPicPr>
        <p:blipFill>
          <a:blip r:embed="rId1"/>
          <a:stretch/>
        </p:blipFill>
        <p:spPr>
          <a:xfrm>
            <a:off x="2657520" y="1731960"/>
            <a:ext cx="6767640" cy="441972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9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11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768-D238-4B17-BD9A-CD862CA734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особы опове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730080" y="1857240"/>
            <a:ext cx="108666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гоканальное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голосовое оповещение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аналоговым телефонным линиям, цифровым потокам Е1, каналам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телефонии на мобильные и городские номера абон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дача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SMS-сообщен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одготовленных заранее согласно шаблону, через GSM-модем или SMS-центр MoBill с контролем доставки сообщений клиента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правка юридическим лицам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ообщений по факсу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актуальными данными из произвольной базы данных индивидуально для каждого абон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ылка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электронной поч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Прямоугольник 10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TextBox 11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5FE8-7E51-434E-B52B-6F0F20CD82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особы опове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7" name="Object 15"/>
          <p:cNvGraphicFramePr/>
          <p:nvPr/>
        </p:nvGraphicFramePr>
        <p:xfrm>
          <a:off x="3381480" y="1714680"/>
          <a:ext cx="55720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1480" y="1714680"/>
                    <a:ext cx="5572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TextBox 8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21CB-CD7F-442F-9E71-C616CA97D0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особы опове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4" name="Object 3"/>
          <p:cNvGraphicFramePr/>
          <p:nvPr/>
        </p:nvGraphicFramePr>
        <p:xfrm>
          <a:off x="2881440" y="1714680"/>
          <a:ext cx="6546600" cy="43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1440" y="1714680"/>
                    <a:ext cx="654660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TextBox 8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DF89-BCB3-43A7-A257-77983D0627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нцип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Box 12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809640" y="1785960"/>
            <a:ext cx="10501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оповещения работает аналогично человеку-оператор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Прямоугольник 18"/>
          <p:cNvSpPr/>
          <p:nvPr/>
        </p:nvSpPr>
        <p:spPr>
          <a:xfrm>
            <a:off x="738360" y="2357280"/>
            <a:ext cx="10572480" cy="38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ирает нужных абонентов и формирует спис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нимает трубку, набирает номер (готовит сообщ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ет статус абонента: занят, недоступен, ответил и д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ет доставку сообщения: если абонент не дослушал до конца, система позвонит ему ещё ра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ет ответ абон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ует отчё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6-05T13:33:30Z</dcterms:modified>
  <cp:revision>340</cp:revision>
  <dc:subject>MoBill-STS.Notify Система оповещения</dc:subject>
  <dc:title>Презентация</dc:title>
</cp:coreProperties>
</file>