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wmf" ContentType="image/x-wmf"/>
  <Override PartName="/ppt/media/image27.png" ContentType="image/png"/>
  <Override PartName="/ppt/media/image41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4.png" ContentType="image/png"/>
  <Override PartName="/ppt/media/image34.png" ContentType="image/png"/>
  <Override PartName="/ppt/media/image35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4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637-E56A-4A8E-B867-239CE0E81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2BB9-3FB3-4DCD-A609-5C51FEA98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EA46-B032-4DC4-8DB9-9B103D8E4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2DD3-5212-4CC6-8534-2661AE3D7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14C6-9EB2-4A6A-9EF0-A7499F05D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FB4-8DE7-4A2C-96AC-19C901B04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073F-BD0F-4D38-832D-F0B3FE76E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96C5-7169-4A92-9156-1D5068D19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4AAF-E426-439D-94C6-43A5D4D5F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CA3-908B-4BAD-968A-E60B6E2CB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3875-E510-4CD2-BA27-84640064D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7929-86DA-4088-A4E1-E2AB270E7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E98A-9122-49F8-AA2A-A7EB835C5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D8CC-4089-4B43-88B4-5F7053A98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033-CCED-4386-932A-369A204D5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7679-D075-47D0-838F-AC9F0FA6E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C814-7C38-43B8-8448-0ADF3D66E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710-5423-4EB1-8DE1-80990C738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613-6389-43FE-B623-C4F36B495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DF63-475F-41D5-8E24-1AE60DC9C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E95-FCE7-47BB-8196-081B0FD85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CBE5-1EEC-4D95-87F6-B485C924D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0F8-3B5B-40E4-9B6F-B3C096524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2FF-6EFA-4A2A-A586-AD10A4A9B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B41E-98EF-46C8-B7A3-FF200EF36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1FA-E905-47F7-8210-F23DF954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2EA-EA26-41EB-8366-7F001CFF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25033-C16C-4CF8-9BBB-04ABB416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8299A-EAC0-4502-BF90-7B401337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F61FA-ADB8-45B5-8B61-980573E8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E6D77-5FF6-4497-8CB4-4EF5E2F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24ADB-ADEC-4475-BB8C-F493016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82AD3-A823-4269-A008-A908C46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B860A-6F76-499E-9B8F-CA2035A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1C865-107D-46A3-8A70-3B955A4D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47221-A22C-4D78-B945-6B6AD3CE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02AB9-07EC-487A-99A9-EFFAAFAB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07E-FD00-45E5-A41D-2992FC3B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A02D-ACE1-4DF2-B70A-1504555A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D9F28-D94D-459A-B5D1-4B467A50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EBDD3-7E31-4003-9AE3-F3719C56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118A0-2CD8-4C01-8ACF-ECF671CE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356A7-00EB-40C7-B60B-4D9EDBE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8ABA8-9BF4-49B5-AA8F-87CDAFBF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83345-F380-4144-B84A-AB0E6474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3C028-C116-4624-BBE1-A4F3B2E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07549-555E-4EB2-9D47-74C47AB4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DB9BE-0648-43BB-BDAD-26BF4C6D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D7C-2537-4A69-9F4C-6EE18528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4E625-7DD1-4D9E-9ED2-057F233F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717EF-0E16-4356-B8E6-9AC65594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CAE71-5025-4EFB-ACE4-E4B6E686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2FF9D-E0F3-4942-BAE4-5691C1D9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46DFC-91C8-4BE5-B73B-AA901FA3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0DBCB-7BE4-4257-9E33-398D57AC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FCF2A-72C5-4B8B-9B0D-5A6E49E6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90817-EF48-4C85-BF92-E0747D3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2010E-54E5-439B-9813-9C4BC822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93E20-5A5F-46C2-AEE4-75A44DD5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D129-9DBA-4E73-883E-F6A98F81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DACB9-291A-4C8D-9DBD-00AB6518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A2737-8BA7-44AC-AF96-0E818E81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AE5F2-9169-4D47-9825-800985B1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DE738-EA6D-4982-BCEB-60D055BE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09097-DFD5-4A6C-A5D8-DF8911B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E0A69-2E6A-4529-AFC8-9ECFF765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950F4-C16E-458F-8C01-DCF63470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FDF97-AF07-49A0-A526-CD41C58D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DC2B7-21F2-4130-A24D-0925B8E0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18AF7-37EE-4D94-B4C1-0F63587C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A0E3-8AD6-4027-872E-915FFAA5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959D5-32B1-4453-A765-B5E46D2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65936-75D5-45E9-8CFC-8E33701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302CA-963D-4640-8C0A-1CD2E10F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3FAFB-3985-4DD3-A343-1C3B29D3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2C49A-99C9-49E7-8842-1F02EE36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78D23-9AFB-4AA2-8AF6-379EA2E8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4BF49-17FE-4611-BDA9-075A4DA7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6334A-87B8-4A29-8008-18EEDF32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4502A-D608-41EB-A64A-A2D00E2D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D1972-284E-4A25-8B49-6160615C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C906-806F-4039-86AC-4543EB29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92699-1589-4CBB-B59A-1BF09350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CDA7D-CA8E-454F-9DBF-BD870446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81199-DE84-4700-A720-90F1E326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4553D-D912-46AD-9DEC-4D8FA9C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7A766-F249-4ECD-900A-337F8949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458AC-3E91-4DCD-852C-5591BF67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D5648-E3D4-4CB7-8720-28662E18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B684-FF8F-4092-ACC9-8D57DE3D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EFCD-4E1B-4245-AAAB-D2FAAD17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947B-AFE7-42B5-A564-6B69D0B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1690-94E0-4157-9E30-838D4A6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FC5-7EC0-457B-8E23-B09B8D9B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9B12-E95C-4EAA-824B-73F2E749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FBFF-3BF5-4561-96A9-9E59EFC0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0EDB-9643-4546-9955-F0295B6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0C98-9CF2-4082-863D-1180BA6D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E7DE-BCE1-4707-A672-3635F900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0BC4-A1FB-44F3-86CF-8AE01C1F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B247-C42A-43BD-8FC0-46E20C29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4E85-DC31-4C39-9536-DB478D93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4196-1A19-414D-932F-65862EB7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744A-6620-4529-BEF2-AFD3B45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7C7-9B8F-4F72-9852-86C1747B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F464-88D9-4B65-8639-040C5558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CDED-B1FE-4262-A75E-82E41E4A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73AC-D959-4F03-BF0A-DE050A4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43BD-09AB-4736-908D-8F35819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320E-A2CB-4C65-90F7-E3EA205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C3BD-C39D-4D8B-A892-49F08566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059E-E496-4B8D-8FFC-0242DA96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4DD6-0F3E-4246-B457-B3765788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8AEF-118C-4BA5-B608-E3A3CD16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5E6C-C3E2-4A9B-953C-7DDE6CD8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B02-D479-44B6-BF16-C1A22C47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E6CB-F1D9-4A31-B6C0-7A008BA4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A79D-FFF8-4D60-B00A-40444BCB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A48A-1FB7-4644-9F5B-309430E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3E9D-C541-4BC8-AAB7-DD74590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78B32-C983-44BB-AFD4-3DA7E627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BC43-DC88-4093-9937-07C016F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8AD0-1584-470E-A509-29D8B575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993E0-A902-4379-A315-6174C048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D669-283E-494D-9CD0-BB5DA232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55C5-A0D5-4585-9351-E6B26B83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8C9-D28D-4DFE-8755-0E03F93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27473-DFFB-4A6E-99BF-A9A61168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57479-A8A7-4739-8D3C-F66BA5C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2D8A9-A023-45C7-9B76-D434F8A7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D088-DF1B-46A6-A3E8-B23714D7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22D0-A0EB-47A4-A3D9-E4C9EC5D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C978-3D33-4BE5-AFDA-A0B78F6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B6D94-6E1C-4E3B-93D7-3923FB7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BD66A-D9F7-478E-8B7B-DE057E3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0DAB-2552-49E6-BDC0-8F0D39F1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8AA52-094C-4199-B75A-67F4EA29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E34-25D7-486B-9DC2-FC599A0A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1C33D-498A-4C4F-AF45-4DC063D3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C609-9BE7-4BED-8EC9-0BECF582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BC7A-72FA-4D14-935F-81EAA89E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5F9AA-351E-4098-8D7B-656729FD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1FCC0-97EB-41F8-A334-ED6F5451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D996-8E01-4104-9029-7326D80A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51713-9F6E-4228-AE70-A4EBC646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E439-4599-4FBC-883A-F70FF01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8E00-CEC9-441C-8548-7CEB541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3DB09-913F-40D1-99EF-6CB17EFE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324-BB6E-441A-B28A-38466ED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EC0D4-967D-458E-9A14-32D25A5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5186-C122-43BD-966B-A18011B5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56ED-C994-4057-88EC-E8D8B364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6A2BB-AB52-44CB-A77A-8859CCB9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63C3-98F1-4BEF-9253-B672C475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3F2B4-C15F-4497-A850-CC71ACDA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6C4B-7A6E-4E3E-A4D2-3DBA33A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115BD-DD06-49FC-A430-F3CB23C0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79C7D-8244-4DE2-AC5B-9396A7AB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25341-0F0B-4C11-8A6E-4B1CDB0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564-24FE-4C75-9142-159902D4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B99E9-5E3C-490E-B391-952B46B1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39A6E-0E67-42D4-9282-D4D74C2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16CBC-376C-461B-8350-E7FF6C1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CDDBB-D2AA-43ED-ACCB-2278F16A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FF43C-5474-48ED-8455-BB7104A9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9C735-F23C-4A84-8949-1FDD3A5B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D9531-ED76-4422-8632-6E3988C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B4C8E-001C-421B-B59F-1C0DDEC4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9BF5A-45FE-48D3-A655-DE102665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C2A3B-7C88-4AC7-AECF-16336DC3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CE9-F47B-49B7-B6AD-A86CFD0E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C857B-C331-4156-9AE5-89283D7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BA28-F5F5-46A0-927C-1B5CF11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996D1-428F-43F5-ABF6-71D40711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08C91-F8EE-4781-B3F0-7629275E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61C8-60A1-4224-B99C-4E1AFA9E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88053-513F-4613-A552-E1996821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71F5E-F4F0-4239-8BF4-D0C9C2EC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056AC-2629-4256-B224-A72AFBC5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429E8-99B6-4DEB-9276-700FBC0F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209F3-CFE0-4AB2-BE1D-CC85F17C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C81B-077F-4BB3-8901-2F889EE1C6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A7C5-9F18-4178-8A69-D5F92468D7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BDA-0CDF-4E57-811B-FE68354339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7167-2274-48E9-BCB8-8972502DD7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3196-F6A1-468A-A349-E732C301FB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0972-90CA-425B-BB7F-DD9C6AADE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B7F7-37FD-4DA2-ADB4-B046652336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D9AC-A032-4AEB-8CFC-5F3490CBED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111B-2786-4AC2-AF15-B4F54063FF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84DA-89C6-41CA-87ED-3EE6F73DFE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AEC3-068C-4341-AF5C-F2B7052460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2BE6-11BC-453A-A759-5EAD4CFF32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D070-9B9F-4B52-AB76-293E7AE85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4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40520" y="0"/>
            <a:ext cx="3610080" cy="15429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809640" y="1857240"/>
            <a:ext cx="77151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STS.</a:t>
            </a:r>
            <a:r>
              <a:rPr b="0" lang="en-US" sz="4800" spc="-1" strike="noStrike">
                <a:solidFill>
                  <a:srgbClr val="336699"/>
                </a:solidFill>
                <a:latin typeface="Microsoft New Tai Lue"/>
              </a:rPr>
              <a:t>Intercept</a:t>
            </a:r>
            <a:br>
              <a:rPr sz="44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Автоматическая цифровая запись информации от различных источников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7" descr="&amp;Kcy;&amp;acy;&amp;rcy;&amp;tcy;&amp;icy;&amp;ncy;&amp;kcy;&amp;icy; &amp;pcy;&amp;ocy; &amp;zcy;&amp;acy;&amp;pcy;&amp;rcy;&amp;ocy;&amp;scy;&amp;ucy; &amp;zcy;&amp;acy;&amp;pcy;&amp;icy;&amp;scy;&amp;softcy; &amp;pcy;&amp;iecy;&amp;rcy;&amp;iecy;&amp;gcy;&amp;ocy;&amp;vcy;&amp;ocy;&amp;rcy;&amp;ocy;&amp;vcy;"/>
          <p:cNvPicPr/>
          <p:nvPr/>
        </p:nvPicPr>
        <p:blipFill>
          <a:blip r:embed="rId4"/>
          <a:stretch/>
        </p:blipFill>
        <p:spPr>
          <a:xfrm>
            <a:off x="8739360" y="171468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4952-FA33-485B-8BE9-2A48DC0DA3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М операт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09280" y="2857320"/>
            <a:ext cx="34290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АРМ включает в себ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7" name="Picture 5" descr=""/>
          <p:cNvPicPr/>
          <p:nvPr/>
        </p:nvPicPr>
        <p:blipFill>
          <a:blip r:embed="rId1"/>
          <a:srcRect l="-1009" t="47052" r="40685" b="28149"/>
          <a:stretch/>
        </p:blipFill>
        <p:spPr>
          <a:xfrm>
            <a:off x="809640" y="2071800"/>
            <a:ext cx="3095640" cy="525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tretch/>
        </p:blipFill>
        <p:spPr>
          <a:xfrm>
            <a:off x="10239480" y="2554200"/>
            <a:ext cx="1184040" cy="151776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11"/>
          <p:cNvSpPr/>
          <p:nvPr/>
        </p:nvSpPr>
        <p:spPr>
          <a:xfrm>
            <a:off x="809640" y="17146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ризация в систе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738680" y="171468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важное – расположено на главной фор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880920" y="4143240"/>
            <a:ext cx="10644480" cy="5698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"/>
          <p:cNvPicPr/>
          <p:nvPr/>
        </p:nvPicPr>
        <p:blipFill>
          <a:blip r:embed="rId4"/>
          <a:srcRect l="21693" t="73503" r="0" b="0"/>
          <a:stretch/>
        </p:blipFill>
        <p:spPr>
          <a:xfrm>
            <a:off x="3095640" y="4886280"/>
            <a:ext cx="4786200" cy="11224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1"/>
          <p:cNvSpPr/>
          <p:nvPr/>
        </p:nvSpPr>
        <p:spPr>
          <a:xfrm>
            <a:off x="7738920" y="29973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у поиска    и фильтр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Прямоугольник 14"/>
          <p:cNvSpPr/>
          <p:nvPr/>
        </p:nvSpPr>
        <p:spPr>
          <a:xfrm>
            <a:off x="880920" y="378612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ментарии и маркировка важных запис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1"/>
          <p:cNvSpPr/>
          <p:nvPr/>
        </p:nvSpPr>
        <p:spPr>
          <a:xfrm>
            <a:off x="809640" y="51436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роенный проигрыв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B3CE-F7E0-4AEA-9EDD-E2A43F0106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17200" y="1701720"/>
            <a:ext cx="10564920" cy="22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ступ из любой точки в локальной сети предприят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ая регистрация в специальной оперативной базе данных следующей информации о телефонных звонках (анализ данных с миниАТС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та и время начала се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ажность запис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ительность се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мер и название кана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2" name="Object 1"/>
          <p:cNvGraphicFramePr/>
          <p:nvPr/>
        </p:nvGraphicFramePr>
        <p:xfrm>
          <a:off x="2390760" y="4056120"/>
          <a:ext cx="77058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0760" y="4056120"/>
                    <a:ext cx="77058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Rectangle 2"/>
          <p:cNvSpPr/>
          <p:nvPr/>
        </p:nvSpPr>
        <p:spPr>
          <a:xfrm>
            <a:off x="5738760" y="2500200"/>
            <a:ext cx="54291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0" indent="-357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авление сеанса (входящий, исходящ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2800" indent="-357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ходящий номер (АО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2800" indent="-357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ходящий номе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2800" indent="-357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личие голосовых данных в сеанс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280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9703-C2EC-49FA-A9FC-0991CC67E5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бработка зафиксированной информ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809640" y="1690560"/>
            <a:ext cx="1064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ное обеспечение включает в себя удобные средства управления и мониторинга процесса фиксации, а также компоненты по работе с зафиксированными сообще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1" name="Object 2"/>
          <p:cNvGraphicFramePr/>
          <p:nvPr/>
        </p:nvGraphicFramePr>
        <p:xfrm>
          <a:off x="2238480" y="3119400"/>
          <a:ext cx="806436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3119400"/>
                    <a:ext cx="806436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AutoShape 9"/>
          <p:cNvSpPr/>
          <p:nvPr/>
        </p:nvSpPr>
        <p:spPr>
          <a:xfrm>
            <a:off x="4646520" y="3840120"/>
            <a:ext cx="1944720" cy="503280"/>
          </a:xfrm>
          <a:prstGeom prst="wedgeRoundRectCallout">
            <a:avLst>
              <a:gd name="adj1" fmla="val -129754"/>
              <a:gd name="adj2" fmla="val -10520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исок запис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502160" y="4487760"/>
            <a:ext cx="1944720" cy="432000"/>
          </a:xfrm>
          <a:prstGeom prst="wedgeRoundRectCallout">
            <a:avLst>
              <a:gd name="adj1" fmla="val -98162"/>
              <a:gd name="adj2" fmla="val -4081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ферат по запис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943600" y="5280120"/>
            <a:ext cx="1944720" cy="863640"/>
          </a:xfrm>
          <a:prstGeom prst="wedgeRoundRectCallout">
            <a:avLst>
              <a:gd name="adj1" fmla="val 53671"/>
              <a:gd name="adj2" fmla="val -856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троенный плеер для воспроизвед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A75D-398D-47D4-947F-A429C17965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ортировка данны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Picture 10" descr=""/>
          <p:cNvPicPr/>
          <p:nvPr/>
        </p:nvPicPr>
        <p:blipFill>
          <a:blip r:embed="rId1"/>
          <a:stretch/>
        </p:blipFill>
        <p:spPr>
          <a:xfrm>
            <a:off x="1741320" y="2133720"/>
            <a:ext cx="8498160" cy="374328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11"/>
          <p:cNvSpPr/>
          <p:nvPr/>
        </p:nvSpPr>
        <p:spPr>
          <a:xfrm>
            <a:off x="3182760" y="1916280"/>
            <a:ext cx="5689800" cy="502920"/>
          </a:xfrm>
          <a:prstGeom prst="wedgeRoundRectCallout">
            <a:avLst>
              <a:gd name="adj1" fmla="val -38115"/>
              <a:gd name="adj2" fmla="val 13832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тировка – простым нажатием на заголовок столб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A2FE-DA32-4CEF-A6E0-DE8E7B5E23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ильтрация данны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8" name="Object 2"/>
          <p:cNvGraphicFramePr/>
          <p:nvPr/>
        </p:nvGraphicFramePr>
        <p:xfrm>
          <a:off x="2036880" y="1714680"/>
          <a:ext cx="154440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6880" y="1714680"/>
                    <a:ext cx="154440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Picture 7" descr=""/>
          <p:cNvPicPr/>
          <p:nvPr/>
        </p:nvPicPr>
        <p:blipFill>
          <a:blip r:embed="rId3"/>
          <a:stretch/>
        </p:blipFill>
        <p:spPr>
          <a:xfrm>
            <a:off x="5751360" y="1714680"/>
            <a:ext cx="2916360" cy="17049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4" descr=""/>
          <p:cNvPicPr/>
          <p:nvPr/>
        </p:nvPicPr>
        <p:blipFill>
          <a:blip r:embed="rId4"/>
          <a:stretch/>
        </p:blipFill>
        <p:spPr>
          <a:xfrm>
            <a:off x="6465960" y="2009880"/>
            <a:ext cx="2916000" cy="17049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2" descr=""/>
          <p:cNvPicPr/>
          <p:nvPr/>
        </p:nvPicPr>
        <p:blipFill>
          <a:blip r:embed="rId5"/>
          <a:stretch/>
        </p:blipFill>
        <p:spPr>
          <a:xfrm>
            <a:off x="7108920" y="2295360"/>
            <a:ext cx="2916000" cy="17053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6" descr=""/>
          <p:cNvPicPr/>
          <p:nvPr/>
        </p:nvPicPr>
        <p:blipFill>
          <a:blip r:embed="rId6"/>
          <a:stretch/>
        </p:blipFill>
        <p:spPr>
          <a:xfrm>
            <a:off x="8037360" y="2581200"/>
            <a:ext cx="2916360" cy="17049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7" descr=""/>
          <p:cNvPicPr/>
          <p:nvPr/>
        </p:nvPicPr>
        <p:blipFill>
          <a:blip r:embed="rId7"/>
          <a:stretch/>
        </p:blipFill>
        <p:spPr>
          <a:xfrm>
            <a:off x="6323040" y="3857760"/>
            <a:ext cx="2916360" cy="17049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8" descr=""/>
          <p:cNvPicPr/>
          <p:nvPr/>
        </p:nvPicPr>
        <p:blipFill>
          <a:blip r:embed="rId8"/>
          <a:stretch/>
        </p:blipFill>
        <p:spPr>
          <a:xfrm>
            <a:off x="7037280" y="4143240"/>
            <a:ext cx="2916360" cy="17049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9" descr=""/>
          <p:cNvPicPr/>
          <p:nvPr/>
        </p:nvPicPr>
        <p:blipFill>
          <a:blip r:embed="rId9"/>
          <a:stretch/>
        </p:blipFill>
        <p:spPr>
          <a:xfrm>
            <a:off x="8037360" y="4429080"/>
            <a:ext cx="2916360" cy="170496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20"/>
          <p:cNvSpPr/>
          <p:nvPr/>
        </p:nvSpPr>
        <p:spPr>
          <a:xfrm>
            <a:off x="3537000" y="3929040"/>
            <a:ext cx="1873080" cy="503280"/>
          </a:xfrm>
          <a:prstGeom prst="wedgeRoundRectCallout">
            <a:avLst>
              <a:gd name="adj1" fmla="val -86319"/>
              <a:gd name="adj2" fmla="val -625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ток фильт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AutoShape 21"/>
          <p:cNvSpPr/>
          <p:nvPr/>
        </p:nvSpPr>
        <p:spPr>
          <a:xfrm>
            <a:off x="3679920" y="2571840"/>
            <a:ext cx="1439640" cy="431640"/>
          </a:xfrm>
          <a:prstGeom prst="wedgeRoundRectCallout">
            <a:avLst>
              <a:gd name="adj1" fmla="val -104000"/>
              <a:gd name="adj2" fmla="val 2202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ток зада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AutoShape 22"/>
          <p:cNvSpPr/>
          <p:nvPr/>
        </p:nvSpPr>
        <p:spPr>
          <a:xfrm>
            <a:off x="3608280" y="4929120"/>
            <a:ext cx="2016360" cy="863640"/>
          </a:xfrm>
          <a:prstGeom prst="wedgeRoundRectCallout">
            <a:avLst>
              <a:gd name="adj1" fmla="val -87874"/>
              <a:gd name="adj2" fmla="val 143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ток подробной информации о запис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859-CE1D-409F-A44D-F443CF2AB1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полнительные возмож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5" name="Object 2"/>
          <p:cNvGraphicFramePr/>
          <p:nvPr/>
        </p:nvGraphicFramePr>
        <p:xfrm>
          <a:off x="7953480" y="2214720"/>
          <a:ext cx="18716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3480" y="2214720"/>
                    <a:ext cx="1871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AutoShape 13"/>
          <p:cNvSpPr/>
          <p:nvPr/>
        </p:nvSpPr>
        <p:spPr>
          <a:xfrm>
            <a:off x="8739360" y="3643200"/>
            <a:ext cx="1944360" cy="360360"/>
          </a:xfrm>
          <a:prstGeom prst="wedgeRoundRectCallout">
            <a:avLst>
              <a:gd name="adj1" fmla="val -54736"/>
              <a:gd name="adj2" fmla="val -250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ажная» запис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1738440" y="2857680"/>
          <a:ext cx="221616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2857680"/>
                    <a:ext cx="221616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666440" y="1714680"/>
            <a:ext cx="43196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не только установить важность записи, но и дописать комментар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1" name="Object 4"/>
          <p:cNvGraphicFramePr/>
          <p:nvPr/>
        </p:nvGraphicFramePr>
        <p:xfrm>
          <a:off x="5595840" y="4143240"/>
          <a:ext cx="3076560" cy="18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95840" y="4143240"/>
                    <a:ext cx="30765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AutoShape 16"/>
          <p:cNvSpPr/>
          <p:nvPr/>
        </p:nvSpPr>
        <p:spPr>
          <a:xfrm>
            <a:off x="4381560" y="3214800"/>
            <a:ext cx="1944720" cy="576000"/>
          </a:xfrm>
          <a:prstGeom prst="wedgeRoundRectCallout">
            <a:avLst>
              <a:gd name="adj1" fmla="val -80444"/>
              <a:gd name="adj2" fmla="val 1229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ментируемая запис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4B2-48DD-45BE-9928-BD1181E07C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сокое качество перехва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09280" y="1714320"/>
            <a:ext cx="1057284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 перехваченного факса выше, чем принятого на факс аппарате – нет погрешности печатающего механиз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0" name="Object 1"/>
          <p:cNvGraphicFramePr/>
          <p:nvPr/>
        </p:nvGraphicFramePr>
        <p:xfrm>
          <a:off x="6453360" y="2444760"/>
          <a:ext cx="357156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3360" y="2444760"/>
                    <a:ext cx="3571560" cy="341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32" name="Object 2"/>
          <p:cNvGraphicFramePr/>
          <p:nvPr/>
        </p:nvGraphicFramePr>
        <p:xfrm>
          <a:off x="2238480" y="2444760"/>
          <a:ext cx="3571920" cy="340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8480" y="2444760"/>
                    <a:ext cx="3571920" cy="3408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4" name="AutoShape 7"/>
          <p:cNvSpPr/>
          <p:nvPr/>
        </p:nvSpPr>
        <p:spPr>
          <a:xfrm>
            <a:off x="3381480" y="5730840"/>
            <a:ext cx="1871640" cy="412920"/>
          </a:xfrm>
          <a:prstGeom prst="wedgeRoundRectCallout">
            <a:avLst>
              <a:gd name="adj1" fmla="val -14578"/>
              <a:gd name="adj2" fmla="val -1273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в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7596360" y="5730840"/>
            <a:ext cx="1871640" cy="412920"/>
          </a:xfrm>
          <a:prstGeom prst="wedgeRoundRectCallout">
            <a:avLst>
              <a:gd name="adj1" fmla="val -15212"/>
              <a:gd name="adj2" fmla="val -11873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факс-аппара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B097-9653-4671-A144-7413519949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ширение и интегр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09280" y="1785960"/>
            <a:ext cx="10572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банков и кредитных учрежд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ция с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IV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запись работы операторов справочных служ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обилизационных отделов и отделов ГО и Ч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ция с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 запись результатов опове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5F1B-2C90-4F37-8FDE-114EB00492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уктура программного обеспе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7" name="Object 1"/>
          <p:cNvGraphicFramePr/>
          <p:nvPr/>
        </p:nvGraphicFramePr>
        <p:xfrm>
          <a:off x="3595680" y="1714680"/>
          <a:ext cx="48578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5680" y="1714680"/>
                    <a:ext cx="48578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1B28-1123-405B-911D-F90D546F5E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ключение к линия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9880" y="1714320"/>
            <a:ext cx="68277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ключени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соединительным телефонным лин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потоку Е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1 (проток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DN PR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- цифровые линии связи (заводятся с оптикой и по 4-х парной меди) - одновременно возможно до 30 телефонных соедин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6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 (или СО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ral Offi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- обычные двухпарные телефонные линии от ГТС до Вашей телефонной розет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дновременно возможен только 1 телефонный звон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5" name="Picture 8" descr="Ольха мониторинг"/>
          <p:cNvPicPr/>
          <p:nvPr/>
        </p:nvPicPr>
        <p:blipFill>
          <a:blip r:embed="rId1"/>
          <a:stretch/>
        </p:blipFill>
        <p:spPr>
          <a:xfrm>
            <a:off x="7554960" y="4149720"/>
            <a:ext cx="3827520" cy="19699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0" descr="e1_isa_m"/>
          <p:cNvPicPr/>
          <p:nvPr/>
        </p:nvPicPr>
        <p:blipFill>
          <a:blip r:embed="rId2"/>
          <a:stretch/>
        </p:blipFill>
        <p:spPr>
          <a:xfrm>
            <a:off x="7697880" y="1714680"/>
            <a:ext cx="3654360" cy="250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A9AD-E900-4DFE-A8E2-185C703C6A3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766800" y="1773360"/>
            <a:ext cx="8962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9" descr="Logo2"/>
          <p:cNvPicPr/>
          <p:nvPr/>
        </p:nvPicPr>
        <p:blipFill>
          <a:blip r:embed="rId1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809640" y="3929040"/>
            <a:ext cx="87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технологии и программное обеспечение, которое обеспечивает высокую скорость обработки данных и высокую степень защищенности информ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6" descr="&amp;Kcy;&amp;acy;&amp;rcy;&amp;tcy;&amp;icy;&amp;ncy;&amp;kcy;&amp;icy; &amp;pcy;&amp;ocy; &amp;zcy;&amp;acy;&amp;pcy;&amp;rcy;&amp;ocy;&amp;scy;&amp;ucy; &amp;Bcy;&amp;D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9882360" y="36432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4"/>
          <p:cNvSpPr/>
          <p:nvPr/>
        </p:nvSpPr>
        <p:spPr>
          <a:xfrm>
            <a:off x="1825560" y="321480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16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739440" y="1714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12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3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B947-79E8-48AC-BD26-A1D1195A22B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ервер перехва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2" name="Picture 10" descr=""/>
          <p:cNvPicPr/>
          <p:nvPr/>
        </p:nvPicPr>
        <p:blipFill>
          <a:blip r:embed="rId1"/>
          <a:srcRect l="0" t="0" r="0" b="42820"/>
          <a:stretch/>
        </p:blipFill>
        <p:spPr>
          <a:xfrm>
            <a:off x="1671480" y="3571920"/>
            <a:ext cx="4681800" cy="253188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23760" y="1714320"/>
            <a:ext cx="58867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ет в себя интерфейс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ниторинга событий в системе (запуск платы, ход оповещения и др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и подключения к канал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4" name="Picture 7" descr=""/>
          <p:cNvPicPr/>
          <p:nvPr/>
        </p:nvPicPr>
        <p:blipFill>
          <a:blip r:embed="rId2"/>
          <a:stretch/>
        </p:blipFill>
        <p:spPr>
          <a:xfrm>
            <a:off x="7639200" y="1785960"/>
            <a:ext cx="3814560" cy="3610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"/>
          <p:cNvPicPr/>
          <p:nvPr/>
        </p:nvPicPr>
        <p:blipFill>
          <a:blip r:embed="rId3"/>
          <a:stretch/>
        </p:blipFill>
        <p:spPr>
          <a:xfrm>
            <a:off x="6996240" y="3056040"/>
            <a:ext cx="3189240" cy="30160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4" descr=""/>
          <p:cNvPicPr/>
          <p:nvPr/>
        </p:nvPicPr>
        <p:blipFill>
          <a:blip r:embed="rId4"/>
          <a:stretch/>
        </p:blipFill>
        <p:spPr>
          <a:xfrm>
            <a:off x="5638680" y="4856040"/>
            <a:ext cx="2632320" cy="1308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7B16-9F4D-4948-A78B-E21C7EC48A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нтаж в компьюте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09280" y="1714680"/>
            <a:ext cx="10644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та устанавливается в обычный компьютер со слотом расширения шин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I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A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 записываемых каналов наращивается дополнительными платами (соединенными между собой по шине SC-bus (для ISA платы) или                                       CT-bus (для PCI платы)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ключение к телефонным                                           каналам (СЛ или Е1)                                           производится параллельным                                    физическим соедине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3" name="Object 2"/>
          <p:cNvGraphicFramePr/>
          <p:nvPr/>
        </p:nvGraphicFramePr>
        <p:xfrm>
          <a:off x="7310520" y="3327480"/>
          <a:ext cx="38894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3327480"/>
                    <a:ext cx="38894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6462-23A6-44B8-B33B-38C24E95F8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ись с микрофон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Rectangle 10"/>
          <p:cNvSpPr/>
          <p:nvPr/>
        </p:nvSpPr>
        <p:spPr>
          <a:xfrm>
            <a:off x="809640" y="1640520"/>
            <a:ext cx="10644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зможна запис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микрофонов камер наблюдения - для служб безопас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домофонов и переговорных устройст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щаний, выступлений и презентаций - для секретариа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Picture 8" descr="Ольха 10LP микрофон"/>
          <p:cNvPicPr/>
          <p:nvPr/>
        </p:nvPicPr>
        <p:blipFill>
          <a:blip r:embed="rId1"/>
          <a:stretch/>
        </p:blipFill>
        <p:spPr>
          <a:xfrm>
            <a:off x="2666880" y="3556080"/>
            <a:ext cx="756144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540D-1F0C-4BF5-BDF6-43C77F5BF8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реб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09280" y="1714680"/>
            <a:ext cx="10644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зможность подключения к системному блоку компьютер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утренне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PC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шнее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по жестким дискам для хранения записе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основе массива RAID с полезной емкостью хранения  из расчета 13,6 Кбит в сек*12 часов в сутки*30 дней = 17 Gb в месяц на каждый записываемый канал (телефонную линию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696B-4A91-4CB2-AF5F-20C5FA51BE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ние потока Е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47440" y="1693440"/>
            <a:ext cx="105346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нал Е1 представляет собой статический мультиплексный поток кадров длительностью 125 мс, состоящих из 32 временных 8-ми битных интервалов с суммарной скоростью 2048 Кбит/сек (64 Кбит/сек на каждый тайм-слот). Структура кадра определена рекомендацией МККТТ G.704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улевой канальный интервал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используется для служебных целей (синхронизация, аварийная сигнализация и т.д.). Шестнадцатый тайм слот (D) используется для организации выделенного канала СТС предназначенный для решения вопросов управления соединен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тальные каналы являются информационными и могут быть коммутируемыми, аналоговыми или выделенными цифровы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троллером E1 поддерживается два типа линейного код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I (Alternate Mark Inversion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DB 3 (High Density Bipolar-3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кон компандир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A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w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нал управле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CS (Common Channel Signaling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и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нал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игнализаци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EDSS-1, QGIG, STS-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CAS (Channel Associated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gnali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– канально-связанный  канал сигнализации (R2, R1.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CCCC-2C83-4F55-81C4-6B1A53BE82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800" name="TextBox 9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809640" y="71280"/>
            <a:ext cx="10644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0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3600" spc="-1" strike="noStrike">
                <a:solidFill>
                  <a:srgbClr val="333333"/>
                </a:solidFill>
                <a:latin typeface="Microsoft New Tai Lue"/>
              </a:rPr>
              <a:t>STS.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Intercept</a:t>
            </a:r>
            <a:br>
              <a:rPr sz="3600"/>
            </a:br>
            <a:r>
              <a:rPr b="0" lang="ru-RU" sz="2800" spc="-1" strike="noStrike">
                <a:solidFill>
                  <a:srgbClr val="333333"/>
                </a:solidFill>
                <a:latin typeface="Microsoft Sans Serif"/>
              </a:rPr>
              <a:t>Автоматическая цифровая запись информации от различных источников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838080" y="2916360"/>
          <a:ext cx="100602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81080"/>
                <a:gridCol w="249732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Номер слайда 6"/>
          <p:cNvSpPr/>
          <p:nvPr/>
        </p:nvSpPr>
        <p:spPr>
          <a:xfrm>
            <a:off x="9299520" y="62434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5AC9-8B0E-471A-A4A1-8535AFBDC4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2381040" y="3949560"/>
            <a:ext cx="80737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900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519588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852804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758880" y="34128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9" descr="Logo2"/>
          <p:cNvPicPr/>
          <p:nvPr/>
        </p:nvPicPr>
        <p:blipFill>
          <a:blip r:embed="rId4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Прямоугольник 16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013E-A376-46E7-A18D-DDA064A74E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3" name="Object 21"/>
          <p:cNvGraphicFramePr/>
          <p:nvPr/>
        </p:nvGraphicFramePr>
        <p:xfrm>
          <a:off x="880920" y="1785960"/>
          <a:ext cx="332280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1785960"/>
                    <a:ext cx="332280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17840" y="1701720"/>
            <a:ext cx="713592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Intercep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едназначена для автоматической цифровой записи информации от различных источников (телефонные переговоры, факс, аудио-выходы различных устройств – в зависимости от типа плат) с удобной обработкой и анализом всей собранной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Rectangle 11"/>
          <p:cNvSpPr/>
          <p:nvPr/>
        </p:nvSpPr>
        <p:spPr>
          <a:xfrm>
            <a:off x="5381640" y="3643200"/>
            <a:ext cx="46432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телефонным линиям и потоку Е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ксация факс сооб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удиозапись всех звонк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аудио выходов устройст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ись с микроф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50E3-41B4-4ED8-A80D-B0A85FE8BA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н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17200" y="1701360"/>
            <a:ext cx="10636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ирование заключаемых по телефону сделок и соглаш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ирование заседаний, совещаний, конференций с применением микрофо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матизация работы операторов и диспетчеров различных служ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матизация работы диктофонных цент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удио контроль качества обслуживания клиентов персоналом фирмы при общении с клиентами по телефон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ие неэффективного использования телефонных линий предприятия, особенно при междугородных и международных переговор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окализация источников утечки конфиденциальной информации и выявление нелояльных сотрудни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звонке с угрозами -идентификация номера (при наличии  АОН) и голоса злоумышлен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168-C661-4309-8535-EA55D4C3A4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оненты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8" name="Object 2"/>
          <p:cNvGraphicFramePr/>
          <p:nvPr/>
        </p:nvGraphicFramePr>
        <p:xfrm>
          <a:off x="5826240" y="2714760"/>
          <a:ext cx="5556240" cy="33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6240" y="2714760"/>
                    <a:ext cx="555624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Rectangle 3"/>
          <p:cNvSpPr/>
          <p:nvPr/>
        </p:nvSpPr>
        <p:spPr>
          <a:xfrm>
            <a:off x="809640" y="1690560"/>
            <a:ext cx="105728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информации для фиксации (телефонные линии, поток Е1 или др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сональный компьютер (или сервер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809640" y="2833560"/>
            <a:ext cx="442908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та компьютерной телефо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лекс из программного обеспечения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системы управления базами данных (СУБД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3F3A-3F56-4272-B361-B791B5C8C3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инансовая выго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1066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яемость программой – без найма высокооплачиваемых специалис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кализация источников утечки конфиденциальной информации и выявление нелояльных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нецелевого использования телефонных линий предприятия (каналов передачи данных),                  особенно при междугородных и                       международных перегово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ышение производственной дисципли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8" name="Picture 10" descr="C:\Users\denis\Pictures\VRS_Donate2_512x512x32_2.png"/>
          <p:cNvPicPr/>
          <p:nvPr/>
        </p:nvPicPr>
        <p:blipFill>
          <a:blip r:embed="rId1"/>
          <a:stretch/>
        </p:blipFill>
        <p:spPr>
          <a:xfrm>
            <a:off x="9024840" y="4000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4316-17CA-4F5D-B9F3-447CC5D770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ализаци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09280" y="1643040"/>
            <a:ext cx="105728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анки, кредитные и страховые организации – аудио-контроль операторов, внутренняя безопасность 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дицинские учреждения и МЧС – регистрация диспетчерских переговоров 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ъекты жизнеобеспечения и опасные производства, военкоматы, специальные службы компаний – контроль процесса оповещени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ператоры связи – аудио-контроль операторов, внутренняя безопасност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акси и справочные службы - аудио-контроль операторов 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* Можно устанавливать на платах совместно с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Bill-CallCenter, MoBill-STS.IV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8DD5-D676-46D3-AA12-14A5441D7B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М операт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Picture 13" descr=""/>
          <p:cNvPicPr/>
          <p:nvPr/>
        </p:nvPicPr>
        <p:blipFill>
          <a:blip r:embed="rId1"/>
          <a:stretch/>
        </p:blipFill>
        <p:spPr>
          <a:xfrm>
            <a:off x="2849400" y="1714680"/>
            <a:ext cx="6390000" cy="442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6-05T13:15:31Z</dcterms:modified>
  <cp:revision>339</cp:revision>
  <dc:subject>MoBill-STS.Intercept Система фиксации переговоров</dc:subject>
  <dc:title>Презентация</dc:title>
</cp:coreProperties>
</file>