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BD4F-22CF-4A6E-B6BD-8C364ED947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8165-383A-4712-9A67-F8F789178A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8FA9-B931-4E7C-875B-9D7EB6C08F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459C-A2B7-4C14-A832-B5E9346A62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0954-0266-4DA4-B9C7-06D6D778B0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AA7D-BB1F-4146-AF9D-FB00511855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BB8B-3727-4F5C-8EB4-74A7E4C2AB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4E55-3675-4CB5-9A1B-0DFCA0E4C9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F3AB-6582-4DD9-9931-68C11205A1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5060-D5C4-4DBF-B562-6CB9F21D26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комп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0C39-B528-43A7-92D2-478A868170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комп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F8C5-4EDC-4E1B-B504-26266EA48C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4A4E-FF0B-4120-BAC5-B0A18C8261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1CF9-AB4A-47BF-A931-A86BDB87B3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EF04-DE3D-490E-BB60-1114089A8B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1BAE-7FDA-4A36-BEC4-F34694D4DD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D979-496D-4262-94A2-995EE1B872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9FA7-0993-444A-BBE8-80F8F3E84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5A4D-099E-40E8-B3C0-CC835845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806A5B-F736-44E8-812D-FC5AB610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F19DB-CFB1-4364-A096-91FFEDE6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D1ABC-C204-4A3E-9DA5-37B219EB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4D545-5A67-4A26-A9BF-7E57E34C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CFDEE-8CB4-4A49-B524-2370D82A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116DC-7D9D-4E94-AAA6-CDC09B84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59D58-4A7D-4FCC-8D91-869797F8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84C73-B0AC-4B92-B1F6-34FB437B1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B06D7-452C-4D5F-BEE2-D495068D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782CF-3016-487A-ACC1-C23605B20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E51C-556F-42CD-878F-1BFFDE29E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D4DA79-AACD-40B6-919A-0B42291E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AEF6F-15D1-486C-873D-83ADE768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DF55E6-5457-484F-B47C-6CD89717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7793C-C566-49E6-9983-1A8FD9CF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2C7C30-4725-4C54-BD48-E79980F3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68AEA-7525-4147-9924-DF1B8E4E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BCFC4-C339-4408-8D55-A596C905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F5BC6-A3EB-471C-B0ED-A0E5C3DB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B9F280-04D0-4EB8-A7D9-18309699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6CEA1-2D98-486E-909B-479D197D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777B-2E34-4088-875F-0CDDA2E0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153E53-DCC6-448C-BF31-A649BCF3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9DBD5-F1A5-4D98-B821-A8A4574D5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99659-D14B-42B1-B9E7-0D384271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EC30E-FF3E-4878-85CF-61DF9989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38EC9-287A-427E-B230-9FCA7BD0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817F3-7BB6-4EBB-BD0D-BC5DDF26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F4089-2268-4B2C-9F76-9F09E2F6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20CFE-6086-4AAB-8835-1D0DA2FC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51ED8-4956-40CD-A171-020B7C91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2DD79-7854-4092-8A9A-3966B34F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3B93-075B-45E1-AD7C-D2F5F700D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957B0-A125-4F73-AD5E-057E27A6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D0CE8-B2FD-4B15-AE4F-09C9C1209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9219F-F767-4134-B4CC-7414E36D7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675F4B-288D-4D3B-AC83-01BD3E100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D5887F-47A1-4B5C-88EC-085D549D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38D4B-5A63-4084-AB1E-06859EB7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5B707-FE18-4640-8CD6-CD2B42E8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FF0BFD-5C9B-4CA7-85C5-F90B29B0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A811E1-0504-4027-A04D-D134D608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AE3FD1-459E-4590-96E7-C2003058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F148-EE03-458B-884F-975640C9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8F8ACC-29BC-4863-A0A2-66F57F0D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C4677F-3B0C-4C9C-A632-E2D905F3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39079C-0A88-4905-9AB4-75E5E2E0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9C97CB-55DF-4C56-883A-2F24AFD39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CBD0F7-D797-4AA1-8D24-306B13AF0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9DB42D-4C52-40A5-A222-6C3C9337C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DF874A-BFC3-4FE9-8839-AF889976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429032-A6F9-455F-8E6F-8004B2FE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9C8C9E-8E01-401A-825E-7DAED33D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AD67E1-7DCC-49CE-9A20-DC1E8CD0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3694-5AFF-42C8-A55C-CE298B80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8E7A9D-F9F6-4614-9854-8FB05A36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DA3136-3F3F-499B-BF67-D928820D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8C244D-821A-4BFE-A8E0-B966D934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A2AACA-0418-4B38-8BD0-A63D5FD6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83D40B-4042-49F2-AC5A-E3E0FE7A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B00A44-B859-4EF4-A59A-A79A1A533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1752E5-CD0E-4AEC-BC41-E1E26569F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7500-9CD5-475C-B440-4B372346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A0FC-E775-4D89-BECC-2F5F22AF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5BF7-8F5B-4BE6-B84E-605C35E1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A70B-3AE2-4751-A28E-8E583581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5CDE-2A5D-423D-88AE-2E26C18C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F4D5-DE30-4C6D-BD5A-D05BF56A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C273-F727-4FBF-B65D-3FC200F1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32B5-7D2E-4621-B06C-3D87D454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F2C2-ACDD-4EE9-85BA-98B3D3555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621D-EE24-4F45-95A8-E71540678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D8933-D97D-47D4-9B12-293E48D2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35E34-35EF-4B1F-8560-5D34DA80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E79D8-ED04-4D4A-8131-E39DD0AF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7DB23-31CC-4432-87F0-965119E9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074FD-258B-48D2-A628-9E8CB541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1090-F943-4FF6-8963-BB96E066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A9540-C0E3-454D-B2DC-0ADF5089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B6E77-22E4-4275-9DD7-B5498A3A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8FC97-13BA-4B38-B1B8-C20BDBD0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4913A-F332-485E-9F8D-9BA2C83A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51420-B8A7-4BCB-8D59-3B105EAA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11D66-93F1-423F-B2C8-2A8799030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9A24F-9180-4663-A2ED-395042505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27E87-EC76-4EE5-AB9F-A3C513ADE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40458-46B3-4168-997E-7A722DDD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0B461-8C79-479F-8707-6B534343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40D8-56B5-4B11-8E1B-4D28C4BE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15DB0-6ADD-4884-ADC0-96C202C3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2D75B-30F1-4473-AB4B-8DB9A1CB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330C9-6FEA-496E-9400-13C7B9F8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DF566-A3F9-400D-AC77-C655059D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D3592-2E78-48FC-898F-42356F06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2F9B9-DA2B-47D2-ABCF-267D6DA4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FD09C-61BC-4D6C-9B07-B2CC588A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535B8-768F-417F-9B61-B40FC679C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73880-42D0-4309-AB35-8E7F5CE3A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B505C-9131-43A1-B75C-2B90256C0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E746-2510-4706-8961-5FB9A4B7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701AA-D7BA-452F-8A8A-8897FC49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DA14E-FAA6-48CC-89ED-7E14000B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CF04B-0AB1-4045-BDA3-D888F45E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E6777-3817-4344-8BB8-E7ECF937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B8CF1-3CE0-4961-AE59-AA9B300F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27F9F-352C-4516-8F46-1EAD3811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0A359-CBB8-40E4-BD55-B20F22AE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70691-33C3-4CD9-9E42-72D1C673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1214E-E0A9-4AB1-BEF5-C7681923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D673D-3AA3-4B0D-8682-F3322DF45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CA2A-D467-456B-B5ED-9EE53064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35B24-E287-4E69-B589-8D66B4D18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CC79B-6967-4FC4-A539-43FE8DC3F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790DA-9983-478B-A06D-447700DC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DA5C5-C0DD-403B-A3F1-5EEABCB4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7A1D7-74C3-4A2E-8C0E-236E7D44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6245D-58F5-4D5E-86E0-AFE96C0D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3FA83-1AD9-49D6-9F12-895352AF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1E241-E42A-4873-AC54-10E7EB29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7E2A5-1B89-4DCC-B75F-7274B8E9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8D1B1-F882-4BA3-AE87-7141F9B8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F559-E110-4F88-91E2-18C96609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6DF9C-47C1-4643-80BC-97D7604F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5834F-6E25-4CEA-A12D-E6DD671F5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ACBA9-727E-4CAE-8BDE-F70A5FF7A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BD66F-AD5B-4521-998B-A715FF9C6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26D2E-C2DE-4935-A130-9F9AD0AF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7E34D-37D7-4735-9495-BABA0A60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88B60-83AE-4E19-A4F9-C5767175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D3A5D-D4D7-4E0D-B7A5-82469E35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EE823-87FC-4B07-BD04-388DF6BF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71ACE-4A94-4431-857C-B9176801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2EF8-9CB6-4DB5-B6F3-2FEC3A2C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59C16-4AA8-4D16-9216-989F9ADC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306F9-B0EE-430E-8F03-20A09C65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C123F-02C4-41CB-BB3F-1BB3EAA4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72E57-2AFF-4AAB-933F-EAA2175A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181BA-4499-4FC5-95C1-B589E50B6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BB489-D9BC-4256-A47B-E9E58D01A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B9233-0D0C-4BFD-8380-D324D12E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EA4E3-2135-4B29-8E28-0CF62BB6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D2D30-84E8-495E-AA10-2950EC41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C5186-405D-4A13-B256-F4D14BFF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C21E-7345-4CD1-A251-A0DDAB91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4959E-4CA7-4B69-937F-AC38B8C0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FA860-5714-41B8-9B7C-26EF7633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61A3B-B07C-4680-BA9B-DFF5E5A4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AF96D-3CD8-4BEB-AEC7-075E0E6C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413DB-E402-4DAC-8DF1-487918C6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3DD2B-74D8-4D4B-A64E-A0C61BBA2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03C10-2F04-4B14-A0C1-40E3CB3BA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9E566-8ECF-4750-8A5E-947CF08D9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1445A-B5A2-451A-8613-7DBDDD44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25D2B-4FC8-4699-9D60-905E3800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6A15-7271-4598-839A-B4AE40CA21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7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1247-512B-4AEE-BFEC-D0586416C9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1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74C0-1AC8-42F8-9568-17349B8AD0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5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4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1CEB-746C-479D-8BD1-100E09735B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9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4240-0573-4821-975C-A8511CD138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7"/>
          <p:cNvSpPr/>
          <p:nvPr/>
        </p:nvSpPr>
        <p:spPr>
          <a:xfrm>
            <a:off x="914400" y="2394000"/>
            <a:ext cx="10363320" cy="109440"/>
          </a:xfrm>
          <a:custGeom>
            <a:avLst/>
            <a:gdLst>
              <a:gd name="textAreaLeft" fmla="*/ 0 w 10363320"/>
              <a:gd name="textAreaRight" fmla="*/ 10363680 w 103633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" name="Picture 8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40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E797-A600-458F-822D-283A975FA1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8B76-D3FB-4B99-B72D-C0E655BC2B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B43B-0E23-49CE-AC27-3D9BB9C241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29D1-8003-43FF-AA33-8649E632B9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57BF-90E9-4B68-8484-B458656726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B64F-74C2-45D3-B78F-E8099EDAC4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9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7379-CFE2-4488-9FE9-DA776C32BD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3C06-B24D-4716-BFB4-67192FEB8F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Номер слайда 3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9" name="Picture 3" descr="Slogan"/>
          <p:cNvPicPr/>
          <p:nvPr/>
        </p:nvPicPr>
        <p:blipFill>
          <a:blip r:embed="rId2"/>
          <a:stretch/>
        </p:blipFill>
        <p:spPr>
          <a:xfrm>
            <a:off x="4871880" y="5805360"/>
            <a:ext cx="2664000" cy="854280"/>
          </a:xfrm>
          <a:prstGeom prst="rect">
            <a:avLst/>
          </a:prstGeom>
          <a:ln w="0">
            <a:noFill/>
          </a:ln>
        </p:spPr>
      </p:pic>
      <p:sp>
        <p:nvSpPr>
          <p:cNvPr id="580" name="Rectangle 4"/>
          <p:cNvSpPr/>
          <p:nvPr/>
        </p:nvSpPr>
        <p:spPr>
          <a:xfrm>
            <a:off x="695160" y="1928880"/>
            <a:ext cx="77774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Microsoft New Tai Lue"/>
              </a:rPr>
              <a:t>Mo</a:t>
            </a:r>
            <a:r>
              <a:rPr b="0" lang="en-US" sz="4400" spc="-1" strike="noStrike">
                <a:solidFill>
                  <a:srgbClr val="333333"/>
                </a:solidFill>
                <a:latin typeface="Microsoft New Tai Lue"/>
              </a:rPr>
              <a:t>Bill – STS.</a:t>
            </a:r>
            <a:r>
              <a:rPr b="0" lang="en-US" sz="4400" spc="-1" strike="noStrike">
                <a:solidFill>
                  <a:srgbClr val="336699"/>
                </a:solidFill>
                <a:latin typeface="Microsoft New Tai Lue"/>
              </a:rPr>
              <a:t>IVR</a:t>
            </a:r>
            <a:br>
              <a:rPr sz="4000"/>
            </a:br>
            <a:r>
              <a:rPr b="0" lang="ru-RU" sz="3600" spc="-1" strike="noStrike">
                <a:solidFill>
                  <a:srgbClr val="333333"/>
                </a:solidFill>
                <a:latin typeface="Microsoft Sans Serif"/>
              </a:rPr>
              <a:t>Интерактивная справочная система</a:t>
            </a: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1" name="Picture 9" descr="Logo2"/>
          <p:cNvPicPr/>
          <p:nvPr/>
        </p:nvPicPr>
        <p:blipFill>
          <a:blip r:embed="rId3"/>
          <a:stretch/>
        </p:blipFill>
        <p:spPr>
          <a:xfrm>
            <a:off x="7940520" y="0"/>
            <a:ext cx="3610080" cy="15429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1" descr="&amp;Kcy;&amp;acy;&amp;rcy;&amp;tcy;&amp;icy;&amp;ncy;&amp;kcy;&amp;icy; &amp;pcy;&amp;ocy; &amp;zcy;&amp;acy;&amp;pcy;&amp;rcy;&amp;ocy;&amp;scy;&amp;ucy; ivr"/>
          <p:cNvPicPr/>
          <p:nvPr/>
        </p:nvPicPr>
        <p:blipFill>
          <a:blip r:embed="rId4"/>
          <a:stretch/>
        </p:blipFill>
        <p:spPr>
          <a:xfrm>
            <a:off x="7953480" y="171468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8C8D-9128-4E4A-9A55-D711A0095C2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хема подключ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Прямоугольник 21"/>
          <p:cNvSpPr/>
          <p:nvPr/>
        </p:nvSpPr>
        <p:spPr>
          <a:xfrm>
            <a:off x="9667800" y="-71280"/>
            <a:ext cx="25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V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TextBox 24"/>
          <p:cNvSpPr/>
          <p:nvPr/>
        </p:nvSpPr>
        <p:spPr>
          <a:xfrm>
            <a:off x="9858240" y="214200"/>
            <a:ext cx="22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Интерактивный серви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239400" y="1844640"/>
            <a:ext cx="2286000" cy="42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ализация как для обычных телефонных линий, подключаемых к ГТС 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O -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нтерфейс без питания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или во внутренней сети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IFX –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нтерфейс с питанием), так и для потоков Е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55" name="Object 3"/>
          <p:cNvGraphicFramePr/>
          <p:nvPr/>
        </p:nvGraphicFramePr>
        <p:xfrm>
          <a:off x="809640" y="1714680"/>
          <a:ext cx="844056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9640" y="1714680"/>
                    <a:ext cx="844056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5035-1D93-4004-858D-14FF13F34DE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недрение комплекс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Прямоугольник 21"/>
          <p:cNvSpPr/>
          <p:nvPr/>
        </p:nvSpPr>
        <p:spPr>
          <a:xfrm>
            <a:off x="9667800" y="-71280"/>
            <a:ext cx="25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V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TextBox 24"/>
          <p:cNvSpPr/>
          <p:nvPr/>
        </p:nvSpPr>
        <p:spPr>
          <a:xfrm>
            <a:off x="9858240" y="214200"/>
            <a:ext cx="22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Интерактивный серви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09280" y="1785600"/>
            <a:ext cx="70722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вертывание комплекс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сталляция платы компьютерной телефонии в компьюте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становка драйверов на плату  (из комплекта поставки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стройка проек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ись файлов сообще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писывание путей в свойствах используемых компонент к записанным файлам (форматы *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v, *.vox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необходимо, настройка среды написания сценар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3" name="Picture 31" descr=""/>
          <p:cNvPicPr/>
          <p:nvPr/>
        </p:nvPicPr>
        <p:blipFill>
          <a:blip r:embed="rId1"/>
          <a:srcRect l="0" t="0" r="25121" b="25469"/>
          <a:stretch/>
        </p:blipFill>
        <p:spPr>
          <a:xfrm>
            <a:off x="8172360" y="1708200"/>
            <a:ext cx="2424240" cy="207792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33" descr=""/>
          <p:cNvPicPr/>
          <p:nvPr/>
        </p:nvPicPr>
        <p:blipFill>
          <a:blip r:embed="rId2"/>
          <a:srcRect l="0" t="0" r="34044" b="54454"/>
          <a:stretch/>
        </p:blipFill>
        <p:spPr>
          <a:xfrm>
            <a:off x="9421920" y="3357720"/>
            <a:ext cx="2031840" cy="125244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35" descr=""/>
          <p:cNvPicPr/>
          <p:nvPr/>
        </p:nvPicPr>
        <p:blipFill>
          <a:blip r:embed="rId3"/>
          <a:srcRect l="0" t="0" r="1775" b="11180"/>
          <a:stretch/>
        </p:blipFill>
        <p:spPr>
          <a:xfrm>
            <a:off x="8167680" y="4173480"/>
            <a:ext cx="2786040" cy="19274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6C0C-9338-4DFF-B731-457CD8FB934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Администрирова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Прямоугольник 21"/>
          <p:cNvSpPr/>
          <p:nvPr/>
        </p:nvSpPr>
        <p:spPr>
          <a:xfrm>
            <a:off x="9667800" y="-71280"/>
            <a:ext cx="25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V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TextBox 24"/>
          <p:cNvSpPr/>
          <p:nvPr/>
        </p:nvSpPr>
        <p:spPr>
          <a:xfrm>
            <a:off x="9858240" y="214200"/>
            <a:ext cx="22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Интерактивный серви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09280" y="1785600"/>
            <a:ext cx="70722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дминистрирование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ись новых сообще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мена или добавление сообщений на жестком диск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пьюте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необходимо, то исправление путей в компонента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2" name="Picture 31" descr=""/>
          <p:cNvPicPr/>
          <p:nvPr/>
        </p:nvPicPr>
        <p:blipFill>
          <a:blip r:embed="rId1"/>
          <a:srcRect l="0" t="0" r="25121" b="25469"/>
          <a:stretch/>
        </p:blipFill>
        <p:spPr>
          <a:xfrm>
            <a:off x="8172360" y="1708200"/>
            <a:ext cx="2424240" cy="207792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33" descr=""/>
          <p:cNvPicPr/>
          <p:nvPr/>
        </p:nvPicPr>
        <p:blipFill>
          <a:blip r:embed="rId2"/>
          <a:srcRect l="0" t="0" r="34044" b="54454"/>
          <a:stretch/>
        </p:blipFill>
        <p:spPr>
          <a:xfrm>
            <a:off x="9421920" y="3357720"/>
            <a:ext cx="2031840" cy="125244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35" descr=""/>
          <p:cNvPicPr/>
          <p:nvPr/>
        </p:nvPicPr>
        <p:blipFill>
          <a:blip r:embed="rId3"/>
          <a:srcRect l="0" t="0" r="1775" b="11180"/>
          <a:stretch/>
        </p:blipFill>
        <p:spPr>
          <a:xfrm>
            <a:off x="8167680" y="4173480"/>
            <a:ext cx="2786040" cy="19274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6AB9-A676-4683-92B1-422EAD6951D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зработка – графический редакто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Прямоугольник 21"/>
          <p:cNvSpPr/>
          <p:nvPr/>
        </p:nvSpPr>
        <p:spPr>
          <a:xfrm>
            <a:off x="9667800" y="-71280"/>
            <a:ext cx="25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V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TextBox 24"/>
          <p:cNvSpPr/>
          <p:nvPr/>
        </p:nvSpPr>
        <p:spPr>
          <a:xfrm>
            <a:off x="9858240" y="214200"/>
            <a:ext cx="22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Интерактивный серви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23680" y="1714320"/>
            <a:ext cx="6343560" cy="64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нтуитивно-понятная среда разработки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ерева своих сообщений и их взаимосвяз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1" name="Picture 4" descr=""/>
          <p:cNvPicPr/>
          <p:nvPr/>
        </p:nvPicPr>
        <p:blipFill>
          <a:blip r:embed="rId1"/>
          <a:stretch/>
        </p:blipFill>
        <p:spPr>
          <a:xfrm>
            <a:off x="880920" y="2246400"/>
            <a:ext cx="5343840" cy="391464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5" descr=""/>
          <p:cNvPicPr/>
          <p:nvPr/>
        </p:nvPicPr>
        <p:blipFill>
          <a:blip r:embed="rId2"/>
          <a:stretch/>
        </p:blipFill>
        <p:spPr>
          <a:xfrm>
            <a:off x="6953400" y="1785960"/>
            <a:ext cx="3035160" cy="266364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6" descr=""/>
          <p:cNvPicPr/>
          <p:nvPr/>
        </p:nvPicPr>
        <p:blipFill>
          <a:blip r:embed="rId3"/>
          <a:stretch/>
        </p:blipFill>
        <p:spPr>
          <a:xfrm>
            <a:off x="7667640" y="2857680"/>
            <a:ext cx="3030480" cy="242568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7" descr=""/>
          <p:cNvPicPr/>
          <p:nvPr/>
        </p:nvPicPr>
        <p:blipFill>
          <a:blip r:embed="rId4"/>
          <a:stretch/>
        </p:blipFill>
        <p:spPr>
          <a:xfrm>
            <a:off x="8524800" y="3871800"/>
            <a:ext cx="2772000" cy="22719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ABBD-9F72-48BC-8A7A-3DBC8841DF8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зработка – текстовый редакто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Прямоугольник 21"/>
          <p:cNvSpPr/>
          <p:nvPr/>
        </p:nvSpPr>
        <p:spPr>
          <a:xfrm>
            <a:off x="9667800" y="-71280"/>
            <a:ext cx="25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V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TextBox 24"/>
          <p:cNvSpPr/>
          <p:nvPr/>
        </p:nvSpPr>
        <p:spPr>
          <a:xfrm>
            <a:off x="9858240" y="214200"/>
            <a:ext cx="22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Интерактивный серви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823680" y="1714320"/>
            <a:ext cx="10558440" cy="64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среде написания сценария используется простой в изучении скриптовый язык (похожий на «Паскаль»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1" name="Picture 12" descr=""/>
          <p:cNvPicPr/>
          <p:nvPr/>
        </p:nvPicPr>
        <p:blipFill>
          <a:blip r:embed="rId1"/>
          <a:stretch/>
        </p:blipFill>
        <p:spPr>
          <a:xfrm>
            <a:off x="1309680" y="2286000"/>
            <a:ext cx="5643720" cy="387504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13" descr=""/>
          <p:cNvPicPr/>
          <p:nvPr/>
        </p:nvPicPr>
        <p:blipFill>
          <a:blip r:embed="rId2"/>
          <a:stretch/>
        </p:blipFill>
        <p:spPr>
          <a:xfrm>
            <a:off x="7310520" y="2643120"/>
            <a:ext cx="3500280" cy="30704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A8F8-472F-4D55-AED8-B793750E22D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звитие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Прямоугольник 21"/>
          <p:cNvSpPr/>
          <p:nvPr/>
        </p:nvSpPr>
        <p:spPr>
          <a:xfrm>
            <a:off x="9667800" y="-71280"/>
            <a:ext cx="25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V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TextBox 24"/>
          <p:cNvSpPr/>
          <p:nvPr/>
        </p:nvSpPr>
        <p:spPr>
          <a:xfrm>
            <a:off x="9858240" y="214200"/>
            <a:ext cx="22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Интерактивный серви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809280" y="1714320"/>
            <a:ext cx="10572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начальных этапах развития бизнеса достаточно иметь телефонный номер, плату на одну телефонную линию и персональный компьютер, а также записанные сообщения и информацию для клиента в базе данны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вивать можно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 способу подключения к каналам связи (увеличение количества телефонных линий или переход на поток Е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 вариантам предоставления одной и той же информации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чиная с операторов коллцентра, далее добавляем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VR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тем дублируем часть возможностей на Интернет-сайт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2CE9-325B-4C08-A0DA-361358FF611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нтеграц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Прямоугольник 21"/>
          <p:cNvSpPr/>
          <p:nvPr/>
        </p:nvSpPr>
        <p:spPr>
          <a:xfrm>
            <a:off x="9667800" y="-71280"/>
            <a:ext cx="25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V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TextBox 24"/>
          <p:cNvSpPr/>
          <p:nvPr/>
        </p:nvSpPr>
        <p:spPr>
          <a:xfrm>
            <a:off x="9858240" y="214200"/>
            <a:ext cx="22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Интерактивный серви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809280" y="1714320"/>
            <a:ext cx="10572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18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грация системы </a:t>
            </a: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400" spc="-1" strike="noStrike">
                <a:solidFill>
                  <a:srgbClr val="333333"/>
                </a:solidFill>
                <a:latin typeface="Verdana"/>
              </a:rPr>
              <a:t>Bill–STS.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IVR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корпоративной базой данных позволяет предоставлять клиенту не только общую информацию, но и персонифицированные данные (состояние счета, сумма долга, любую другую информацию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8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оповещением </a:t>
            </a: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400" spc="-1" strike="noStrike">
                <a:solidFill>
                  <a:srgbClr val="333333"/>
                </a:solidFill>
                <a:latin typeface="Verdana"/>
              </a:rPr>
              <a:t>Bill–STS.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Notif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- позволяет клиенту подписаться на услуги оповещения через телефон (например, уведомления «о следующем платеже»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8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чным кабинетом - позволяет получать клиенту личную информацию через Интернет-сай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Номер слайда 3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898C-1783-4F97-AB88-AC9706DE8A3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6" name="Picture 3" descr="Slogan"/>
          <p:cNvPicPr/>
          <p:nvPr/>
        </p:nvPicPr>
        <p:blipFill>
          <a:blip r:embed="rId2"/>
          <a:stretch/>
        </p:blipFill>
        <p:spPr>
          <a:xfrm>
            <a:off x="4871880" y="5805360"/>
            <a:ext cx="2664000" cy="854280"/>
          </a:xfrm>
          <a:prstGeom prst="rect">
            <a:avLst/>
          </a:prstGeom>
          <a:ln w="0">
            <a:noFill/>
          </a:ln>
        </p:spPr>
      </p:pic>
      <p:sp>
        <p:nvSpPr>
          <p:cNvPr id="707" name="Text Box 6"/>
          <p:cNvSpPr/>
          <p:nvPr/>
        </p:nvSpPr>
        <p:spPr>
          <a:xfrm>
            <a:off x="2905200" y="3643200"/>
            <a:ext cx="654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Компания «Мобилл плюс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Россия, Уфа, улица Менделеева, 13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Text Box 7"/>
          <p:cNvSpPr/>
          <p:nvPr/>
        </p:nvSpPr>
        <p:spPr>
          <a:xfrm>
            <a:off x="2952720" y="4714920"/>
            <a:ext cx="314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те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фак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347) 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56-66-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Text Box 8"/>
          <p:cNvSpPr/>
          <p:nvPr/>
        </p:nvSpPr>
        <p:spPr>
          <a:xfrm>
            <a:off x="6611760" y="4689360"/>
            <a:ext cx="277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ww.mobill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obill@mobill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0" name="Picture 9" descr="Logo2"/>
          <p:cNvPicPr/>
          <p:nvPr/>
        </p:nvPicPr>
        <p:blipFill>
          <a:blip r:embed="rId3"/>
          <a:stretch/>
        </p:blipFill>
        <p:spPr>
          <a:xfrm>
            <a:off x="4272120" y="1928880"/>
            <a:ext cx="3609720" cy="1542960"/>
          </a:xfrm>
          <a:prstGeom prst="rect">
            <a:avLst/>
          </a:prstGeom>
          <a:ln w="0">
            <a:noFill/>
          </a:ln>
        </p:spPr>
      </p:pic>
      <p:sp>
        <p:nvSpPr>
          <p:cNvPr id="711" name="TextBox 9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Rectangle 4"/>
          <p:cNvSpPr/>
          <p:nvPr/>
        </p:nvSpPr>
        <p:spPr>
          <a:xfrm>
            <a:off x="695160" y="142920"/>
            <a:ext cx="1068732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Microsoft New Tai Lue"/>
              </a:rPr>
              <a:t>Mo</a:t>
            </a:r>
            <a:r>
              <a:rPr b="0" lang="en-US" sz="4400" spc="-1" strike="noStrike">
                <a:solidFill>
                  <a:srgbClr val="333333"/>
                </a:solidFill>
                <a:latin typeface="Microsoft New Tai Lue"/>
              </a:rPr>
              <a:t>Bill – STS.</a:t>
            </a:r>
            <a:r>
              <a:rPr b="0" lang="en-US" sz="4400" spc="-1" strike="noStrike">
                <a:solidFill>
                  <a:srgbClr val="336699"/>
                </a:solidFill>
                <a:latin typeface="Microsoft New Tai Lue"/>
              </a:rPr>
              <a:t>IVR</a:t>
            </a:r>
            <a:br>
              <a:rPr sz="4000"/>
            </a:br>
            <a:r>
              <a:rPr b="0" lang="ru-RU" sz="3600" spc="-1" strike="noStrike">
                <a:solidFill>
                  <a:srgbClr val="333333"/>
                </a:solidFill>
                <a:latin typeface="Microsoft Sans Serif"/>
              </a:rPr>
              <a:t>Интерактивная справочная система</a:t>
            </a: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BFDD-EFC3-4B11-B75C-CB97406C242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зработчи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5"/>
          <p:cNvSpPr/>
          <p:nvPr/>
        </p:nvSpPr>
        <p:spPr>
          <a:xfrm>
            <a:off x="766800" y="1773360"/>
            <a:ext cx="89629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мпания</a:t>
            </a: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 «Мобилл плюс»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ециализируется на разработке универсальных программных систем и их внедрении в различных отраслях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ы работаем на рынке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T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 1997 го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6" name="Picture 9" descr="Logo2"/>
          <p:cNvPicPr/>
          <p:nvPr/>
        </p:nvPicPr>
        <p:blipFill>
          <a:blip r:embed="rId1"/>
          <a:stretch/>
        </p:blipFill>
        <p:spPr>
          <a:xfrm>
            <a:off x="9667800" y="785880"/>
            <a:ext cx="1838520" cy="785880"/>
          </a:xfrm>
          <a:prstGeom prst="rect">
            <a:avLst/>
          </a:prstGeom>
          <a:ln w="0">
            <a:noFill/>
          </a:ln>
        </p:spPr>
      </p:pic>
      <p:sp>
        <p:nvSpPr>
          <p:cNvPr id="587" name="Прямоугольник 11"/>
          <p:cNvSpPr/>
          <p:nvPr/>
        </p:nvSpPr>
        <p:spPr>
          <a:xfrm>
            <a:off x="809640" y="3929040"/>
            <a:ext cx="871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ы применяем в своих разработках технологии и программное обеспечение, которое обеспечивает высокую скорость обработки данных и высокую степень защищенности информаци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8" name="Picture 6" descr="&amp;Kcy;&amp;acy;&amp;rcy;&amp;tcy;&amp;icy;&amp;ncy;&amp;kcy;&amp;icy; &amp;pcy;&amp;ocy; &amp;zcy;&amp;acy;&amp;pcy;&amp;rcy;&amp;ocy;&amp;scy;&amp;ucy; &amp;Bcy;&amp;Dcy; &amp;icy;&amp;kcy;&amp;ocy;&amp;ncy;&amp;kcy;&amp;acy;"/>
          <p:cNvPicPr/>
          <p:nvPr/>
        </p:nvPicPr>
        <p:blipFill>
          <a:blip r:embed="rId2"/>
          <a:stretch/>
        </p:blipFill>
        <p:spPr>
          <a:xfrm>
            <a:off x="9882360" y="3643200"/>
            <a:ext cx="1571400" cy="1571760"/>
          </a:xfrm>
          <a:prstGeom prst="rect">
            <a:avLst/>
          </a:prstGeom>
          <a:ln w="0">
            <a:noFill/>
          </a:ln>
        </p:spPr>
      </p:pic>
      <p:sp>
        <p:nvSpPr>
          <p:cNvPr id="589" name="TextBox 14"/>
          <p:cNvSpPr/>
          <p:nvPr/>
        </p:nvSpPr>
        <p:spPr>
          <a:xfrm>
            <a:off x="1825560" y="3214800"/>
            <a:ext cx="65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знайте о нас больше: </a:t>
            </a: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www.mobill.r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Прямоугольник 14"/>
          <p:cNvSpPr/>
          <p:nvPr/>
        </p:nvSpPr>
        <p:spPr>
          <a:xfrm>
            <a:off x="9667800" y="-71280"/>
            <a:ext cx="25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V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15"/>
          <p:cNvSpPr/>
          <p:nvPr/>
        </p:nvSpPr>
        <p:spPr>
          <a:xfrm>
            <a:off x="9858240" y="214200"/>
            <a:ext cx="22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Интерактивный серви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16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3" name="Picture 11" descr="C:\Users\denis\Pictures\20-let-raboty.png"/>
          <p:cNvPicPr/>
          <p:nvPr/>
        </p:nvPicPr>
        <p:blipFill>
          <a:blip r:embed="rId3"/>
          <a:stretch/>
        </p:blipFill>
        <p:spPr>
          <a:xfrm>
            <a:off x="9739440" y="171468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4" name=""/>
          <p:cNvGraphicFramePr/>
          <p:nvPr/>
        </p:nvGraphicFramePr>
        <p:xfrm>
          <a:off x="838080" y="2916360"/>
          <a:ext cx="10060200" cy="946080"/>
        </p:xfrm>
        <a:graphic>
          <a:graphicData uri="http://schemas.openxmlformats.org/drawingml/2006/table">
            <a:tbl>
              <a:tblPr/>
              <a:tblGrid>
                <a:gridCol w="2917800"/>
                <a:gridCol w="898560"/>
                <a:gridCol w="2665440"/>
                <a:gridCol w="1081080"/>
                <a:gridCol w="2497320"/>
              </a:tblGrid>
              <a:tr h="946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302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Высокие оценки клиентов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Внедрение ПО под индивидуальные требования Заказчи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Постгарантийное сопровождение ПО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Моментальная техническая поддерж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Быстродействие СУБД. Низкие требования к аппаратным ресурса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5" name="Номер слайда 6"/>
          <p:cNvSpPr/>
          <p:nvPr/>
        </p:nvSpPr>
        <p:spPr>
          <a:xfrm>
            <a:off x="9299520" y="624348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640D-EC3F-4A1A-9C9F-453FBD2F07C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/>
          </p:nvPr>
        </p:nvSpPr>
        <p:spPr>
          <a:xfrm>
            <a:off x="2381040" y="3949560"/>
            <a:ext cx="8073720" cy="21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рамках реализуемых проектов мы осуществляем полный комплекс работ и услуг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дпроектный анализ требований и бизнес-процессов Заказчик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даленное проведение презентаций и конференций предлагаемых решен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вместную разработку технического зада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работку программных сист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недрение программных сист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дготовку персонала Заказчи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ервисное гарантийное и постгарантийное обслуживание 24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x 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7" name="Picture 5" descr="&amp;Kcy;&amp;acy;&amp;rcy;&amp;tcy;&amp;icy;&amp;ncy;&amp;kcy;&amp;icy; &amp;pcy;&amp;ocy; &amp;zcy;&amp;acy;&amp;pcy;&amp;rcy;&amp;ocy;&amp;scy;&amp;ucy; &amp;kcy;&amp;acy;&amp;chcy;&amp;iecy;&amp;scy;&amp;tcy;&amp;vcy;&amp;ocy; &amp;icy;&amp;kcy;&amp;ocy;&amp;ncy;&amp;kcy;&amp;acy;"/>
          <p:cNvPicPr/>
          <p:nvPr/>
        </p:nvPicPr>
        <p:blipFill>
          <a:blip r:embed="rId1"/>
          <a:stretch/>
        </p:blipFill>
        <p:spPr>
          <a:xfrm>
            <a:off x="1739880" y="1911240"/>
            <a:ext cx="1197000" cy="10861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7" descr="&amp;Kcy;&amp;acy;&amp;rcy;&amp;tcy;&amp;icy;&amp;ncy;&amp;kcy;&amp;icy; &amp;pcy;&amp;ocy; &amp;zcy;&amp;acy;&amp;pcy;&amp;rcy;&amp;ocy;&amp;scy;&amp;ucy; &amp;shchcy;&amp;icy;&amp;tcy; &amp;icy;&amp;kcy;&amp;ocy;&amp;ncy;&amp;kcy;&amp;acy;"/>
          <p:cNvPicPr/>
          <p:nvPr/>
        </p:nvPicPr>
        <p:blipFill>
          <a:blip r:embed="rId2">
            <a:lum bright="26000"/>
          </a:blip>
          <a:stretch/>
        </p:blipFill>
        <p:spPr>
          <a:xfrm>
            <a:off x="5668920" y="2068560"/>
            <a:ext cx="787320" cy="7858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9" descr="&amp;Kcy;&amp;acy;&amp;rcy;&amp;tcy;&amp;icy;&amp;ncy;&amp;kcy;&amp;icy; &amp;pcy;&amp;ocy; &amp;zcy;&amp;acy;&amp;pcy;&amp;rcy;&amp;ocy;&amp;scy;&amp;ucy; &amp;scy;&amp;kcy;&amp;ocy;&amp;rcy;&amp;ocy;&amp;scy;&amp;tcy;&amp;softcy; &amp;icy;&amp;kcy;&amp;ocy;&amp;ncy;&amp;kcy;&amp;acy;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9190080" y="1996920"/>
            <a:ext cx="928800" cy="928800"/>
          </a:xfrm>
          <a:prstGeom prst="rect">
            <a:avLst/>
          </a:prstGeom>
          <a:ln w="0">
            <a:noFill/>
          </a:ln>
        </p:spPr>
      </p:pic>
      <p:sp>
        <p:nvSpPr>
          <p:cNvPr id="600" name="TextBox 18"/>
          <p:cNvSpPr/>
          <p:nvPr/>
        </p:nvSpPr>
        <p:spPr>
          <a:xfrm>
            <a:off x="1666080" y="1643040"/>
            <a:ext cx="13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TextBox 19"/>
          <p:cNvSpPr/>
          <p:nvPr/>
        </p:nvSpPr>
        <p:spPr>
          <a:xfrm>
            <a:off x="5195880" y="164304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деж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TextBox 20"/>
          <p:cNvSpPr/>
          <p:nvPr/>
        </p:nvSpPr>
        <p:spPr>
          <a:xfrm>
            <a:off x="8528040" y="1643040"/>
            <a:ext cx="22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ыстродейств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758880" y="341280"/>
            <a:ext cx="80024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Verdana"/>
              </a:rPr>
              <a:t>О компании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4" name="Picture 9" descr="Logo2"/>
          <p:cNvPicPr/>
          <p:nvPr/>
        </p:nvPicPr>
        <p:blipFill>
          <a:blip r:embed="rId4"/>
          <a:stretch/>
        </p:blipFill>
        <p:spPr>
          <a:xfrm>
            <a:off x="9667800" y="785880"/>
            <a:ext cx="1838520" cy="785880"/>
          </a:xfrm>
          <a:prstGeom prst="rect">
            <a:avLst/>
          </a:prstGeom>
          <a:ln w="0">
            <a:noFill/>
          </a:ln>
        </p:spPr>
      </p:pic>
      <p:sp>
        <p:nvSpPr>
          <p:cNvPr id="605" name="TextBox 17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Прямоугольник 16"/>
          <p:cNvSpPr/>
          <p:nvPr/>
        </p:nvSpPr>
        <p:spPr>
          <a:xfrm>
            <a:off x="9667800" y="-71280"/>
            <a:ext cx="25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V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TextBox 19"/>
          <p:cNvSpPr/>
          <p:nvPr/>
        </p:nvSpPr>
        <p:spPr>
          <a:xfrm>
            <a:off x="9858240" y="214200"/>
            <a:ext cx="22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Интерактивный серви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C64C-DBFD-499A-89CE-1B6540861BD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Назначение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Прямоугольник 21"/>
          <p:cNvSpPr/>
          <p:nvPr/>
        </p:nvSpPr>
        <p:spPr>
          <a:xfrm>
            <a:off x="9667800" y="-71280"/>
            <a:ext cx="25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V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TextBox 24"/>
          <p:cNvSpPr/>
          <p:nvPr/>
        </p:nvSpPr>
        <p:spPr>
          <a:xfrm>
            <a:off x="9858240" y="214200"/>
            <a:ext cx="22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Интерактивный серви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17200" y="1844280"/>
            <a:ext cx="105649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терактивная справочная система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V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предназначена для автоматизации оказания информационных услуг по телефону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ем и обработка звонк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дача часто запрашиваемой информац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правление услугами клиен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4" name="Picture 20" descr="C:\Users\denis\Pictures\apoyo-comercial-llamado_318-60125.jpg"/>
          <p:cNvPicPr/>
          <p:nvPr/>
        </p:nvPicPr>
        <p:blipFill>
          <a:blip r:embed="rId1"/>
          <a:stretch/>
        </p:blipFill>
        <p:spPr>
          <a:xfrm>
            <a:off x="866880" y="285768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4" descr="&amp;Kcy;&amp;acy;&amp;rcy;&amp;tcy;&amp;icy;&amp;ncy;&amp;kcy;&amp;icy; &amp;pcy;&amp;ocy; &amp;zcy;&amp;acy;&amp;pcy;&amp;rcy;&amp;ocy;&amp;scy;&amp;ucy; &amp;ncy;&amp;acy;&amp;scy;&amp;tcy;&amp;rcy;&amp;ocy;&amp;jcy;&amp;kcy;&amp;acy; &amp;icy;&amp;kcy;&amp;ocy;&amp;ncy;&amp;kcy;&amp;acy;"/>
          <p:cNvPicPr/>
          <p:nvPr/>
        </p:nvPicPr>
        <p:blipFill>
          <a:blip r:embed="rId2"/>
          <a:stretch/>
        </p:blipFill>
        <p:spPr>
          <a:xfrm>
            <a:off x="866880" y="478620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6" descr="&amp;Kcy;&amp;acy;&amp;rcy;&amp;tcy;&amp;icy;&amp;ncy;&amp;kcy;&amp;icy; &amp;pcy;&amp;ocy; &amp;zcy;&amp;acy;&amp;pcy;&amp;rcy;&amp;ocy;&amp;scy;&amp;ucy; &amp;icy;&amp;ncy;&amp;fcy;&amp;ocy;&amp;rcy;&amp;mcy;&amp;acy;&amp;tscy;&amp;icy;&amp;yacy; &amp;icy;&amp;kcy;&amp;ocy;&amp;ncy;&amp;kcy;&amp;acy;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795240" y="3786120"/>
            <a:ext cx="657360" cy="657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42CE-83A0-4109-9563-0ED26EAD22C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еализаци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Прямоугольник 21"/>
          <p:cNvSpPr/>
          <p:nvPr/>
        </p:nvSpPr>
        <p:spPr>
          <a:xfrm>
            <a:off x="9667800" y="-71280"/>
            <a:ext cx="25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V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TextBox 24"/>
          <p:cNvSpPr/>
          <p:nvPr/>
        </p:nvSpPr>
        <p:spPr>
          <a:xfrm>
            <a:off x="9858240" y="214200"/>
            <a:ext cx="22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Интерактивный серви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785520" y="1844280"/>
            <a:ext cx="106678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анкам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правка по курсам валют, режиму работы, по текущему состоянию кредита, по условиям размещения вкладов и кредитовани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лужбам доставки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правка по текущему состоянию груза (по номеру накладной и др. параметрам), справка по режиму работы и условиям получения груза, местоположение груза и время достав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чебным заведениям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правка по расписанию занятий, по закреплению преподавателей, режим работы деканатов, дни когда занятия не проводятся (праздничные и выходные), информация для абитуриентов (документы, оплата, получение справок из деканатов, даты экзаменов и др.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агазинам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правки о товарах и ценах, информация о скидках и проведении акций, и т.п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015A-8FC6-4D32-BAC6-62D4FC8585D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еимуществ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Прямоугольник 21"/>
          <p:cNvSpPr/>
          <p:nvPr/>
        </p:nvSpPr>
        <p:spPr>
          <a:xfrm>
            <a:off x="9667800" y="-71280"/>
            <a:ext cx="25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V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TextBox 24"/>
          <p:cNvSpPr/>
          <p:nvPr/>
        </p:nvSpPr>
        <p:spPr>
          <a:xfrm>
            <a:off x="9858240" y="214200"/>
            <a:ext cx="22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Интерактивный серви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817200" y="1844280"/>
            <a:ext cx="105649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VR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ет Владельцу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вобождение сотрудников от повторения одинаковой информац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егкость в обновлении актуальной информац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циональное круглосуточное использование линий связ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VR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ет вашим Клиентам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углосуточный и круглогодичный доступ к справк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можность получить доступ в том числе и к разговору с «живым» человеко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5CDD-28FC-43DA-AA80-066BFA27EF6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Как работает систем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Прямоугольник 21"/>
          <p:cNvSpPr/>
          <p:nvPr/>
        </p:nvSpPr>
        <p:spPr>
          <a:xfrm>
            <a:off x="9667800" y="-71280"/>
            <a:ext cx="25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V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TextBox 24"/>
          <p:cNvSpPr/>
          <p:nvPr/>
        </p:nvSpPr>
        <p:spPr>
          <a:xfrm>
            <a:off x="9858240" y="214200"/>
            <a:ext cx="22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Интерактивный серви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17200" y="1844280"/>
            <a:ext cx="105649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стема общается с пользователем в интерактивном режиме позволяя ему самостоятельно ориентироваться в информационных рубриках, выбирать и прослушивать нужные сообщ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озвонившийся в систему клиент в тональном режиме набирает цифру на телефонном аппарате (или через устройство выдающее в голосовой канал нужный тон)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стема переключает клиента в меню соответствующее этому тону на шаг выше или ниж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сли клиент не выполняет никаких действий – то система выполняет действие «По умолчанию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5A8C-1933-4816-95BA-B3854B06CAC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собен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Прямоугольник 21"/>
          <p:cNvSpPr/>
          <p:nvPr/>
        </p:nvSpPr>
        <p:spPr>
          <a:xfrm>
            <a:off x="9667800" y="-71280"/>
            <a:ext cx="25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V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TextBox 24"/>
          <p:cNvSpPr/>
          <p:nvPr/>
        </p:nvSpPr>
        <p:spPr>
          <a:xfrm>
            <a:off x="9858240" y="214200"/>
            <a:ext cx="22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Интерактивный серви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817200" y="1844280"/>
            <a:ext cx="105649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ись сообщений через звуковую карту компьюте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спроизведение данных из базы (курсы валют, остаток платежей по кредиту клиента и другая информация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изменении способа подключения – программное обеспечение продолжает работать без изменений в настройках (например, был через СЛ, а стал поток Е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7F3C-6801-4FE6-8233-D10A2A3DC18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Архитектура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Прямоугольник 21"/>
          <p:cNvSpPr/>
          <p:nvPr/>
        </p:nvSpPr>
        <p:spPr>
          <a:xfrm>
            <a:off x="9667800" y="-71280"/>
            <a:ext cx="25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V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TextBox 24"/>
          <p:cNvSpPr/>
          <p:nvPr/>
        </p:nvSpPr>
        <p:spPr>
          <a:xfrm>
            <a:off x="9858240" y="214200"/>
            <a:ext cx="22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Интерактивный серви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8881560" y="1773360"/>
            <a:ext cx="2643480" cy="37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сширение программного обеспечения от одной платы до нескольких (для достижения нужного количества интерфейсных линий) или переход на другой тип соедине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47" name="Object 2"/>
          <p:cNvGraphicFramePr/>
          <p:nvPr/>
        </p:nvGraphicFramePr>
        <p:xfrm>
          <a:off x="809640" y="1857240"/>
          <a:ext cx="7929720" cy="42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9640" y="1857240"/>
                    <a:ext cx="7929720" cy="42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8:12:36Z</dcterms:created>
  <dc:creator>ООО "Мобилл плюс"</dc:creator>
  <dc:description/>
  <dc:language>en-US</dc:language>
  <cp:lastModifiedBy>Андрей</cp:lastModifiedBy>
  <dcterms:modified xsi:type="dcterms:W3CDTF">2017-06-01T10:14:20Z</dcterms:modified>
  <cp:revision>354</cp:revision>
  <dc:subject>MoBill-STS.IVR Интерактивная справочная система</dc:subject>
  <dc:title>Презентация</dc:title>
</cp:coreProperties>
</file>