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42D7-981D-4876-A669-0961B99209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18BD-4F95-4204-BB0D-B195EE283E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DC1F-98EE-40A7-B521-408AF98FB7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E7D3-983D-42A0-A22F-721E54C09F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целью внедрения Системы является создани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диной информационной систе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бора и обработки информации и получение полнофункционального инструмента, позволяющег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втоматизировать весь цикл рабо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потребителями, обеспечивающег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ние отчет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анализа деятельности, оперативного и долгосрочного планирования и принятия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3F9A-5929-4680-8C3A-470A255DED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0B2F-39C7-490D-A228-9A52E9530C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A753-B086-4072-8F83-B4EB1A8631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зированная система расчетов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MoBill-EnergoTrad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назначена для автоматизации процесса энергосбытовой деятельности в части заключения и сопровождения договоров с потребителями, учета электроэнергии и мощности, расчетов за электроэнергию и услуги с потребителями и поставщиками, снижения временных трудозатрат на рутинные операции, оперативной обработке информации о потребителях, подготовке управленческой и статистической отче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6170-B9E0-403E-A6B3-E4E0E70D34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A87-D4A4-4DC6-8750-BF5C743D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E98-6F75-448F-B021-24DD35F5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6F807-27AE-4B23-A388-BEE91C3F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A988A-BB53-4EE6-9CE6-F7C2B80A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985D9-E4B5-4B29-8EB5-DECBB481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9AF18-CC1C-4180-B5D0-869CE54A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46D14-6785-4AD8-B3A5-F4B016DA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14960-7D8A-4093-968D-5C3FDF1A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BD15D-DFC6-41BD-8E8F-F83B5810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72BF7-F9DE-4CDB-930E-B1EF507F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4ADC1-9332-4F80-A725-AAA77D31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C975B-4338-44A7-9815-1CA6A7C4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881-8939-4470-BA7B-E7BFE3BC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ACEA0-12A7-499A-AD41-8D071A74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96F78-8B22-477B-A14C-DFC57F4D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493A3-E4F2-48BA-9991-071DB164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93559-72D6-40AF-8F00-8F442FA4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800AD-91B4-4B2B-9486-BE4FC7C2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25258-4872-45EC-8CB2-63F5C2F0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3C80C-15DE-40C0-AE86-75E899A9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3EE1C-775C-47D6-ACF9-B68F613A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D56EE-7D2E-4CF9-B73C-BBF9985B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867A3-E6E7-4D3A-A525-FCF95DE8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AAA-7303-4FE5-A64E-4E19CB87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4BE49-8A23-4C43-B140-452AC8F8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530C7-F369-4D05-AC06-B4292D80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A0982-FB74-4A76-8B13-B2865CA8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9213B-1EEA-4AA5-B341-47264353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C8C35-8A42-40A2-AD03-997D1E2E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729FD-1426-40DA-81E9-75B54F05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EB550-EE52-4C24-80E6-46A6133D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E7374-E55C-4052-9FD7-2F9C3F9E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5714E-D951-446F-9862-5F569958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B417A-36B0-4CFB-A4CE-0FA1145B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C91D-EE3F-490E-900B-204515B0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B7297-44C5-4C14-A083-C6FA7ABF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AA701-FEAA-4A33-B6F0-162EA1AA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99E73-F031-411A-A313-D1A9B2A7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C36B3-4E6C-450D-A570-6C393793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F0752-0335-46B4-893B-A2FEF938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D04D1-DA95-4E51-94A2-333C0C48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55609-2A58-4F73-9F83-0310B44D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E51AE-28D6-41EF-8133-A5FFED9C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3BC1E-DD09-41B5-BB6A-0238D6A1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D2B5B-B020-4F98-97EF-63B1768E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8FCF-D845-4A7C-9590-FB7D68CF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FF06F-F259-439F-95B4-95403DF4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49355-01CD-49D7-B2BB-C4D6D2C8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385BA-AE58-4D6A-9A4D-6BDB46BB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D127B-CA3A-445F-9B76-0AE9E4B0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6D207-6387-44EC-973C-59A03873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ABCFE6-9B8E-4310-B23C-348DD811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9F66A-3897-45C3-AF64-B3AF4BDB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449349-0748-487E-B753-C900136A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D182A-426B-4886-9DEA-EF9AE43C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02209F-E9B4-48EE-BF25-095A89F8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A571-5744-4E8C-97AF-C2D8A9B0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BE3F12-56DD-4822-A26C-D0E4318E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B2FEE7-E702-4647-A19F-3E1452B1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7EBAC-1169-4925-A0EA-0CB45FB0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B990F-65F2-47ED-B44A-D9DDEED2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ABF3D8-0B5A-453C-929B-7BC70A5D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3CE16-E38B-41E1-B938-3CE80398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A8A5A-2EC3-48B6-8CA6-68F11B40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FDAD-B02E-46F3-845F-B8FEA129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B41B-3116-416F-A2FB-CC503B00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3041-0664-4BD3-8B26-053EEA18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A579-CA22-41FB-836A-55DD59B0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CA6-59A0-415C-BEEC-15117471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2304-5AF8-4C22-A1FF-DCA5642C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6B6C-C109-4963-8BFA-8EBDB56A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9142-2B90-46AE-A9B4-B3A7BDDF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93F4-39F6-4638-A248-5C0B6C0C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4EC1-3185-4295-BA5D-6FC25923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62589-66A7-41C1-8044-D9EEE378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880A7-12E0-4FE7-BAC2-00EBEB18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0A726-344C-4448-9854-E3017AB7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F0113-978B-4F6D-AFD2-EE577191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DAE16-2EF8-4EB1-BA2F-B60ADA70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C850-A676-420B-BAC6-714CD21F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CB2D0-7168-4D3F-8A85-C68E489F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F7820-BF9F-42CD-B41D-45592AFA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6481A-C598-4BFC-9849-B323747E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3EBB2-9442-418C-8893-F1AFB9CD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48A11-FEDB-46DC-B267-AD03FC3F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5C1EE-9B52-4806-9508-EC1EBF82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F6486-C49E-483A-81F0-29BA6EE4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083EA-20C4-4B32-9551-CE9AE355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92BF9-EF0E-4C0B-977B-849133F4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0D7A1-850B-4A96-971B-36CD653A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57A-3C0C-4ACE-839D-DEEB5CD8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F2EF4-6691-47D6-B0F2-61716161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65577-8166-424C-B9E4-C6F2DAF9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D0E3A-F914-49C8-82E8-8DDF4E2C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04416-C4C2-4B8B-9649-A482B82D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35CCE-A6EF-4289-9EC0-69183001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80FEC-66F0-455C-9D54-9C2981B7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F133F-B9B5-4EA8-BE97-7365478F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60937-0ADE-4CDF-A11B-A7676CA1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59491-437C-4E4B-8B80-69F24B0F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66F13-4AC4-4217-94BE-BC490359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2A0-0B22-4286-B06D-ECBB56F0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8A39E-4568-48AB-89C4-B6D1A248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45575-B8D6-4344-A557-E7E1D2A1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6F3D3-A0F5-4105-A211-3ADFF203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E8B68-216E-454F-951A-4E80C0C3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C73D5-0E24-40E9-A350-D237A99D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6A6DB-D5C1-4908-BCBB-BC6ED931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9D03B-4D1D-44BB-832E-1B4C1914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DF7E8-990E-45EE-8273-D6E80624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C5F1E-175E-4CA1-93BA-321BAB16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23397-3E20-4BCC-993E-AA461C1F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A27-4002-4B3D-B0F6-8321BDF0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FEC82-9AA6-457D-960F-8E363872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D869C-F987-4CFD-BBF7-299FB609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E14BD-1F18-48F9-8CF9-1FE9B9E4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F798F-47FE-4EA4-A2FA-44E5DF87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BD17A-0F47-4394-80B4-358465C7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5371A-460B-406B-B564-D9828233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70BF7-99A8-4794-BB9C-CE211998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81989-C998-4AB1-A762-0A90C546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5A0BF-03DE-4D74-B388-A957026C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CE75E-6AD6-4E6F-A8BF-A21EEE55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4AB-CAC4-4993-819C-0955DC0A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1A48F-AF5B-420C-AF61-F9ACF830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8D994-9708-4B3F-9DE8-991CCBD0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A3DF8-2D5A-4401-80D5-BBC30363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8B497-B87D-4D69-9A67-D4709237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C0E74-304B-4D4D-93C8-D2517D9F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D315C-D63E-4A5F-9511-8ECC52A5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FC191-8383-4D3F-9B31-6BEF4F17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A306E-DFC3-4EFD-87E2-4839F30F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9608A-5B65-4618-BE12-870583EE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A5402-B44D-45CF-9C99-8F112BAE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5F33-EB07-429C-B481-F298708B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C020A-7D4D-4694-85C1-E59506D9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5FFE4-948D-4CDC-8C02-44E54F94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B8C6A-D14B-4372-8CB0-90B4148F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BCBF0-C400-43CB-8573-319D60B1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CE9FD-420E-455A-B246-33740587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FFA04-B88D-4784-9755-2E1E5467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E9D9E-0B41-424A-A402-A690BAB4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20008-F6DF-499A-A209-798A8055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28823-E1DB-4144-BBC3-F7DB7AAB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AD355-158C-44D3-AB19-F00FA569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2CE-FD77-4DF3-9FDC-44723D9B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63E02-A45E-4D27-857F-9859573D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6EAF7-C249-4038-BA64-EC25D4C4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1618B-2790-4770-9AF5-DFF638FE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357ED-6DAF-43F0-805F-01459AC4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E08A0-EA63-481A-8322-02D52104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AB4E9-BEE2-429A-AC4F-A73AD8FC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EEAEF-70F7-421F-861C-8FF5D9D5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AFFC2-397D-413F-96C8-B2C4E910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FFEDB-4CB8-49DF-9B0E-7048B6F8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5B490-6661-4851-981B-6BAC1EFC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028E-9BC0-4C9B-8DA7-37A24DA58F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6CD7-6FB8-48C3-8037-B12262F18F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2CCF-48C8-4286-8066-06127487DF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656B-6D7A-4422-953A-127777F245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53E1-C2E3-46BD-96E5-05E0F7ABB8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914400" y="2394000"/>
            <a:ext cx="10363320" cy="109440"/>
          </a:xfrm>
          <a:custGeom>
            <a:avLst/>
            <a:gdLst>
              <a:gd name="textAreaLeft" fmla="*/ 0 w 10363320"/>
              <a:gd name="textAreaRight" fmla="*/ 10363680 w 10363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39DC-BF91-4475-B6A3-4B9EEB352A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1B91-C60F-4173-B8F7-E87E696880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9DB6-2881-4FA3-8775-EE97458043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C2DC-D36C-4F6D-B2D3-CFA8C27D7A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1647-8A5D-4072-9C04-E94573C964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2F6A-0C91-403C-9C41-0C8D0AFA09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044A-89C8-4819-BD95-CE2496A7D7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D031-EA22-4094-BA5E-5DB35FB56B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7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4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9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4"/>
          <p:cNvSpPr/>
          <p:nvPr/>
        </p:nvSpPr>
        <p:spPr>
          <a:xfrm>
            <a:off x="839880" y="2357280"/>
            <a:ext cx="711360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800" spc="-1" strike="noStrike">
                <a:solidFill>
                  <a:srgbClr val="333333"/>
                </a:solidFill>
                <a:latin typeface="Microsoft New Tai Lue"/>
              </a:rPr>
              <a:t>Bill – </a:t>
            </a:r>
            <a:r>
              <a:rPr b="0" lang="en-US" sz="4400" spc="-1" strike="noStrike">
                <a:solidFill>
                  <a:srgbClr val="333333"/>
                </a:solidFill>
                <a:latin typeface="Microsoft New Tai Lue"/>
              </a:rPr>
              <a:t>Energo</a:t>
            </a:r>
            <a:r>
              <a:rPr b="0" lang="en-US" sz="4400" spc="-1" strike="noStrike">
                <a:solidFill>
                  <a:srgbClr val="336699"/>
                </a:solidFill>
                <a:latin typeface="Microsoft New Tai Lue"/>
              </a:rPr>
              <a:t>Trade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400"/>
            </a:br>
            <a:r>
              <a:rPr b="0" lang="ru-RU" sz="3600" spc="-1" strike="noStrike">
                <a:solidFill>
                  <a:srgbClr val="333333"/>
                </a:solidFill>
                <a:latin typeface="Microsoft Sans Serif"/>
              </a:rPr>
              <a:t>Расчет энергосбытовых услуг</a:t>
            </a:r>
            <a:r>
              <a:rPr b="0" lang="en-US" sz="3600" spc="-1" strike="noStrike">
                <a:solidFill>
                  <a:srgbClr val="333333"/>
                </a:solidFill>
                <a:latin typeface="Microsoft Sans Serif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1" name="Picture 9" descr="Logo2"/>
          <p:cNvPicPr/>
          <p:nvPr/>
        </p:nvPicPr>
        <p:blipFill>
          <a:blip r:embed="rId3"/>
          <a:stretch/>
        </p:blipFill>
        <p:spPr>
          <a:xfrm>
            <a:off x="7958160" y="0"/>
            <a:ext cx="3610080" cy="15429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7" descr="&amp;Kcy;&amp;acy;&amp;rcy;&amp;tcy;&amp;icy;&amp;ncy;&amp;kcy;&amp;icy; &amp;pcy;&amp;ocy; &amp;zcy;&amp;acy;&amp;pcy;&amp;rcy;&amp;ocy;&amp;scy;&amp;ucy; &amp;scy;&amp;khcy;&amp;iecy;&amp;mcy;&amp;acy; &amp;ecy;&amp;ncy;&amp;iecy;&amp;rcy;&amp;gcy;&amp;ocy;&amp;scy;&amp;bcy;&amp;ycy;&amp;tcy;&amp;ocy;&amp;vcy;&amp;acy;&amp;yacy; &amp;kcy;&amp;ocy;&amp;mcy;&amp;pcy;&amp;acy;&amp;ncy;&amp;icy;&amp;yacy;"/>
          <p:cNvPicPr/>
          <p:nvPr/>
        </p:nvPicPr>
        <p:blipFill>
          <a:blip r:embed="rId4"/>
          <a:stretch/>
        </p:blipFill>
        <p:spPr>
          <a:xfrm>
            <a:off x="7381800" y="1571760"/>
            <a:ext cx="4114800" cy="2388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5" descr=""/>
          <p:cNvPicPr/>
          <p:nvPr/>
        </p:nvPicPr>
        <p:blipFill>
          <a:blip r:embed="rId1"/>
          <a:srcRect l="0" t="0" r="0" b="12160"/>
          <a:stretch/>
        </p:blipFill>
        <p:spPr>
          <a:xfrm>
            <a:off x="880920" y="2500200"/>
            <a:ext cx="5380200" cy="1857600"/>
          </a:xfrm>
          <a:prstGeom prst="rect">
            <a:avLst/>
          </a:prstGeom>
          <a:ln w="0">
            <a:noFill/>
          </a:ln>
        </p:spPr>
      </p:pic>
      <p:sp>
        <p:nvSpPr>
          <p:cNvPr id="665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FE3A-21BC-49F0-B989-D282026834D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казания и объ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AutoShape 13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AutoShape 15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AutoShape 18"/>
          <p:cNvSpPr/>
          <p:nvPr/>
        </p:nvSpPr>
        <p:spPr>
          <a:xfrm>
            <a:off x="169704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AutoShape 20"/>
          <p:cNvSpPr/>
          <p:nvPr/>
        </p:nvSpPr>
        <p:spPr>
          <a:xfrm>
            <a:off x="169704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766800" y="1643040"/>
            <a:ext cx="110901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чет показаний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тегральные (на начало и конец расчетного периода по точкам учет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часов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2" name="Picture 21" descr="C:\Users\denis\Desktop\Материалы для презентации ET\leonardo255111100010.jpg"/>
          <p:cNvPicPr/>
          <p:nvPr/>
        </p:nvPicPr>
        <p:blipFill>
          <a:blip r:embed="rId2"/>
          <a:stretch/>
        </p:blipFill>
        <p:spPr>
          <a:xfrm>
            <a:off x="839880" y="44719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4"/>
          <p:cNvSpPr/>
          <p:nvPr/>
        </p:nvSpPr>
        <p:spPr>
          <a:xfrm>
            <a:off x="2495520" y="4357800"/>
            <a:ext cx="89391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пособы сбора показаний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учной вв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втоматический расчет на основе </a:t>
            </a:r>
            <a:r>
              <a:rPr b="0" lang="ru-RU" sz="1400" spc="-1" strike="noStrike">
                <a:solidFill>
                  <a:srgbClr val="ff3c3c"/>
                </a:solidFill>
                <a:latin typeface="Verdana"/>
              </a:rPr>
              <a:t>профиля потребител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а также другими способа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грузка из файлов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ли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ML (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80020, 5107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ем показаний на электронный почтовый ящик </a:t>
            </a:r>
            <a:r>
              <a:rPr b="0" lang="ru-RU" sz="1400" spc="-1" strike="noStrike">
                <a:solidFill>
                  <a:srgbClr val="ff3c3c"/>
                </a:solidFill>
                <a:latin typeface="Verdana"/>
              </a:rPr>
              <a:t>от систем АСКУЭ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и последующая автоматическая загруз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вод показаний потребителем в его личном кабинет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4" name="Picture 24" descr=""/>
          <p:cNvPicPr/>
          <p:nvPr/>
        </p:nvPicPr>
        <p:blipFill>
          <a:blip r:embed="rId3"/>
          <a:stretch/>
        </p:blipFill>
        <p:spPr>
          <a:xfrm>
            <a:off x="3695760" y="2214720"/>
            <a:ext cx="7686720" cy="18572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5" descr="MoBill-EnergoTrade"/>
          <p:cNvPicPr/>
          <p:nvPr/>
        </p:nvPicPr>
        <p:blipFill>
          <a:blip r:embed="rId4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676" name="TextBox 14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58BF-A08A-4900-91DE-6433C743E91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цен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13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AutoShape 15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AutoShape 18"/>
          <p:cNvSpPr/>
          <p:nvPr/>
        </p:nvSpPr>
        <p:spPr>
          <a:xfrm>
            <a:off x="169704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AutoShape 20"/>
          <p:cNvSpPr/>
          <p:nvPr/>
        </p:nvSpPr>
        <p:spPr>
          <a:xfrm>
            <a:off x="169704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3143160" y="1714680"/>
            <a:ext cx="6193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Цены на электроэнергию, мощность и услуги по передач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гнозные и факт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щие и почасов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1919160" y="3000240"/>
            <a:ext cx="81788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пособы ввода це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учной вво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грузка из файлов в формате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c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томатическое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скачивание с сайта коммерческого оператор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птового рынка и загрузка в систем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чет цен на основе данных предыдущих расчетных период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5" name="Picture 2" descr="&amp;Kcy;&amp;acy;&amp;rcy;&amp;tcy;&amp;icy;&amp;ncy;&amp;kcy;&amp;icy; &amp;pcy;&amp;ocy; &amp;zcy;&amp;acy;&amp;pcy;&amp;rcy;&amp;ocy;&amp;scy;&amp;ucy; &amp;tscy;&amp;iecy;&amp;ncy;&amp;ycy; &amp;icy;&amp;kcy;&amp;ocy;&amp;ncy;&amp;kcy;&amp;acy;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9480600" y="157176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4"/>
          <p:cNvSpPr/>
          <p:nvPr/>
        </p:nvSpPr>
        <p:spPr>
          <a:xfrm>
            <a:off x="766800" y="4948200"/>
            <a:ext cx="904392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акже возможн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грузка цен в удобном формате (например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cel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мещение цен на сайте Заказчика при условии интеграции с сайт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7" name="Picture 35" descr="MoBill-EnergoTrade"/>
          <p:cNvPicPr/>
          <p:nvPr/>
        </p:nvPicPr>
        <p:blipFill>
          <a:blip r:embed="rId2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688" name="TextBox 12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D792-0872-46E7-A2E6-666140D6F24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766440" y="1714680"/>
            <a:ext cx="10667880" cy="17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иды расчетов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АКТ – расчет фактически потребленной электроэнергии, мощности и услуг при закрытии очередного расчетного перио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АНС – расчет авансовых платежей на будущие расчетные период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ЕНИ – штраф за просроченную задолжен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сче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5952960" y="3571920"/>
            <a:ext cx="40719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етоды расчета АВАНС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 договорным величина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 предыдущему месяц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етоды расчета ПЕН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 ставке рефинансиров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цент от суммы долг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3" name="Picture 14" descr="C:\Users\denis\Desktop\Материалы для презентации ET\777922_calculator_512x512.png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3162240" y="3567240"/>
            <a:ext cx="2148120" cy="21477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35" descr="MoBill-EnergoTrade"/>
          <p:cNvPicPr/>
          <p:nvPr/>
        </p:nvPicPr>
        <p:blipFill>
          <a:blip r:embed="rId2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695" name="TextBox 7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2" descr=""/>
          <p:cNvPicPr/>
          <p:nvPr/>
        </p:nvPicPr>
        <p:blipFill>
          <a:blip r:embed="rId1"/>
          <a:stretch/>
        </p:blipFill>
        <p:spPr>
          <a:xfrm>
            <a:off x="4809960" y="3500280"/>
            <a:ext cx="6572520" cy="2611440"/>
          </a:xfrm>
          <a:prstGeom prst="rect">
            <a:avLst/>
          </a:prstGeom>
          <a:ln w="0">
            <a:noFill/>
          </a:ln>
        </p:spPr>
      </p:pic>
      <p:sp>
        <p:nvSpPr>
          <p:cNvPr id="697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6265-BF75-4B18-8717-C7E48B4E403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766440" y="1785960"/>
            <a:ext cx="68295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Широкий выбор опций при запуске расчета потребителя позволяет персонифицировать расч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c3c"/>
                </a:solidFill>
                <a:latin typeface="Verdana"/>
              </a:rPr>
              <a:t>Массовый расчет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истема может автоматически рассчитать начисления всех потребителей за выбранный расчетный период, которые успешно пройдут проверк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сче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Rectangle 4"/>
          <p:cNvSpPr/>
          <p:nvPr/>
        </p:nvSpPr>
        <p:spPr>
          <a:xfrm>
            <a:off x="766800" y="3801960"/>
            <a:ext cx="390060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добное и </a:t>
            </a:r>
            <a:r>
              <a:rPr b="0" lang="ru-RU" sz="1400" spc="-1" strike="noStrike">
                <a:solidFill>
                  <a:srgbClr val="ff3c3c"/>
                </a:solidFill>
                <a:latin typeface="Verdana"/>
              </a:rPr>
              <a:t>детализированное представление результатов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счета с разделением по поставщикам и сетевым организация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озможность выгрузки результатов в популярные формат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1" name="Picture 3" descr=""/>
          <p:cNvPicPr/>
          <p:nvPr/>
        </p:nvPicPr>
        <p:blipFill>
          <a:blip r:embed="rId2"/>
          <a:stretch/>
        </p:blipFill>
        <p:spPr>
          <a:xfrm>
            <a:off x="7738920" y="1617840"/>
            <a:ext cx="3605400" cy="1820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5" descr="MoBill-EnergoTrade"/>
          <p:cNvPicPr/>
          <p:nvPr/>
        </p:nvPicPr>
        <p:blipFill>
          <a:blip r:embed="rId3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703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7C47-BDC8-4EC3-AF9D-1E4D5EA2D94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сче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766800" y="1714680"/>
            <a:ext cx="10729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пособы и методы расчетов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 показаниям приборов учета или замещающей информ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 нормативам потребления при отсутствии показаний и замещающей информации, а также истории показа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 отсутствии прибора учета по среднесуточному расходу за предыдущий перио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 безучетном потреблении или нарушении учета электроэнерг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3271680" y="4092480"/>
            <a:ext cx="82249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чет постоянных и переменных потерь электроэнергии от границы раздела с сетевой компании до точки учета потребител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едение перерасчетов объемов электроэнергии и мощности в ручном и автоматическом режима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8" name="Picture 6" descr="&amp;Kcy;&amp;acy;&amp;rcy;&amp;tcy;&amp;icy;&amp;ncy;&amp;kcy;&amp;icy; &amp;pcy;&amp;ocy; &amp;zcy;&amp;acy;&amp;pcy;&amp;rcy;&amp;ocy;&amp;scy;&amp;ucy; &amp;acy;&amp;lcy;&amp;gcy;&amp;ocy;&amp;rcy;&amp;icy;&amp;tcy;&amp;mcy; &amp;icy;&amp;kcy;&amp;ocy;&amp;ncy;&amp;kcy;&amp;acy;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982800" y="407196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35" descr="MoBill-EnergoTrade"/>
          <p:cNvPicPr/>
          <p:nvPr/>
        </p:nvPicPr>
        <p:blipFill>
          <a:blip r:embed="rId2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710" name="TextBox 7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49DE-3F1B-41E8-AE49-4B9B6DE5732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3046320" y="1785960"/>
            <a:ext cx="85219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c3c"/>
                </a:solidFill>
                <a:latin typeface="Verdana"/>
              </a:rPr>
              <a:t>Многовариантные расчет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можность расчета потребителей по нескольким выбранным тарифам (ценовым категория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поставление и анализ эффекта (прибыли) на основе сравнения расчетов по различным тарифа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авнение результатов расчетов в специализированных отчетных форма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сче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Picture 2" descr="&amp;Kcy;&amp;acy;&amp;rcy;&amp;tcy;&amp;icy;&amp;ncy;&amp;kcy;&amp;icy; &amp;pcy;&amp;ocy; &amp;zcy;&amp;acy;&amp;pcy;&amp;rcy;&amp;ocy;&amp;scy;&amp;ucy; &amp;vcy;&amp;ycy;&amp;bcy;&amp;ocy;&amp;rcy; &amp;icy;&amp;kcy;&amp;ocy;&amp;ncy;&amp;kcy;&amp;acy;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839880" y="1928880"/>
            <a:ext cx="2071440" cy="20718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4"/>
          <p:cNvSpPr/>
          <p:nvPr/>
        </p:nvSpPr>
        <p:spPr>
          <a:xfrm>
            <a:off x="911160" y="4221000"/>
            <a:ext cx="10657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ланирование потребления электроэнергии и мощ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месячных, квартальных и годовых планов потребления электроэнергии и мощ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ем и обработка данных о плановом и фактическом почасовом потреблении в форматах Excel и X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6" name="Picture 35" descr="MoBill-EnergoTrade"/>
          <p:cNvPicPr/>
          <p:nvPr/>
        </p:nvPicPr>
        <p:blipFill>
          <a:blip r:embed="rId2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717" name="TextBox 7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28B2-54FE-4B6B-9485-DB1EF77E521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счеты с поставщикам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766800" y="1857240"/>
            <a:ext cx="87850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 поставщиками и производителями электроэнерги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чет объемов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покупк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электроэнергии и мощ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счетов-фактур на покупку электроэнергии и услуг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для проверки входящих счетов-фактур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 поставщи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2766960" y="3643200"/>
            <a:ext cx="86677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 сетевыми компаниям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чет объемов электроэнергии и мощности для целей оплаты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услуг по передач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чет объемов резервируемой мощ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счетов-фактур на оплату услуг по передаче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для проверки входящих счетов-факту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т сетевых компа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2" name="Picture 2" descr="&amp;Kcy;&amp;acy;&amp;rcy;&amp;tcy;&amp;icy;&amp;ncy;&amp;kcy;&amp;icy; &amp;pcy;&amp;ocy; &amp;zcy;&amp;acy;&amp;pcy;&amp;rcy;&amp;ocy;&amp;scy;&amp;ucy; &amp;pcy;&amp;rcy;&amp;ocy;&amp;icy;&amp;zcy;&amp;vcy;&amp;ocy;&amp;dcy;&amp;icy;&amp;tcy;&amp;iecy;&amp;lcy;&amp;softcy; &amp;ecy;&amp;lcy;&amp;iecy;&amp;kcy;&amp;tcy;&amp;rcy;&amp;ocy;&amp;ecy;&amp;ncy;&amp;iecy;&amp;rcy;&amp;gcy;&amp;icy;&amp;i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9709200" y="1641600"/>
            <a:ext cx="1571400" cy="157140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4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AutoShape 6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5" name="Picture 7" descr="C:\Users\denis\Desktop\Материалы для презентации ET\lep-icon-2-300x300.png"/>
          <p:cNvPicPr/>
          <p:nvPr/>
        </p:nvPicPr>
        <p:blipFill>
          <a:blip r:embed="rId2"/>
          <a:stretch/>
        </p:blipFill>
        <p:spPr>
          <a:xfrm>
            <a:off x="623880" y="3429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5" descr="MoBill-EnergoTrade"/>
          <p:cNvPicPr/>
          <p:nvPr/>
        </p:nvPicPr>
        <p:blipFill>
          <a:blip r:embed="rId3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727" name="TextBox 11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41AD-6E15-4B21-8372-3FDA836B87F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814320" y="1714320"/>
            <a:ext cx="87105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ет оплат потребител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томатическое или ручное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распределение оплат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на счета и счета-фактуры потребител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можность автоматической или ручной загрузки оплат из файлов популярных форма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оборотно-сальдовой ведом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ла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1738440" y="3632040"/>
            <a:ext cx="8929440" cy="244008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35" descr="MoBill-EnergoTrade"/>
          <p:cNvPicPr/>
          <p:nvPr/>
        </p:nvPicPr>
        <p:blipFill>
          <a:blip r:embed="rId2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733" name="TextBox 7"/>
          <p:cNvSpPr/>
          <p:nvPr/>
        </p:nvSpPr>
        <p:spPr>
          <a:xfrm>
            <a:off x="766800" y="619272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AutoShape 9"/>
          <p:cNvSpPr/>
          <p:nvPr/>
        </p:nvSpPr>
        <p:spPr>
          <a:xfrm>
            <a:off x="173160" y="-1461960"/>
            <a:ext cx="30477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5" name="Picture 10" descr="C:\Users\denis\Pictures\VRS_Donate2_512x512x32_2.png"/>
          <p:cNvPicPr/>
          <p:nvPr/>
        </p:nvPicPr>
        <p:blipFill>
          <a:blip r:embed="rId3"/>
          <a:stretch/>
        </p:blipFill>
        <p:spPr>
          <a:xfrm>
            <a:off x="8953560" y="16430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BC46-208F-46DD-895F-942A4DBA2E5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828360" y="1714320"/>
            <a:ext cx="106678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ет и контроль задолженности потребител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оперативной отчетности по задолжен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едение баланса потребителя с детализацией по платежным документа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долженность потребителе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Rectangle 4"/>
          <p:cNvSpPr/>
          <p:nvPr/>
        </p:nvSpPr>
        <p:spPr>
          <a:xfrm>
            <a:off x="3197160" y="3071880"/>
            <a:ext cx="804240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граничение режима потребления электроэнерги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ведение  и мониторинг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ограничения режима потребл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лектрической энергии в соответствии с действующим законодательств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заданий на запуск, приостановку или отмену ограничения режима потребл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и учет заявок в сетевые компании на услуги по ограничению (возобновлению) поставки электрическ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0" name="Picture 2" descr="&amp;Kcy;&amp;acy;&amp;rcy;&amp;tcy;&amp;icy;&amp;ncy;&amp;kcy;&amp;icy; &amp;pcy;&amp;ocy; &amp;zcy;&amp;acy;&amp;pcy;&amp;rcy;&amp;ocy;&amp;scy;&amp;ucy; &amp;ocy;&amp;gcy;&amp;rcy;&amp;acy;&amp;ncy;&amp;icy;&amp;chcy;&amp;iecy;&amp;ncy;&amp;icy;&amp;iecy; &amp;pcy;&amp;ocy;&amp;tcy;&amp;rcy;&amp;iecy;&amp;bcy;&amp;lcy;&amp;iecy;&amp;ncy;&amp;icy;&amp;yacy; &amp;ecy;&amp;lcy;&amp;iecy;&amp;kcy;&amp;tcy;&amp;rcy;&amp;ocy;&amp;ecy;&amp;ncy;&amp;iecy;&amp;rcy;&amp;gcy;&amp;icy;&amp;i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839880" y="3257640"/>
            <a:ext cx="2171520" cy="21715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35" descr="MoBill-EnergoTrade"/>
          <p:cNvPicPr/>
          <p:nvPr/>
        </p:nvPicPr>
        <p:blipFill>
          <a:blip r:embed="rId2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5C4A-B18B-4F94-BD60-65B8C693826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етензионно-исковая рабо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3260880" y="1857240"/>
            <a:ext cx="82357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списков должников по любым критериям за любой период времени и по любой категории задолженност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учное или автоматическое формирование уведомлений, предупреждений и актов отключений потребителей-неплательщико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можность реструктуризации задолженности потребител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едение графиков погашения задолженности и контроль оплаты по графика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исание дебиторской задолжен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ранение переписки с должник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Picture 4" descr="&amp;Kcy;&amp;acy;&amp;rcy;&amp;tcy;&amp;icy;&amp;ncy;&amp;kcy;&amp;icy; &amp;pcy;&amp;ocy; &amp;zcy;&amp;acy;&amp;pcy;&amp;rcy;&amp;ocy;&amp;scy;&amp;ucy; &amp;pcy;&amp;rcy;&amp;acy;&amp;vcy;&amp;ocy;&amp;scy;&amp;ucy;&amp;dcy;&amp;icy;&amp;ie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831960" y="1857240"/>
            <a:ext cx="2244600" cy="210024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35" descr="MoBill-EnergoTrade"/>
          <p:cNvPicPr/>
          <p:nvPr/>
        </p:nvPicPr>
        <p:blipFill>
          <a:blip r:embed="rId2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6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AE6E-65A4-43D2-BEDD-6404F93059C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623880" y="1773000"/>
            <a:ext cx="10656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тсутствие автоматизации бизнес-процессов ведения договоров с контрагентами и расчета начислен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истематические затраты финансовых и человеческих ресурсов на ручное выполнение рутинных процесс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сокая длительность выполнения расчетов и прочих процедур, которые можно автоматизироват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достаточное качество результата, учитывая наличие человеческого фактора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сокая частота сбоев процессов из-за отсутствия четкой методики выполн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 чем заключается проблема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казчика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35" descr="MoBill-EnergoTrade"/>
          <p:cNvPicPr/>
          <p:nvPr/>
        </p:nvPicPr>
        <p:blipFill>
          <a:blip r:embed="rId1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587" name="TextBox 5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1F05-96F8-4379-B186-E5808BD95BA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четност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2654280" y="1785960"/>
            <a:ext cx="87804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и печать отчетов и документов по одному контрагенту или группе контраген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печатных форм договоров и платежных документов – авансовых счетов, счетов-фактур, актов приема-передачи, интервальных ак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и печать ведомостей потребл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и печать управленческой и статистической отчет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2" name="Picture 2" descr="&amp;Kcy;&amp;acy;&amp;rcy;&amp;tcy;&amp;icy;&amp;ncy;&amp;kcy;&amp;icy; &amp;pcy;&amp;ocy; &amp;zcy;&amp;acy;&amp;pcy;&amp;rcy;&amp;ocy;&amp;scy;&amp;ucy; &amp;ocy;&amp;tcy;&amp;chcy;&amp;iecy;&amp;tcy;&amp;ncy;&amp;ocy;&amp;scy;&amp;tcy;&amp;softcy; &amp;acy;&amp;ncy;&amp;acy;&amp;lcy;&amp;icy;&amp;tcy;&amp;icy;&amp;kcy;&amp;a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839880" y="200016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766800" y="4857840"/>
            <a:ext cx="86583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можность формирования различных отчетных форм с помощью внутреннего инструментария построения отчетных форм –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Конструктора отче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4" name="Picture 6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9425160" y="414324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4" descr="&amp;Kcy;&amp;acy;&amp;rcy;&amp;tcy;&amp;icy;&amp;ncy;&amp;kcy;&amp;icy; &amp;pcy;&amp;ocy; &amp;zcy;&amp;acy;&amp;pcy;&amp;rcy;&amp;ocy;&amp;scy;&amp;ucy; &amp;icy;&amp;ncy;&amp;scy;&amp;tcy;&amp;rcy;&amp;ucy;&amp;mcy;&amp;iecy;&amp;ncy;&amp;tcy; &amp;icy;&amp;kcy;&amp;ocy;&amp;ncy;&amp;kcy;&amp;acy;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9353520" y="50007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35" descr="MoBill-EnergoTrade"/>
          <p:cNvPicPr/>
          <p:nvPr/>
        </p:nvPicPr>
        <p:blipFill>
          <a:blip r:embed="rId4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757" name="TextBox 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6D6D-64B5-4BDC-9036-832F83EA1C4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графическая визуализац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Rectangle 4"/>
          <p:cNvSpPr/>
          <p:nvPr/>
        </p:nvSpPr>
        <p:spPr>
          <a:xfrm>
            <a:off x="4809960" y="1785960"/>
            <a:ext cx="657252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изуализация схемы присоединения точек поставки с наименованиями электроустановок и линий электропередач, как для отдельной точки поставки, так и для территориально-обособленного объекта или всего потребител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графиков и диаграмм по заданным критерия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1" name="Picture 3" descr=""/>
          <p:cNvPicPr/>
          <p:nvPr/>
        </p:nvPicPr>
        <p:blipFill>
          <a:blip r:embed="rId1"/>
          <a:stretch/>
        </p:blipFill>
        <p:spPr>
          <a:xfrm>
            <a:off x="1738440" y="4137120"/>
            <a:ext cx="8643960" cy="198900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4" descr=""/>
          <p:cNvPicPr/>
          <p:nvPr/>
        </p:nvPicPr>
        <p:blipFill>
          <a:blip r:embed="rId2"/>
          <a:stretch/>
        </p:blipFill>
        <p:spPr>
          <a:xfrm>
            <a:off x="9310680" y="3714840"/>
            <a:ext cx="2071800" cy="20494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763" name="AutoShape 6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AutoShape 9"/>
          <p:cNvSpPr/>
          <p:nvPr/>
        </p:nvSpPr>
        <p:spPr>
          <a:xfrm>
            <a:off x="1697040" y="-1790640"/>
            <a:ext cx="37432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5" name="Picture 12" descr=""/>
          <p:cNvPicPr/>
          <p:nvPr/>
        </p:nvPicPr>
        <p:blipFill>
          <a:blip r:embed="rId3"/>
          <a:stretch/>
        </p:blipFill>
        <p:spPr>
          <a:xfrm>
            <a:off x="888840" y="1714680"/>
            <a:ext cx="3706920" cy="27795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35" descr="MoBill-EnergoTrade"/>
          <p:cNvPicPr/>
          <p:nvPr/>
        </p:nvPicPr>
        <p:blipFill>
          <a:blip r:embed="rId4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767" name="TextBox 10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0726-D312-4EA6-82EE-736BAF2FEC2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2690640" y="1785960"/>
            <a:ext cx="8877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здание для потребителя </a:t>
            </a:r>
            <a:r>
              <a:rPr b="0" lang="ru-RU" sz="1600" spc="-1" strike="noStrike">
                <a:solidFill>
                  <a:srgbClr val="cc0000"/>
                </a:solidFill>
                <a:latin typeface="Verdana"/>
              </a:rPr>
              <a:t>Личного кабинет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сайте Заказчи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торизация потребителя в личном кабинет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можность внесения потребителем в личном кабинете показаний приборов уче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AutoShape 6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Rectangle 4"/>
          <p:cNvSpPr/>
          <p:nvPr/>
        </p:nvSpPr>
        <p:spPr>
          <a:xfrm>
            <a:off x="905040" y="3571920"/>
            <a:ext cx="1066320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ет даты и времени посещения потребителем личного кабинета, внесения данных, формирования отче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верка данных, занесенных потребителем через личный кабинет, в режиме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ратная связь через личный кабин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можность просмотра и сохранения потребителем из личного кабинета актов, счетов и счетов-факту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2" name="Picture 2" descr="&amp;Kcy;&amp;acy;&amp;rcy;&amp;tcy;&amp;icy;&amp;ncy;&amp;kcy;&amp;icy; &amp;pcy;&amp;ocy; &amp;zcy;&amp;acy;&amp;pcy;&amp;rcy;&amp;ocy;&amp;scy;&amp;ucy; &amp;lcy;&amp;icy;&amp;chcy;&amp;ncy;&amp;ycy;&amp;jcy; &amp;kcy;&amp;acy;&amp;bcy;&amp;icy;&amp;ncy;&amp;iecy;&amp;t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905040" y="1857240"/>
            <a:ext cx="1500120" cy="150048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" descr="&amp;Kcy;&amp;acy;&amp;rcy;&amp;tcy;&amp;icy;&amp;ncy;&amp;kcy;&amp;icy; &amp;pcy;&amp;ocy; &amp;zcy;&amp;acy;&amp;pcy;&amp;rcy;&amp;ocy;&amp;scy;&amp;ucy; &amp;scy;&amp;acy;&amp;jcy;&amp;tcy; &amp;icy;&amp;kcy;&amp;ocy;&amp;ncy;&amp;kcy;&amp;acy;"/>
          <p:cNvPicPr/>
          <p:nvPr/>
        </p:nvPicPr>
        <p:blipFill>
          <a:blip r:embed="rId2"/>
          <a:stretch/>
        </p:blipFill>
        <p:spPr>
          <a:xfrm>
            <a:off x="1755720" y="263988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35" descr="MoBill-EnergoTrade"/>
          <p:cNvPicPr/>
          <p:nvPr/>
        </p:nvPicPr>
        <p:blipFill>
          <a:blip r:embed="rId3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нтеграция с сайтом Заказч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TextBox 12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DCEC-E74F-4E57-AA5B-782E114C6CC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риптозащита СУБ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Rectangle 27"/>
          <p:cNvSpPr/>
          <p:nvPr/>
        </p:nvSpPr>
        <p:spPr>
          <a:xfrm>
            <a:off x="809640" y="2510280"/>
            <a:ext cx="105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УБД Caché® от компани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Systems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сертифицировано в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СТЭК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Сертификат №325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Caché® сертифицировано на высокие уровни защищенности в соответствии требованиям безопасности информации, установленные РД Гостехкомиссии РФ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класс защищенн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«Средства вычислительной техники. Защита от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санкционированного доступа к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Показатели защищенности от несанкционированного доступа к информации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 уровень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«Защита от несанкционированного доступа к информации. Часть 1. Программное обеспечение средств защиты информации. Классификаци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 уровню контроля отсутствия недекларированных возможност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0" name="Picture 11" descr="&amp;Kcy;&amp;acy;&amp;rcy;&amp;tcy;&amp;icy;&amp;ncy;&amp;kcy;&amp;icy; &amp;pcy;&amp;ocy; &amp;zcy;&amp;acy;&amp;pcy;&amp;rcy;&amp;ocy;&amp;scy;&amp;ucy; &amp;zcy;&amp;acy;&amp;shchcy;&amp;icy;&amp;tcy;&amp;a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10024920" y="142920"/>
            <a:ext cx="1357560" cy="1357200"/>
          </a:xfrm>
          <a:prstGeom prst="rect">
            <a:avLst/>
          </a:prstGeom>
          <a:ln w="0">
            <a:noFill/>
          </a:ln>
        </p:spPr>
      </p:pic>
      <p:sp>
        <p:nvSpPr>
          <p:cNvPr id="781" name="TextBox 5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5E16-54B2-46D6-B3E8-F0D38674A28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3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sp>
        <p:nvSpPr>
          <p:cNvPr id="784" name="Text Box 6"/>
          <p:cNvSpPr/>
          <p:nvPr/>
        </p:nvSpPr>
        <p:spPr>
          <a:xfrm>
            <a:off x="2905200" y="3643200"/>
            <a:ext cx="65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мпания «Мобилл плюс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оссия, Уфа, улица Менделеева, 13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Text Box 7"/>
          <p:cNvSpPr/>
          <p:nvPr/>
        </p:nvSpPr>
        <p:spPr>
          <a:xfrm>
            <a:off x="2952720" y="471492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фак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47) 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56-66-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6611760" y="468936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ww.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bill@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Rectangle 4"/>
          <p:cNvSpPr/>
          <p:nvPr/>
        </p:nvSpPr>
        <p:spPr>
          <a:xfrm>
            <a:off x="809640" y="71280"/>
            <a:ext cx="5870520" cy="16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400" spc="-1" strike="noStrike">
                <a:solidFill>
                  <a:srgbClr val="333333"/>
                </a:solidFill>
                <a:latin typeface="Microsoft New Tai Lue"/>
              </a:rPr>
              <a:t>Bill – </a:t>
            </a:r>
            <a:r>
              <a:rPr b="0" lang="en-US" sz="4000" spc="-1" strike="noStrike">
                <a:solidFill>
                  <a:srgbClr val="333333"/>
                </a:solidFill>
                <a:latin typeface="Microsoft New Tai Lue"/>
              </a:rPr>
              <a:t>Energo</a:t>
            </a:r>
            <a:r>
              <a:rPr b="0" lang="en-US" sz="4000" spc="-1" strike="noStrike">
                <a:solidFill>
                  <a:srgbClr val="336699"/>
                </a:solidFill>
                <a:latin typeface="Microsoft New Tai Lue"/>
              </a:rPr>
              <a:t>Trade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000"/>
            </a:br>
            <a:r>
              <a:rPr b="0" lang="ru-RU" sz="2800" spc="-1" strike="noStrike">
                <a:solidFill>
                  <a:srgbClr val="333333"/>
                </a:solidFill>
                <a:latin typeface="Microsoft Sans Serif"/>
              </a:rPr>
              <a:t>Расчет энергосбытовых услуг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8" name="Picture 9" descr="Logo2"/>
          <p:cNvPicPr/>
          <p:nvPr/>
        </p:nvPicPr>
        <p:blipFill>
          <a:blip r:embed="rId3"/>
          <a:stretch/>
        </p:blipFill>
        <p:spPr>
          <a:xfrm>
            <a:off x="4272120" y="1928880"/>
            <a:ext cx="3609720" cy="1542960"/>
          </a:xfrm>
          <a:prstGeom prst="rect">
            <a:avLst/>
          </a:prstGeom>
          <a:ln w="0">
            <a:noFill/>
          </a:ln>
        </p:spPr>
      </p:pic>
      <p:sp>
        <p:nvSpPr>
          <p:cNvPr id="789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AA25-8B91-4906-895D-86B9FF8C360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1919160" y="1773000"/>
            <a:ext cx="8064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едлагаемое реш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793800" y="1773360"/>
            <a:ext cx="1064088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недрени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единой информацион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сбора и обработки информац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Energo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полнофункциональный инструмент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зволяющий 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втоматизировать весь цикл работ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с потребителями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спечивающий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ормирование отчетност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для анализа деятельности, оперативного и долгосрочного планирования и принятия управленческих решений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7"/>
          <p:cNvSpPr/>
          <p:nvPr/>
        </p:nvSpPr>
        <p:spPr>
          <a:xfrm>
            <a:off x="4742640" y="3121200"/>
            <a:ext cx="276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Расчет энергосбытовых услу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3" name="Picture 35" descr="MoBill-EnergoTrade"/>
          <p:cNvPicPr/>
          <p:nvPr/>
        </p:nvPicPr>
        <p:blipFill>
          <a:blip r:embed="rId1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594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9149-2ACA-4EE4-8C45-60D36907712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ч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695160" y="1773360"/>
            <a:ext cx="84726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 «Мобилл плюс»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изируется на разработке универсальных программных систем и их внедрении в различных отраслях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работаем на рынк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1997 г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Прямоугольник 11"/>
          <p:cNvSpPr/>
          <p:nvPr/>
        </p:nvSpPr>
        <p:spPr>
          <a:xfrm>
            <a:off x="727200" y="4389480"/>
            <a:ext cx="851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применяем в своих разработках программное обеспечение СУБД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System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Caché, которое обеспечивает высокую скорость обработки данных и высокую степень защищенности информации. Эта СУБД сертифицирована в соответствии с требованиями безопасности информации, установленным руководящими документами ФСТЭК Росс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http://www.intersystems.com/assets/intersystems-logo.png"/>
          <p:cNvPicPr/>
          <p:nvPr/>
        </p:nvPicPr>
        <p:blipFill>
          <a:blip r:embed="rId1"/>
          <a:stretch/>
        </p:blipFill>
        <p:spPr>
          <a:xfrm>
            <a:off x="9596520" y="4000680"/>
            <a:ext cx="1942920" cy="495000"/>
          </a:xfrm>
          <a:prstGeom prst="rect">
            <a:avLst/>
          </a:prstGeom>
          <a:ln w="0">
            <a:noFill/>
          </a:ln>
        </p:spPr>
      </p:pic>
      <p:sp>
        <p:nvSpPr>
          <p:cNvPr id="600" name="TextBox 14"/>
          <p:cNvSpPr/>
          <p:nvPr/>
        </p:nvSpPr>
        <p:spPr>
          <a:xfrm>
            <a:off x="738360" y="3487680"/>
            <a:ext cx="57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знайте о нас больше: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www.mobill.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1" name="Picture 35" descr="MoBill-EnergoTrade"/>
          <p:cNvPicPr/>
          <p:nvPr/>
        </p:nvPicPr>
        <p:blipFill>
          <a:blip r:embed="rId2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6" descr="C:\Users\denis\Pictures\fstek.png"/>
          <p:cNvPicPr/>
          <p:nvPr/>
        </p:nvPicPr>
        <p:blipFill>
          <a:blip r:embed="rId3"/>
          <a:stretch/>
        </p:blipFill>
        <p:spPr>
          <a:xfrm>
            <a:off x="10024920" y="471492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1" descr="C:\Users\denis\Pictures\20-let-raboty.png"/>
          <p:cNvPicPr/>
          <p:nvPr/>
        </p:nvPicPr>
        <p:blipFill>
          <a:blip r:embed="rId4"/>
          <a:stretch/>
        </p:blipFill>
        <p:spPr>
          <a:xfrm>
            <a:off x="9667800" y="185724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9" descr="Logo2"/>
          <p:cNvPicPr/>
          <p:nvPr/>
        </p:nvPicPr>
        <p:blipFill>
          <a:blip r:embed="rId5"/>
          <a:stretch/>
        </p:blipFill>
        <p:spPr>
          <a:xfrm>
            <a:off x="9656640" y="7714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605" name="TextBox 13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6" name=""/>
          <p:cNvGraphicFramePr/>
          <p:nvPr/>
        </p:nvGraphicFramePr>
        <p:xfrm>
          <a:off x="839880" y="2714760"/>
          <a:ext cx="10539360" cy="857160"/>
        </p:xfrm>
        <a:graphic>
          <a:graphicData uri="http://schemas.openxmlformats.org/drawingml/2006/table">
            <a:tbl>
              <a:tblPr/>
              <a:tblGrid>
                <a:gridCol w="3477960"/>
                <a:gridCol w="360360"/>
                <a:gridCol w="2862360"/>
                <a:gridCol w="360360"/>
                <a:gridCol w="3478320"/>
              </a:tblGrid>
              <a:tr h="8571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ысокие оценки клиентов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недрение ПО под индивидуальные требования Заказчи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Постгарантийное сопровождение ПО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Моментальная техническая поддерж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Быстродействие СУБД. Низкие требования к аппаратным ресурс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7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D2C5-7E6F-417A-9A2B-3F53396D4C2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ч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66440" y="3928680"/>
            <a:ext cx="106678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рамках реализуемых проектов мы осуществляем полный комплекс работ и услу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проектный анализ требований и бизнес-процессов Заказчи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даленное проведение презентаций и конференций предлагаемых ре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вместную разработку технического за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работку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готовку персонала Заказчи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рвисное гарантийное и постгарантийное обслужив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0" name="Picture 5" descr="&amp;Kcy;&amp;acy;&amp;rcy;&amp;tcy;&amp;icy;&amp;ncy;&amp;kcy;&amp;icy; &amp;pcy;&amp;ocy; &amp;zcy;&amp;acy;&amp;pcy;&amp;rcy;&amp;ocy;&amp;scy;&amp;ucy; &amp;kcy;&amp;acy;&amp;chcy;&amp;iecy;&amp;scy;&amp;tcy;&amp;vcy;&amp;o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1865160" y="1843200"/>
            <a:ext cx="1197000" cy="10857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7" descr="&amp;Kcy;&amp;acy;&amp;rcy;&amp;tcy;&amp;icy;&amp;ncy;&amp;kcy;&amp;icy; &amp;pcy;&amp;ocy; &amp;zcy;&amp;acy;&amp;pcy;&amp;rcy;&amp;ocy;&amp;scy;&amp;ucy; &amp;shchcy;&amp;icy;&amp;tcy; &amp;icy;&amp;kcy;&amp;ocy;&amp;ncy;&amp;kcy;&amp;acy;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5661000" y="2000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9" descr="&amp;Kcy;&amp;acy;&amp;rcy;&amp;tcy;&amp;icy;&amp;ncy;&amp;kcy;&amp;icy; &amp;pcy;&amp;ocy; &amp;zcy;&amp;acy;&amp;pcy;&amp;rcy;&amp;ocy;&amp;scy;&amp;ucy; &amp;scy;&amp;kcy;&amp;ocy;&amp;rcy;&amp;ocy;&amp;scy;&amp;tcy;&amp;softcy; &amp;icy;&amp;kcy;&amp;ocy;&amp;ncy;&amp;kcy;&amp;acy;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8924760" y="192888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613" name="TextBox 18"/>
          <p:cNvSpPr/>
          <p:nvPr/>
        </p:nvSpPr>
        <p:spPr>
          <a:xfrm>
            <a:off x="1881360" y="16430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TextBox 19"/>
          <p:cNvSpPr/>
          <p:nvPr/>
        </p:nvSpPr>
        <p:spPr>
          <a:xfrm>
            <a:off x="5265720" y="16430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TextBox 20"/>
          <p:cNvSpPr/>
          <p:nvPr/>
        </p:nvSpPr>
        <p:spPr>
          <a:xfrm>
            <a:off x="8550000" y="164304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ыстро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6" name="Picture 35" descr="MoBill-EnergoTrade"/>
          <p:cNvPicPr/>
          <p:nvPr/>
        </p:nvPicPr>
        <p:blipFill>
          <a:blip r:embed="rId4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9" descr="Logo2"/>
          <p:cNvPicPr/>
          <p:nvPr/>
        </p:nvPicPr>
        <p:blipFill>
          <a:blip r:embed="rId5"/>
          <a:stretch/>
        </p:blipFill>
        <p:spPr>
          <a:xfrm>
            <a:off x="9656640" y="7714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618" name="TextBox 15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7546-66FA-4359-BC72-415BF67C413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766440" y="1844280"/>
            <a:ext cx="10667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стема расчетов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ill–Energo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Trad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едназначена для автоматизации процесса энергосбытовой деятельност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я и сопровождения договоров с потребителям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та электроэнергии и мощност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четов за электроэнергию и услуги с потребителями и поставщикам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нижения временных затрат на рутинные операци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еративной обработке информации о потребителях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и управленческой и статистической отчет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значение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AutoShape 7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AutoShape 9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AutoShape 11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13" descr="&amp;Kcy;&amp;acy;&amp;rcy;&amp;tcy;&amp;icy;&amp;ncy;&amp;kcy;&amp;icy; &amp;pcy;&amp;ocy; &amp;zcy;&amp;acy;&amp;pcy;&amp;rcy;&amp;ocy;&amp;scy;&amp;ucy; &amp;vcy;&amp;rcy;&amp;iecy;&amp;mcy;&amp;yacy; &amp;ucy;&amp;scy;&amp;kcy;&amp;ocy;&amp;rcy;&amp;iecy;&amp;ncy;&amp;icy;&amp;ie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901800" y="4381560"/>
            <a:ext cx="288720" cy="2872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5" descr="&amp;Kcy;&amp;acy;&amp;rcy;&amp;tcy;&amp;icy;&amp;ncy;&amp;kcy;&amp;icy; &amp;pcy;&amp;ocy; &amp;zcy;&amp;acy;&amp;pcy;&amp;rcy;&amp;ocy;&amp;scy;&amp;ucy; &amp;dcy;&amp;ocy;&amp;gcy;&amp;ocy;&amp;vcy;&amp;ocy;&amp;rcy; &amp;icy;&amp;kcy;&amp;ocy;&amp;ncy;&amp;kcy;&amp;acy;"/>
          <p:cNvPicPr/>
          <p:nvPr/>
        </p:nvPicPr>
        <p:blipFill>
          <a:blip r:embed="rId2"/>
          <a:stretch/>
        </p:blipFill>
        <p:spPr>
          <a:xfrm>
            <a:off x="847800" y="2928960"/>
            <a:ext cx="426960" cy="425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7" descr="&amp;Kcy;&amp;acy;&amp;rcy;&amp;tcy;&amp;icy;&amp;ncy;&amp;kcy;&amp;icy; &amp;pcy;&amp;ocy; &amp;zcy;&amp;acy;&amp;pcy;&amp;rcy;&amp;ocy;&amp;scy;&amp;ucy; &amp;ecy;&amp;lcy;&amp;iecy;&amp;kcy;&amp;tcy;&amp;rcy;&amp;ocy;&amp;ecy;&amp;ncy;&amp;iecy;&amp;rcy;&amp;gcy;&amp;icy;&amp;yacy; &amp;icy;&amp;kcy;&amp;ocy;&amp;ncy;&amp;kcy;&amp;acy;"/>
          <p:cNvPicPr/>
          <p:nvPr/>
        </p:nvPicPr>
        <p:blipFill>
          <a:blip r:embed="rId3"/>
          <a:stretch/>
        </p:blipFill>
        <p:spPr>
          <a:xfrm>
            <a:off x="866880" y="34257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9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839880" y="3859200"/>
            <a:ext cx="409320" cy="409680"/>
          </a:xfrm>
          <a:prstGeom prst="rect">
            <a:avLst/>
          </a:prstGeom>
          <a:ln w="0">
            <a:noFill/>
          </a:ln>
        </p:spPr>
      </p:pic>
      <p:sp>
        <p:nvSpPr>
          <p:cNvPr id="629" name="AutoShape 21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AutoShape 23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AutoShape 25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2" name="Picture 27" descr="&amp;Kcy;&amp;acy;&amp;rcy;&amp;tcy;&amp;icy;&amp;ncy;&amp;kcy;&amp;icy; &amp;pcy;&amp;ocy; &amp;zcy;&amp;acy;&amp;pcy;&amp;rcy;&amp;ocy;&amp;scy;&amp;ucy; &amp;icy;&amp;ncy;&amp;fcy;&amp;ocy;&amp;rcy;&amp;mcy;&amp;acy;&amp;tscy;&amp;icy;&amp;icy; &amp;icy;&amp;kcy;&amp;ocy;&amp;ncy;&amp;kcy;&amp;acy;"/>
          <p:cNvPicPr/>
          <p:nvPr/>
        </p:nvPicPr>
        <p:blipFill>
          <a:blip r:embed="rId5"/>
          <a:stretch/>
        </p:blipFill>
        <p:spPr>
          <a:xfrm>
            <a:off x="882720" y="4871880"/>
            <a:ext cx="338040" cy="3384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9" descr="&amp;Kcy;&amp;acy;&amp;rcy;&amp;tcy;&amp;icy;&amp;ncy;&amp;kcy;&amp;icy; &amp;pcy;&amp;ocy; &amp;zcy;&amp;acy;&amp;pcy;&amp;rcy;&amp;ocy;&amp;scy;&amp;ucy; &amp;ocy;&amp;tcy;&amp;chcy;&amp;iecy;&amp;tcy; &amp;icy;&amp;kcy;&amp;ocy;&amp;ncy;&amp;kcy;&amp;acy;"/>
          <p:cNvPicPr/>
          <p:nvPr/>
        </p:nvPicPr>
        <p:blipFill>
          <a:blip r:embed="rId6"/>
          <a:stretch/>
        </p:blipFill>
        <p:spPr>
          <a:xfrm>
            <a:off x="901800" y="5327640"/>
            <a:ext cx="323640" cy="324000"/>
          </a:xfrm>
          <a:prstGeom prst="rect">
            <a:avLst/>
          </a:prstGeom>
          <a:ln w="0">
            <a:noFill/>
          </a:ln>
        </p:spPr>
      </p:pic>
      <p:sp>
        <p:nvSpPr>
          <p:cNvPr id="634" name="AutoShape 31"/>
          <p:cNvSpPr/>
          <p:nvPr/>
        </p:nvSpPr>
        <p:spPr>
          <a:xfrm>
            <a:off x="1697040" y="-91440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AutoShape 33"/>
          <p:cNvSpPr/>
          <p:nvPr/>
        </p:nvSpPr>
        <p:spPr>
          <a:xfrm>
            <a:off x="1697040" y="-91440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6" name="Picture 35" descr="MoBill-EnergoTrade"/>
          <p:cNvPicPr/>
          <p:nvPr/>
        </p:nvPicPr>
        <p:blipFill>
          <a:blip r:embed="rId7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637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847A-A4C8-48F3-95ED-4E8D67D88A6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838080" y="1714680"/>
            <a:ext cx="57578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ет контрагентов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требителей – юридических ли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ставщиков и производителей электроэнерг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етевых организац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0" name="Picture 11" descr="http://www.eskzgroup.ru/upload/medialibrary/33a/33a2f94402b4a50324fbe8a341848534.png"/>
          <p:cNvPicPr/>
          <p:nvPr/>
        </p:nvPicPr>
        <p:blipFill>
          <a:blip r:embed="rId1"/>
          <a:srcRect l="22781" t="15661" r="23231" b="9219"/>
          <a:stretch/>
        </p:blipFill>
        <p:spPr>
          <a:xfrm>
            <a:off x="6738840" y="1531800"/>
            <a:ext cx="4757760" cy="468324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4"/>
          <p:cNvSpPr/>
          <p:nvPr/>
        </p:nvSpPr>
        <p:spPr>
          <a:xfrm>
            <a:off x="838080" y="3643200"/>
            <a:ext cx="619452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бота с договорам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нергоснабж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пли-продажи электроэнергии и мощ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казания услуг по передаче электрической энерг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пли-продажи электрической энергии в целях компенсации потер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нтрагенты и договор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3" name="Picture 35" descr="MoBill-EnergoTrade"/>
          <p:cNvPicPr/>
          <p:nvPr/>
        </p:nvPicPr>
        <p:blipFill>
          <a:blip r:embed="rId2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644" name="TextBox 7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8107-2159-492B-967D-A5E852E0E79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Rectangle 14"/>
          <p:cNvSpPr/>
          <p:nvPr/>
        </p:nvSpPr>
        <p:spPr>
          <a:xfrm>
            <a:off x="790560" y="1643040"/>
            <a:ext cx="847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та в системе осуществляется с помощь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туитивно понятного </a:t>
            </a:r>
            <a:r>
              <a:rPr b="0" lang="ru-RU" sz="1800" spc="-1" strike="noStrike">
                <a:solidFill>
                  <a:srgbClr val="ff3c3c"/>
                </a:solidFill>
                <a:latin typeface="Verdana"/>
              </a:rPr>
              <a:t>веб-интерфейс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чие места – это веб-страницы, доступны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 всех популярных браузер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7" name="Picture 16" descr="D:\WORKS\MoBill-EnergoTrade\Doc\Документация\Новое\Картинки оригиналы\клиенты 2.png"/>
          <p:cNvPicPr/>
          <p:nvPr/>
        </p:nvPicPr>
        <p:blipFill>
          <a:blip r:embed="rId1"/>
          <a:stretch/>
        </p:blipFill>
        <p:spPr>
          <a:xfrm>
            <a:off x="7640640" y="3263760"/>
            <a:ext cx="4000320" cy="2880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8" descr="&amp;Kcy;&amp;acy;&amp;rcy;&amp;tcy;&amp;icy;&amp;ncy;&amp;kcy;&amp;icy; &amp;pcy;&amp;ocy; &amp;zcy;&amp;acy;&amp;pcy;&amp;rcy;&amp;ocy;&amp;scy;&amp;ucy; &amp;ocy;&amp;scy;&amp;ncy;&amp;ocy;&amp;vcy;&amp;ncy;&amp;ycy;&amp;iecy; &amp;bcy;&amp;rcy;&amp;acy;&amp;ucy;&amp;zcy;&amp;iecy;&amp;rcy;&amp;ycy;"/>
          <p:cNvPicPr/>
          <p:nvPr/>
        </p:nvPicPr>
        <p:blipFill>
          <a:blip r:embed="rId2"/>
          <a:srcRect l="9149" t="0" r="57927" b="0"/>
          <a:stretch/>
        </p:blipFill>
        <p:spPr>
          <a:xfrm>
            <a:off x="8458200" y="1571760"/>
            <a:ext cx="2066760" cy="8571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8" descr="&amp;Kcy;&amp;acy;&amp;rcy;&amp;tcy;&amp;icy;&amp;ncy;&amp;kcy;&amp;icy; &amp;pcy;&amp;ocy; &amp;zcy;&amp;acy;&amp;pcy;&amp;rcy;&amp;ocy;&amp;scy;&amp;ucy; &amp;ocy;&amp;scy;&amp;ncy;&amp;ocy;&amp;vcy;&amp;ncy;&amp;ycy;&amp;iecy; &amp;bcy;&amp;rcy;&amp;acy;&amp;ucy;&amp;zcy;&amp;iecy;&amp;rcy;&amp;ycy;"/>
          <p:cNvPicPr/>
          <p:nvPr/>
        </p:nvPicPr>
        <p:blipFill>
          <a:blip r:embed="rId3"/>
          <a:srcRect l="41159" t="0" r="24089" b="0"/>
          <a:stretch/>
        </p:blipFill>
        <p:spPr>
          <a:xfrm>
            <a:off x="8453520" y="2428920"/>
            <a:ext cx="1987560" cy="7808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0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938160" y="3560760"/>
            <a:ext cx="1231920" cy="123048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14"/>
          <p:cNvSpPr/>
          <p:nvPr/>
        </p:nvSpPr>
        <p:spPr>
          <a:xfrm>
            <a:off x="2208240" y="3565440"/>
            <a:ext cx="5432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трагенты, договоры, точки поставки и другие объекты описываются в собственных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карточках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в виде привычных окон: открыл – изменил – сохрани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Прямоугольник 20"/>
          <p:cNvSpPr/>
          <p:nvPr/>
        </p:nvSpPr>
        <p:spPr>
          <a:xfrm>
            <a:off x="2208240" y="5300640"/>
            <a:ext cx="543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ранение и изменение всех необходимых реквизитов с историей измен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нтерфей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4" name="Picture 2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915840" y="5000760"/>
            <a:ext cx="1214640" cy="1214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35" descr="MoBill-EnergoTrade"/>
          <p:cNvPicPr/>
          <p:nvPr/>
        </p:nvPicPr>
        <p:blipFill>
          <a:blip r:embed="rId6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656" name="TextBox 12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1D0C-48F6-443F-95FC-B9E2FC2675E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5976720" y="1714680"/>
            <a:ext cx="604836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ет сложных схем подключе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ногоуровневые связи потребителей и </a:t>
            </a:r>
            <a:r>
              <a:rPr b="0" lang="ru-RU" sz="1800" spc="-1" strike="noStrike">
                <a:solidFill>
                  <a:srgbClr val="ff3c3c"/>
                </a:solidFill>
                <a:latin typeface="Verdana"/>
              </a:rPr>
              <a:t>субпотребител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электроэнерг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вязка потребителей к поставщикам и сетевым компания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очки постав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очки у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боры учета (счетчики, трансформаторы тока и напряжения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9" name="Picture 11" descr="http://ok-t.ru/studopedia/baza13/264447180228.files/image104.gif"/>
          <p:cNvPicPr/>
          <p:nvPr/>
        </p:nvPicPr>
        <p:blipFill>
          <a:blip r:embed="rId1">
            <a:lum contrast="90000"/>
          </a:blip>
          <a:stretch/>
        </p:blipFill>
        <p:spPr>
          <a:xfrm>
            <a:off x="623880" y="1643040"/>
            <a:ext cx="5410080" cy="350064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4"/>
          <p:cNvSpPr/>
          <p:nvPr/>
        </p:nvSpPr>
        <p:spPr>
          <a:xfrm>
            <a:off x="695160" y="5072040"/>
            <a:ext cx="7543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ж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ет установки и снятия приборов учета (акты замены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ниторинг поверки приборов учета и уведомление пользователей о срока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хема подключ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2" name="Picture 35" descr="MoBill-EnergoTrade"/>
          <p:cNvPicPr/>
          <p:nvPr/>
        </p:nvPicPr>
        <p:blipFill>
          <a:blip r:embed="rId2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663" name="TextBox 7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8:12:36Z</dcterms:created>
  <dc:creator>ООО "Мобилл плюс"</dc:creator>
  <dc:description/>
  <dc:language>en-US</dc:language>
  <cp:lastModifiedBy>Андрей</cp:lastModifiedBy>
  <dcterms:modified xsi:type="dcterms:W3CDTF">2017-04-03T10:43:08Z</dcterms:modified>
  <cp:revision>341</cp:revision>
  <dc:subject>MoBill-EnergoTrade Расчет энергосбытовых услуг</dc:subject>
  <dc:title>Презентация</dc:title>
</cp:coreProperties>
</file>