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16.wmf" ContentType="image/x-wmf"/>
  <Override PartName="/ppt/media/image13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8.png" ContentType="image/png"/>
  <Override PartName="/ppt/media/image38.png" ContentType="image/png"/>
  <Override PartName="/ppt/media/image39.png" ContentType="image/png"/>
  <Override PartName="/ppt/media/image9.png" ContentType="image/png"/>
  <Override PartName="/ppt/media/image17.wmf" ContentType="image/x-wmf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0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A44A-063B-448B-91C4-40B75FD0DE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F18E-7B9A-49C7-914B-03B07F7717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8837-951E-4ED8-84EF-1BB1571C63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ент-серверная 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ованный сервер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 с внешними системами (бухгалтерский учет, документооборот, системы управления предприятия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20B0-6F55-4EDF-B673-8BD1496C7A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FB4D-6FC8-41CE-88D6-F76A8C4A0F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ABC8-1EBD-49B1-82A8-B315B31D3E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D256-6BF8-4CC5-BBAE-7F48B88C1F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0973-90F9-40E7-AC1D-FE1460A247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EDD3-1A12-4983-8F08-F62DE418C6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2BA1-3880-4099-BA75-29938B7816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CF39-AB4D-4937-81DA-8CAC6AFB2A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C868-906D-443D-A991-DA04156372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DE3C-F28F-40E6-AD7C-4A694D1DC7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904A-4912-4787-9EEF-21C06EB4B1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C65C-CE55-4D05-8A5A-EEF49C8F50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FADE-AFED-4E50-BCC1-F4FEC2EC78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A83B-D8D6-4B7E-A2ED-54DD5D4EA7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DD1F-3706-455E-92D5-C96A6FBB15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C503-D9B0-44B2-AD52-BCB88A8B9D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3B15-EBBA-4EBE-A43A-10153B7102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4821-6C1A-4FE3-9555-028C0ACDF9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ллинг – сертифицированны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взаиморасчетов согласно Правил применения АСР (приказ Министерства информационных технологий и связи РФ №73 от 02.07.2007). Сертификат соответ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Д – Сертификат ФСТЭК 3257 по 4-му уровню контроля от недекларированных возможностей и 1-му классу защищенности от несанкционированного доступа, что обеспечивает возможность учета персональных данных 2-го класса ИСПДн (информационных систем персональных данны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нзия на телематические услуги связ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Р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провождается Мобилл плюс, а это знач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евременное обслуж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ое обслуж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заказных моду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СУБ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Des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беспечивает жесткий контроль на всех уровнях – руководство, начальники отделов, исполн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9DDD-8CC9-4E45-B363-C3DD2DBF8C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BA72-731F-421E-8C84-0720FFAABF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A2B2-1A73-4727-B47E-D2DCC08EF3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3496-3F9C-421A-9C8B-B342751868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FF21-634E-4DC2-A042-AEDA4D4E57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ллинг – конвергентны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местной, внутризоновой, междугородной и международной телефонной связ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ных сетей связ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подвижной радио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связи по предоставлению каналов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связи по передаче данных (в том числе для целей передачи голосовой ин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матические услуги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связи для целей кабельного вещания, эфирного вещания, проводного радиовещ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не только за услуги связи, но и периодические и разовые услуги сопутствующих отраслей – услуг ЖКХ, услуг охранных и пожарных компаний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29AC-B53A-495A-A705-C94BDBD045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Р MoBill позволяет не только автоматизировать работу оператора, но и получить экономическую выгоду за сче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я расходов и трудозатрат на обслуживание системы и автоматизации рутинны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го контроля счетов выставляемых поставщикам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я расходов на серверное и клиентское оборудование за счет используемой СУБД «Cache» фирмы Inter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яет предотвратить необоснованные плате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F44C-C407-497B-A077-D50BB1C50F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ллинг – конфигурируемы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резе начислений можно вести раздельный или объединенный учет по видам услуг по лицевым сче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ьный учет может относится даже к разным предприятиям связи. (Телефонию предоставляет одно предприятие, Интернет друг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ллинг – кредитно-авансовы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сления в начале месяца и в конц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задолженности по текущему состоянию и по состоянию за отчет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ческое блокирование доступа к услугам при задолж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03F8-E069-4607-87E6-24C3FC1B83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ент-серверная 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ованный сервер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 с внешними системами (бухгалтерский учет, документооборот, системы управления предприятия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100-4BC3-4406-BB2C-1CD3FBA2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1EE8-029B-44CC-A112-61424CB3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4A4E0-E68C-4E2A-8EB4-EFDA8E31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E80E5-4B34-465F-8E06-4E5B4DEB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10E6B-4BB2-4959-AF57-C00D801D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5C046-48E1-42E1-9577-FB32E58D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D5C34-1C01-4E80-B863-EF144398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D30AF-F322-4123-A48F-62AF66AF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E336D-E0B6-47BC-A267-8C91973C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C2DE9-98BF-4629-85B8-B41D1320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B5F94-2998-4E81-B51D-C34A4B01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FC791-24C6-47DB-AEF0-28987BA1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034-491F-4D00-9EE2-37A1CB72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1500C-BF68-42E3-8EEA-9665BEFB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F25CC-FAF3-42AB-91EB-4BEB8A52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E5A55-F99C-44F9-9D9E-A50022FE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AE7B9-0A56-4378-ACD5-AE8EE629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C123D-CE7E-4C3C-BF77-8EF0C18B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74AE2-3B2A-41C9-9091-5D1ACC52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4E8D6-BFFC-4123-95CC-0D712A27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08262-E0F9-4641-822F-3893C09B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7C923-CC9B-4D3F-B7AC-67A2F5F3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6AC33-AE16-488E-909F-57DDC08A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8E2-AF77-4EA0-BF1F-9EAA3609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B6582-9BAC-4DC2-AD47-9FD25FC3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47099-EB17-4E6B-8942-57CCE60B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25705-D45F-404B-B9F4-D0BAC33D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DF40B-EA71-4177-9A91-AC275A12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4E5FA-EDFF-4DA8-85C5-46F7B6B9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BC535-2DB6-48ED-8806-F099C9B8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48D5E-4B02-4902-BB17-96EB56A1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D13C1-83E3-4DB7-A758-D3E26C04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75808-87F6-49B0-9EA3-78F8C1E8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40BE7-108B-42CA-8D20-0E3925E7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8304-0954-4138-A01D-37A67CD3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D5A65-4CAB-48EC-BDAF-FC5BBD45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23C2C-EC6D-49BB-81CF-A1F75064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394BC-71ED-4FAD-9D3D-F28791B3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3C94E-B31E-4066-A2E9-3E4D34BF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71159-E222-425B-8B33-FAC5462F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27939-E7F4-4317-9154-0B92C82A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D18D9-1936-48C3-8E84-1F7362DF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D589A-5C26-43BA-A980-A1A1B1D2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0C6DC-146A-4F0E-BD2A-2940CCF5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583AE-3852-4DAB-A242-19C80569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D183-9F83-47F8-AFC3-A929723E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8187A-06BB-40A8-9121-6B3D0066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6DCE4-E3E0-4217-8B18-3C1FB8D0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6C4D0-3F6B-4CB9-AE6C-6D774ED0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C817F-1705-4A39-8586-B7FD3F40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A510F-8E9E-4419-BD28-C92C613C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931296-5329-4AF8-9729-5C63BDC0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AD64A3-D767-43DB-94FB-54B7A6F5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B4CB9-B06E-496A-BF35-7C3D94E6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18909-E762-482A-8805-F5411314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099E4-E3AE-4255-B27A-EFE5DC22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8ACC-EBE1-4B98-AE5E-F94E434F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792C7-EC39-41C4-8DBE-6E733B9B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BD552E-CD60-4873-8E39-6297D0D4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9C925-B859-48C4-BA1F-E70EE787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00D19-B6B5-41C3-AD8E-8C60F49B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78306-B43E-49F8-8B6F-F77B2912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C6085-1193-4AAA-99E8-976D1439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DBB22-E816-450D-964E-869E4CA3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8912-0EB3-4608-8FD9-64238388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2CB8-F893-4049-B484-A9C89A2E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0D7D-4A6B-4BF1-AAD2-ED91C228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DB1C-2744-43B7-AC37-FE56EE7A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F61-58B0-43CA-84BA-47E36685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FC7E-1029-483A-8BEE-485C22DA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1309-1AE3-4AD0-BCDB-FE1F8126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EBD8-0437-4221-945C-F73E2358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022C-E149-4336-9612-435C569A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AC78-5149-4107-A70F-FCFC56C4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A69B4-F22D-4881-B871-84756A95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5FB94-01D6-4086-B17C-0EB0C047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66898-4102-41B5-A771-68E1E36C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C46AB-E5C7-4FE1-A568-B16111A4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E01E-29FA-488D-91DC-AAF2BFC9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36CF-CBBD-4999-8DB2-5F3574FB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65B9D-8F0C-4138-B744-4CCD04EE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619BA-B1EE-410A-A3F4-D7FCC773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49490-0FAE-4292-8FDC-D9809405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BF0EC-129C-4350-B0BE-6C2EFB4D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FF870-6FA9-4C14-BD39-0A882D61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D063A-5E27-4E0F-8DEF-58D266AD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3267B-95EE-4E0F-B06D-580FEE0B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C7798-CD62-4E9F-B64F-962D60D8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03C12-A2AA-4082-9FEC-F4A90C2C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85D54-A4B9-42F3-87F5-4DA4A986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2D54-C2A6-41F7-8B49-BCBAD87F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C84AA-E084-4E24-BD2B-0227C833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3507E-2D67-4089-A4A1-AB571403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BFA06-6BC1-4858-BDC8-EA350A1C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E09A8-7B8D-4F4B-907D-6B7B39BE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618D8-0181-4CDE-8FB0-20246F34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082BE-0867-4BFE-82EA-6BB29DBD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09EC4-3166-4B05-9A42-154C2445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F9D99-4D83-4CC3-9A9A-4668AB97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75B22-3B12-49A8-BF43-0B756C7A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CFA77-3E21-45A5-A327-D6496F55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83BE-24CF-4630-A636-9FF6B52C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20C48-76C3-4FF1-8BD1-545987B3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358FD-363F-495B-8B37-1ADFF2BE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A9087-C87B-4C87-816B-F6E7598D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DCAE6-8D3C-4D1C-87AB-9A55756B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9E684-C916-4F8A-A93F-6CC73B84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35B52-6AA0-421E-9E2B-B66C136A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7E2C0-8AD2-465C-8821-B481777C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71517-7B05-4564-BDBF-459CD186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5763F-2F17-4002-AEA0-F0D1C57A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6780D-EA8B-4938-B953-40347263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3E88-982F-468B-8FA8-5934A86D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A9776-9F27-4DBA-8F25-A84DA70A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94026-67B3-4153-8837-99D69DF5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59501-806A-4919-ADF7-0BC5AF7B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D4519-24FB-484D-B599-1167886A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34045-820B-4238-90A7-2AFA0937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C4167-62F7-4A35-B30B-4FDC4ADD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18685-6145-4901-B9B9-694B0E90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40B7D-11FF-4EED-A5A0-4A197292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D7D31-4433-4BB6-A045-BDE249E8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8A5C0-0CEA-4041-B289-98BDED69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472-B047-4C05-A1B5-A6EAF101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D7CDF-607C-4485-AC49-D658902E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52058-4B8E-47CC-A118-B7D18057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74D64-EE99-4458-A39B-FD8B814F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AAC45-1601-47D6-B1F9-46A72FA3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C4773-FAD8-44DE-B446-F4BDCD1F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F55F3-C57B-406B-A716-073F2CDF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CF722-69DB-4B16-B2D1-B7011089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44C40-7AEE-4614-A092-271E0A2A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A099E-2F1F-4A86-BD60-5672A36E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62A55-75EB-466B-B5A3-0D9F722D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8ACF-228B-4E26-94ED-E4F95B57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8FA8F-5A17-4A05-86C9-428D41C6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9C474-222C-4D71-9EE2-93DCA8DC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DBF14-1F9B-40F0-B622-B4461B1F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98651-46DB-4E9C-BC39-18874CC8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66E49-9202-4627-9D5E-4D0EB6DC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14E1B-9BB5-4907-BFB0-6FE1BFA3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FA93A-9DDE-4B16-8A2A-CD16E685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6F6BE-AF71-4237-8E73-DB092A93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24523-C6B4-48D5-A30B-364A6BD8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A12A1-718F-400E-B533-E4541D08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0A5-CBC9-41E5-A4F3-1D92AE70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60B3F-BD34-4D95-BEEC-9CE1AB5F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88EA7-5995-4513-B9BA-2E9DAD95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49A05-1376-427D-93AF-21A957B3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418EC-9C84-44DF-BFC8-49EE13AD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9959F-B6AD-4121-B316-013C9EB9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9556A-16CB-46CB-93B7-42A5ACAB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2FF8C-057E-44BA-9D69-C340CF60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AA3E6-8960-42B9-9AE9-841EF4FF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FD47D-D038-4476-9EB8-B1D46A28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8D7BB-214D-4EA3-A4A2-6DDAB4B6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2991-7B6D-4510-A7E8-24E40D63CA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599C-C993-4632-83D3-2FF7BC8362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5D42-1914-474B-9518-4AEA107C00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9D4A-A203-48C0-B410-25E89B4421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00D7-A027-46B2-B459-EE70647777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914400" y="2394000"/>
            <a:ext cx="1036332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9DFD-E917-4E22-A5FB-97628F2049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69F3-2718-42D9-AD2C-86DE0B9B6E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3367-DEB3-4745-B75D-9C48693FD1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6BDB-72F1-4ED4-B553-A822CABB37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B747-DCD2-4A04-A081-F1327B47B7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1073-D717-44C8-AA94-730FF716B7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B33A-7973-410B-BC4E-8D21F75907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62C5-D851-49C9-827A-3C46AB1097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45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45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9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Logo2"/>
          <p:cNvPicPr/>
          <p:nvPr/>
        </p:nvPicPr>
        <p:blipFill>
          <a:blip r:embed="rId3"/>
          <a:stretch/>
        </p:blipFill>
        <p:spPr>
          <a:xfrm>
            <a:off x="7958160" y="0"/>
            <a:ext cx="3610080" cy="154296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4"/>
          <p:cNvSpPr/>
          <p:nvPr/>
        </p:nvSpPr>
        <p:spPr>
          <a:xfrm>
            <a:off x="809640" y="1714680"/>
            <a:ext cx="5929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33"/>
                </a:solidFill>
                <a:latin typeface="Microsoft New Tai Lue"/>
              </a:rPr>
              <a:t>АСР </a:t>
            </a:r>
            <a:r>
              <a:rPr b="0" lang="en-US" sz="54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5400" spc="-1" strike="noStrike">
                <a:solidFill>
                  <a:srgbClr val="333333"/>
                </a:solidFill>
                <a:latin typeface="Microsoft New Tai Lue"/>
              </a:rPr>
              <a:t>Bill</a:t>
            </a:r>
            <a:br>
              <a:rPr sz="4800"/>
            </a:br>
            <a:r>
              <a:rPr b="0" lang="ru-RU" sz="40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Конвергентная автоматизированная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система расчет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2" name="Shape 103" descr=""/>
          <p:cNvPicPr/>
          <p:nvPr/>
        </p:nvPicPr>
        <p:blipFill>
          <a:blip r:embed="rId4"/>
          <a:srcRect l="2220" t="7183" r="3324" b="4188"/>
          <a:stretch/>
        </p:blipFill>
        <p:spPr>
          <a:xfrm>
            <a:off x="6953400" y="2176560"/>
            <a:ext cx="4270320" cy="1984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4E99-BE02-44BB-917D-788EC21BD60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66720" y="0"/>
            <a:ext cx="7640640" cy="44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Bill</a:t>
            </a:r>
            <a:r>
              <a:rPr b="0" lang="ru-RU" sz="20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заиморасчетов с 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Verdana"/>
              </a:rPr>
              <a:t>операторами связ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59" name="Object 9"/>
          <p:cNvGraphicFramePr/>
          <p:nvPr/>
        </p:nvGraphicFramePr>
        <p:xfrm>
          <a:off x="2166840" y="736560"/>
          <a:ext cx="8498160" cy="547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6840" y="736560"/>
                    <a:ext cx="8498160" cy="54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2C0D-4BCD-41C2-8533-C9C219D68BE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иды начислен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809640" y="1714680"/>
            <a:ext cx="1064412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исления за различные типы трафика: информация о вызовах, информация о трафике, информация о предоставлении иных услу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иодические начисления по терминалу (телефонный номер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gin-IP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бонент кабельного ТВ, декодер кодированного ТВ и т.п.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бонентская плата по плану, услугам ДВО и д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иодические начисления по договору (аренда, ДВ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овые начисления: подключение, разовые услу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ссовые корректировки начислений, рассрочка платеж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FB9E-DF10-4BBD-BCDA-D5ADC2CBF7D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ногомодульная систем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Rectangle 3"/>
          <p:cNvSpPr/>
          <p:nvPr/>
        </p:nvSpPr>
        <p:spPr>
          <a:xfrm>
            <a:off x="809640" y="1714680"/>
            <a:ext cx="1064412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Verdana"/>
              </a:rPr>
              <a:t>АСР 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остоит из следующих базовых модулей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ь по работе с абонентам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ь конфигурирования АСР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ь мониторинга процессов АС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ML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ь управления профилями абонентов на коммутаторах, маршрутизатор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netsu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ь администрирования АС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DRLoader (Mediation)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ь загрузчик (модуль предбиллинга) АС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Compare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ь детализированной сверки начислений с провайдер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E29C-A948-4F32-BA0E-5BC88380425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дуль обслуживания абонент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849240" y="1714680"/>
            <a:ext cx="1053324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начение и функци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я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ет абонентов, договоров, кошельк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писка счетов за оказанные услуги связи абонент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ирование детализации звонков, печать актов свер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ет счетов, счетов-факту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ет платежей абонен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ет терминал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ирование задан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теграция с КЛАДР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упп абонен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орудования абонен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9" name="Picture 11" descr=""/>
          <p:cNvPicPr/>
          <p:nvPr/>
        </p:nvPicPr>
        <p:blipFill>
          <a:blip r:embed="rId1"/>
          <a:stretch/>
        </p:blipFill>
        <p:spPr>
          <a:xfrm>
            <a:off x="7024680" y="3249720"/>
            <a:ext cx="4319640" cy="2867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D57E-FB49-4673-9F6A-673B825DC5C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дуль конфигурирования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809640" y="1643040"/>
            <a:ext cx="100728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ь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полняет следующие функц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ние логической структуры сети заказч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25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25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25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25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25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25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операций опера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6" name="Picture 10" descr=""/>
          <p:cNvPicPr/>
          <p:nvPr/>
        </p:nvPicPr>
        <p:blipFill>
          <a:blip r:embed="rId1"/>
          <a:stretch/>
        </p:blipFill>
        <p:spPr>
          <a:xfrm>
            <a:off x="7453440" y="3422520"/>
            <a:ext cx="3881160" cy="271152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3"/>
          <p:cNvSpPr/>
          <p:nvPr/>
        </p:nvSpPr>
        <p:spPr>
          <a:xfrm>
            <a:off x="880920" y="2428920"/>
            <a:ext cx="104299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270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исок устройств (коммутатор, маршрутизатор, кодер и т.п.), обслуживаемых систем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анковые группы (каналы), связывающие коммутаторы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луги ДВ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т периодических и разовых услу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880920" y="4143240"/>
            <a:ext cx="74296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27000" indent="-469800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рифное зонирование опера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рмализации и дисконтные набор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т планов обслуживания абонен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дивидуальные диско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87A3-3F20-448E-89B8-52A9D86CAD1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дуль мониторинга процесс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809640" y="1643040"/>
            <a:ext cx="105728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ь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зволяет проводить контроль за следующими процессам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числения за трафиковые услуги (Тарификация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торная оценка по абоненту, списку, полная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еретарификац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листинг тарификации по каждой из записей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D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809640" y="3500280"/>
            <a:ext cx="72151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тслеживание текущего остатка абонен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втоматические начисления суточной абонентской платы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ыполнение отложенных заданий на изменение профилей абонент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6" name="Picture 11" descr=""/>
          <p:cNvPicPr/>
          <p:nvPr/>
        </p:nvPicPr>
        <p:blipFill>
          <a:blip r:embed="rId1"/>
          <a:stretch/>
        </p:blipFill>
        <p:spPr>
          <a:xfrm>
            <a:off x="7667640" y="3365640"/>
            <a:ext cx="3674880" cy="2706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7C7C-43B9-4814-B8A5-C51B6C5316F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дуль управления устройствами доступ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Rectangle 3"/>
          <p:cNvSpPr/>
          <p:nvPr/>
        </p:nvSpPr>
        <p:spPr>
          <a:xfrm>
            <a:off x="809640" y="1643040"/>
            <a:ext cx="105728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начение модуля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M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матическое и ручное управление профилями абонентов на оборудовании заказч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апы работы модул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M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Rectangle 3"/>
          <p:cNvSpPr/>
          <p:nvPr/>
        </p:nvSpPr>
        <p:spPr>
          <a:xfrm>
            <a:off x="809640" y="3214800"/>
            <a:ext cx="707220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ение заданий из биллинг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терпретация синтаксиса задания согласно скрипту , заготовленного для данного типа зад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полнение команд на устройстве доступ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роль за исполнением зада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4" name="Picture 9" descr="MML"/>
          <p:cNvPicPr/>
          <p:nvPr/>
        </p:nvPicPr>
        <p:blipFill>
          <a:blip r:embed="rId1"/>
          <a:stretch/>
        </p:blipFill>
        <p:spPr>
          <a:xfrm>
            <a:off x="7453440" y="2719440"/>
            <a:ext cx="3857400" cy="3343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BE7E-6A12-4A12-BF81-B9F6FE648E6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дуль предбиллинг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831960" y="1844640"/>
            <a:ext cx="1057248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начение модул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diatio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учение файлов с коммутатора по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TP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токолу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DBC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л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 локальной директор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дание правил проверки и обработк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D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нформ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тройка форматов входящих файл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ирование выходных данных заданного формата независимо от формат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DR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мутато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грузка звонковой информации в биллин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ние отчетов об отбракованных звонка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урналирование действий систе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CE6E-4454-4103-AACB-0C3F12D8D63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дуль загрузки траф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Rectangle 3"/>
          <p:cNvSpPr/>
          <p:nvPr/>
        </p:nvSpPr>
        <p:spPr>
          <a:xfrm>
            <a:off x="809640" y="1643040"/>
            <a:ext cx="1057284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начение модул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DRLoade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грузка файлов с коммутатора по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TP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токолу в АС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грузка данных из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DBC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точников в АС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ние отчетов об отбракованных вызова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урналирование информации о процессе загруз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зможность проведения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ine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рификаци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ходе загрузки запис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7" name="Picture 9" descr=""/>
          <p:cNvPicPr/>
          <p:nvPr/>
        </p:nvPicPr>
        <p:blipFill>
          <a:blip r:embed="rId1"/>
          <a:stretch/>
        </p:blipFill>
        <p:spPr>
          <a:xfrm>
            <a:off x="3524400" y="3963960"/>
            <a:ext cx="51433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2EB7-62A2-4775-8C1D-AEF81B935DA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дуль администрирова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809640" y="1643040"/>
            <a:ext cx="10644120" cy="35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начение и функции модуля Администратор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вод информации о пользователях систем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вление составом модулей в систем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вление доступом пользователей к модулям и их функция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809640" y="3357720"/>
            <a:ext cx="685800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вление списком редактируемых терминалов (отслеживание и снятие блокирово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вление политикой парол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локировка оператора (отпус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5" name="Picture 10" descr=""/>
          <p:cNvPicPr/>
          <p:nvPr/>
        </p:nvPicPr>
        <p:blipFill>
          <a:blip r:embed="rId1"/>
          <a:stretch/>
        </p:blipFill>
        <p:spPr>
          <a:xfrm>
            <a:off x="6953400" y="3322800"/>
            <a:ext cx="4405320" cy="2749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036D-2443-4717-8623-27449397A94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623880" y="1773000"/>
            <a:ext cx="10656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тсутствие автоматизации бизнес-процессов ведения договоров с контрагентами и расчета начислен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истематические затраты финансовых и человеческих ресурсов на ручное выполнение рутинных процесс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сокая длительность выполнения расчетов и прочих процедур, которые можно автоматизироват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достаточное качество результата, учитывая наличие человеческого фактора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сокая частота сбоев процессов из-за отсутствия четкой методики выполн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 чем заключается проблема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казчика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5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Прямоугольник 6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7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4B29-1958-477B-BEE9-83BBECE6D15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заиморасчеты с операторами связ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809640" y="1714680"/>
            <a:ext cx="105728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чет услуг операторов связ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ниверсальная настройка тарифов согласно условиям договоров с провайдерами: местное присоединение, агентские договора, роуминговые соглаш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Формирование отчетов и экспортирование детализации провайдера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верка детализации, предоставленной провайдером, и детализации, полученной от </a:t>
            </a:r>
            <a:r>
              <a:rPr b="0" lang="ru-RU" sz="2400" spc="-1" strike="noStrike">
                <a:solidFill>
                  <a:srgbClr val="333333"/>
                </a:solidFill>
                <a:latin typeface="Verdana"/>
              </a:rPr>
              <a:t>АСР 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озможность загрузки детализированных счетов провайдеров и распределения звонков по абонента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CF0C-F82E-4B4A-978D-ACC00EEF76C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Личный кабинет абонен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Rectangle 3"/>
          <p:cNvSpPr/>
          <p:nvPr/>
        </p:nvSpPr>
        <p:spPr>
          <a:xfrm>
            <a:off x="809640" y="1643040"/>
            <a:ext cx="1064412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зможност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смотр информации об абонент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смотр статистики по трафику за любой пери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смотр счетов и детализированных счетов за любой пери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смотр текущих начисл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смотр платежей абонен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Rectangle 3"/>
          <p:cNvSpPr/>
          <p:nvPr/>
        </p:nvSpPr>
        <p:spPr>
          <a:xfrm>
            <a:off x="809640" y="3929040"/>
            <a:ext cx="62863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мена плана обслужи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менение набора услуг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вод и редактирование любимых телефоно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числение карт экспресс оплаты на свой сч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9" descr="Issa"/>
          <p:cNvPicPr/>
          <p:nvPr/>
        </p:nvPicPr>
        <p:blipFill>
          <a:blip r:embed="rId1"/>
          <a:srcRect l="0" t="0" r="0" b="7365"/>
          <a:stretch/>
        </p:blipFill>
        <p:spPr>
          <a:xfrm>
            <a:off x="6810480" y="3133800"/>
            <a:ext cx="4527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D2E0-8E6C-4D00-B0D5-86DFE9E0E9A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ем наличных платеже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819000" y="1643040"/>
            <a:ext cx="720576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ст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гистрация платеж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несение платежей с помощью сканера штрих-к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рытие дня без гашения и с гашени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нуление кассовой нумер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чать отчета касси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стройка фискального регистратора (ФР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819000" y="4429080"/>
            <a:ext cx="78487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несение/возврат денег в кассу, не связанных с продажами/возвратами услу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дение справочника корреспондирующих сч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дение справочника типов платеж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7" name="Picture 9" descr="Касса 01"/>
          <p:cNvPicPr/>
          <p:nvPr/>
        </p:nvPicPr>
        <p:blipFill>
          <a:blip r:embed="rId1"/>
          <a:stretch/>
        </p:blipFill>
        <p:spPr>
          <a:xfrm>
            <a:off x="8319960" y="1670040"/>
            <a:ext cx="3062520" cy="21877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0" descr="Касса 02"/>
          <p:cNvPicPr/>
          <p:nvPr/>
        </p:nvPicPr>
        <p:blipFill>
          <a:blip r:embed="rId2"/>
          <a:stretch/>
        </p:blipFill>
        <p:spPr>
          <a:xfrm>
            <a:off x="9248760" y="3767040"/>
            <a:ext cx="2100240" cy="237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251B-EA82-4A3F-B583-44B60509952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нвергентный биллинг на СУБД </a:t>
            </a:r>
            <a:r>
              <a:rPr b="0" lang="vi-VN" sz="3800" spc="-1" strike="noStrike">
                <a:solidFill>
                  <a:srgbClr val="000000"/>
                </a:solidFill>
                <a:latin typeface="Verdana"/>
              </a:rPr>
              <a:t>Cache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809640" y="1643040"/>
            <a:ext cx="105728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шими достоинствами являют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ыстродейств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требовательность к аппаратным ресурс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ножественность интерфейсов доступа к баз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аптация под требования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оевременное техническое обслуживание 24х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F427-B52E-4623-9BAA-C0994B6B8EE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заимодействие </a:t>
            </a:r>
            <a:r>
              <a:rPr b="0" lang="ru-RU" sz="4000" spc="-1" strike="noStrike">
                <a:solidFill>
                  <a:srgbClr val="333333"/>
                </a:solidFill>
                <a:latin typeface="Verdana"/>
              </a:rPr>
              <a:t>АСР </a:t>
            </a:r>
            <a:r>
              <a:rPr b="0" lang="en-US" sz="4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4000" spc="-1" strike="noStrike">
                <a:solidFill>
                  <a:srgbClr val="333333"/>
                </a:solidFill>
                <a:latin typeface="Verdana"/>
              </a:rPr>
              <a:t>Bill</a:t>
            </a:r>
            <a:r>
              <a:rPr b="0" lang="ru-RU" sz="40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 СУБД </a:t>
            </a:r>
            <a:r>
              <a:rPr b="0" lang="vi-VN" sz="3800" spc="-1" strike="noStrike">
                <a:solidFill>
                  <a:srgbClr val="000000"/>
                </a:solidFill>
                <a:latin typeface="Verdana"/>
              </a:rPr>
              <a:t>Cache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Rectangle 1054"/>
          <p:cNvSpPr/>
          <p:nvPr/>
        </p:nvSpPr>
        <p:spPr>
          <a:xfrm>
            <a:off x="2290680" y="3857760"/>
            <a:ext cx="7886880" cy="2214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AutoShape 1038"/>
          <p:cNvSpPr/>
          <p:nvPr/>
        </p:nvSpPr>
        <p:spPr>
          <a:xfrm>
            <a:off x="5491080" y="5429160"/>
            <a:ext cx="4572000" cy="571680"/>
          </a:xfrm>
          <a:prstGeom prst="can">
            <a:avLst>
              <a:gd name="adj" fmla="val 25000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н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Text Box 1056"/>
          <p:cNvSpPr/>
          <p:nvPr/>
        </p:nvSpPr>
        <p:spPr>
          <a:xfrm>
            <a:off x="2290680" y="54291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БД </a:t>
            </a:r>
            <a:r>
              <a:rPr b="0" lang="vi-VN" sz="2800" spc="-1" strike="noStrike">
                <a:solidFill>
                  <a:srgbClr val="000000"/>
                </a:solidFill>
                <a:latin typeface="Verdana"/>
              </a:rPr>
              <a:t>Cache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AutoShape 1061"/>
          <p:cNvSpPr/>
          <p:nvPr/>
        </p:nvSpPr>
        <p:spPr>
          <a:xfrm>
            <a:off x="2519280" y="4334040"/>
            <a:ext cx="5639040" cy="714240"/>
          </a:xfrm>
          <a:prstGeom prst="foldedCorner">
            <a:avLst>
              <a:gd name="adj" fmla="val 26226"/>
            </a:avLst>
          </a:prstGeom>
          <a:solidFill>
            <a:srgbClr val="8d8f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цедуры и методы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AutoShape 1062"/>
          <p:cNvSpPr/>
          <p:nvPr/>
        </p:nvSpPr>
        <p:spPr>
          <a:xfrm>
            <a:off x="6100920" y="5072040"/>
            <a:ext cx="485640" cy="3571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AutoShape 1073"/>
          <p:cNvSpPr/>
          <p:nvPr/>
        </p:nvSpPr>
        <p:spPr>
          <a:xfrm>
            <a:off x="2062080" y="3381480"/>
            <a:ext cx="2438640" cy="9284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actory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r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AutoShape 1074"/>
          <p:cNvSpPr/>
          <p:nvPr/>
        </p:nvSpPr>
        <p:spPr>
          <a:xfrm>
            <a:off x="5719680" y="3274920"/>
            <a:ext cx="1676520" cy="1042920"/>
          </a:xfrm>
          <a:prstGeom prst="upDownArrow">
            <a:avLst>
              <a:gd name="adj1" fmla="val 50000"/>
              <a:gd name="adj2" fmla="val 2090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S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AutoShape 1078"/>
          <p:cNvSpPr/>
          <p:nvPr/>
        </p:nvSpPr>
        <p:spPr>
          <a:xfrm>
            <a:off x="8462880" y="3090960"/>
            <a:ext cx="1905120" cy="2338200"/>
          </a:xfrm>
          <a:prstGeom prst="upDownArrow">
            <a:avLst>
              <a:gd name="adj1" fmla="val 50000"/>
              <a:gd name="adj2" fmla="val 35195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DB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8" name="Group 1105"/>
          <p:cNvGrpSpPr/>
          <p:nvPr/>
        </p:nvGrpSpPr>
        <p:grpSpPr>
          <a:xfrm>
            <a:off x="5186520" y="1657440"/>
            <a:ext cx="2895480" cy="1676160"/>
            <a:chOff x="5186520" y="1657440"/>
            <a:chExt cx="2895480" cy="1676160"/>
          </a:xfrm>
        </p:grpSpPr>
        <p:sp>
          <p:nvSpPr>
            <p:cNvPr id="769" name="AutoShape 1080"/>
            <p:cNvSpPr/>
            <p:nvPr/>
          </p:nvSpPr>
          <p:spPr>
            <a:xfrm>
              <a:off x="5186520" y="1668600"/>
              <a:ext cx="2895480" cy="16650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WEB-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интерфейс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Bil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Rectangle 1081"/>
            <p:cNvSpPr/>
            <p:nvPr/>
          </p:nvSpPr>
          <p:spPr>
            <a:xfrm>
              <a:off x="5591160" y="1657440"/>
              <a:ext cx="2484000" cy="11880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Rectangle 1082"/>
            <p:cNvSpPr/>
            <p:nvPr/>
          </p:nvSpPr>
          <p:spPr>
            <a:xfrm>
              <a:off x="5192640" y="1946160"/>
              <a:ext cx="2484000" cy="12060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2" name="Rectangle 1083"/>
            <p:cNvSpPr/>
            <p:nvPr/>
          </p:nvSpPr>
          <p:spPr>
            <a:xfrm>
              <a:off x="7432560" y="1959120"/>
              <a:ext cx="231480" cy="968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3" name="Rectangle 1084"/>
            <p:cNvSpPr/>
            <p:nvPr/>
          </p:nvSpPr>
          <p:spPr>
            <a:xfrm>
              <a:off x="7827840" y="1668600"/>
              <a:ext cx="234720" cy="968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4" name="Rectangle 1085"/>
            <p:cNvSpPr/>
            <p:nvPr/>
          </p:nvSpPr>
          <p:spPr>
            <a:xfrm>
              <a:off x="5186520" y="1947960"/>
              <a:ext cx="128520" cy="120600"/>
            </a:xfrm>
            <a:prstGeom prst="rect">
              <a:avLst/>
            </a:prstGeom>
            <a:solidFill>
              <a:srgbClr val="dae0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5" name="Rectangle 1086"/>
            <p:cNvSpPr/>
            <p:nvPr/>
          </p:nvSpPr>
          <p:spPr>
            <a:xfrm>
              <a:off x="5584680" y="1657440"/>
              <a:ext cx="128160" cy="117360"/>
            </a:xfrm>
            <a:prstGeom prst="rect">
              <a:avLst/>
            </a:prstGeom>
            <a:solidFill>
              <a:srgbClr val="dae0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6" name="Rectangle 1087"/>
            <p:cNvSpPr/>
            <p:nvPr/>
          </p:nvSpPr>
          <p:spPr>
            <a:xfrm>
              <a:off x="5389560" y="1801800"/>
              <a:ext cx="2485440" cy="11916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Rectangle 1088"/>
            <p:cNvSpPr/>
            <p:nvPr/>
          </p:nvSpPr>
          <p:spPr>
            <a:xfrm>
              <a:off x="5389560" y="1801800"/>
              <a:ext cx="128160" cy="117360"/>
            </a:xfrm>
            <a:prstGeom prst="rect">
              <a:avLst/>
            </a:prstGeom>
            <a:solidFill>
              <a:srgbClr val="dae0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8" name="Rectangle 1089"/>
            <p:cNvSpPr/>
            <p:nvPr/>
          </p:nvSpPr>
          <p:spPr>
            <a:xfrm>
              <a:off x="7629480" y="1809720"/>
              <a:ext cx="231480" cy="98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9" name="Group 1091"/>
          <p:cNvGrpSpPr/>
          <p:nvPr/>
        </p:nvGrpSpPr>
        <p:grpSpPr>
          <a:xfrm>
            <a:off x="8310600" y="1652760"/>
            <a:ext cx="2286000" cy="1523520"/>
            <a:chOff x="8310600" y="1652760"/>
            <a:chExt cx="2286000" cy="1523520"/>
          </a:xfrm>
        </p:grpSpPr>
        <p:sp>
          <p:nvSpPr>
            <p:cNvPr id="780" name="AutoShape 1092"/>
            <p:cNvSpPr/>
            <p:nvPr/>
          </p:nvSpPr>
          <p:spPr>
            <a:xfrm>
              <a:off x="8310600" y="1663200"/>
              <a:ext cx="2286000" cy="1513080"/>
            </a:xfrm>
            <a:prstGeom prst="flowChartMultidocument">
              <a:avLst/>
            </a:prstGeom>
            <a:solidFill>
              <a:srgbClr val="48596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Сторон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программ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1" name="Rectangle 1093"/>
            <p:cNvSpPr/>
            <p:nvPr/>
          </p:nvSpPr>
          <p:spPr>
            <a:xfrm>
              <a:off x="8629560" y="1652760"/>
              <a:ext cx="1962000" cy="10836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2" name="Rectangle 1094"/>
            <p:cNvSpPr/>
            <p:nvPr/>
          </p:nvSpPr>
          <p:spPr>
            <a:xfrm>
              <a:off x="8315280" y="1915920"/>
              <a:ext cx="1962000" cy="10800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3" name="Rectangle 1095"/>
            <p:cNvSpPr/>
            <p:nvPr/>
          </p:nvSpPr>
          <p:spPr>
            <a:xfrm>
              <a:off x="10083240" y="1926360"/>
              <a:ext cx="183600" cy="88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4" name="Rectangle 1096"/>
            <p:cNvSpPr/>
            <p:nvPr/>
          </p:nvSpPr>
          <p:spPr>
            <a:xfrm>
              <a:off x="10396440" y="1663200"/>
              <a:ext cx="184680" cy="87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5" name="Rectangle 1097"/>
            <p:cNvSpPr/>
            <p:nvPr/>
          </p:nvSpPr>
          <p:spPr>
            <a:xfrm>
              <a:off x="8310600" y="1917000"/>
              <a:ext cx="101160" cy="108360"/>
            </a:xfrm>
            <a:prstGeom prst="rect">
              <a:avLst/>
            </a:prstGeom>
            <a:solidFill>
              <a:srgbClr val="dae0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6" name="Rectangle 1098"/>
            <p:cNvSpPr/>
            <p:nvPr/>
          </p:nvSpPr>
          <p:spPr>
            <a:xfrm>
              <a:off x="8624880" y="1652760"/>
              <a:ext cx="100800" cy="108360"/>
            </a:xfrm>
            <a:prstGeom prst="rect">
              <a:avLst/>
            </a:prstGeom>
            <a:solidFill>
              <a:srgbClr val="dae0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7" name="Rectangle 1099"/>
            <p:cNvSpPr/>
            <p:nvPr/>
          </p:nvSpPr>
          <p:spPr>
            <a:xfrm>
              <a:off x="8471520" y="1783800"/>
              <a:ext cx="1962000" cy="10800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8" name="Rectangle 1100"/>
            <p:cNvSpPr/>
            <p:nvPr/>
          </p:nvSpPr>
          <p:spPr>
            <a:xfrm>
              <a:off x="8471520" y="1784880"/>
              <a:ext cx="100800" cy="105840"/>
            </a:xfrm>
            <a:prstGeom prst="rect">
              <a:avLst/>
            </a:prstGeom>
            <a:solidFill>
              <a:srgbClr val="dae0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9" name="Rectangle 1101"/>
            <p:cNvSpPr/>
            <p:nvPr/>
          </p:nvSpPr>
          <p:spPr>
            <a:xfrm>
              <a:off x="10239480" y="1791360"/>
              <a:ext cx="183240" cy="88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0" name="Group 1103"/>
          <p:cNvGrpSpPr/>
          <p:nvPr/>
        </p:nvGrpSpPr>
        <p:grpSpPr>
          <a:xfrm>
            <a:off x="1833480" y="1643040"/>
            <a:ext cx="3048120" cy="1828800"/>
            <a:chOff x="1833480" y="1643040"/>
            <a:chExt cx="3048120" cy="1828800"/>
          </a:xfrm>
        </p:grpSpPr>
        <p:sp>
          <p:nvSpPr>
            <p:cNvPr id="791" name="AutoShape 1040"/>
            <p:cNvSpPr/>
            <p:nvPr/>
          </p:nvSpPr>
          <p:spPr>
            <a:xfrm>
              <a:off x="1833480" y="1655640"/>
              <a:ext cx="3048120" cy="1816200"/>
            </a:xfrm>
            <a:prstGeom prst="flowChartMultidocument">
              <a:avLst/>
            </a:prstGeom>
            <a:solidFill>
              <a:srgbClr val="0096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Интерфейс </a:t>
              </a: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MoBil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(Delphi, C++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Rectangle 1044"/>
            <p:cNvSpPr/>
            <p:nvPr/>
          </p:nvSpPr>
          <p:spPr>
            <a:xfrm>
              <a:off x="2259000" y="1643040"/>
              <a:ext cx="2616120" cy="13032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3" name="Rectangle 1046"/>
            <p:cNvSpPr/>
            <p:nvPr/>
          </p:nvSpPr>
          <p:spPr>
            <a:xfrm>
              <a:off x="1839960" y="1959120"/>
              <a:ext cx="2616120" cy="12996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4" name="Rectangle 1047"/>
            <p:cNvSpPr/>
            <p:nvPr/>
          </p:nvSpPr>
          <p:spPr>
            <a:xfrm>
              <a:off x="4197240" y="1971720"/>
              <a:ext cx="244440" cy="1062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5" name="Rectangle 1049"/>
            <p:cNvSpPr/>
            <p:nvPr/>
          </p:nvSpPr>
          <p:spPr>
            <a:xfrm>
              <a:off x="4614840" y="1655640"/>
              <a:ext cx="245880" cy="104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6" name="Rectangle 1050"/>
            <p:cNvSpPr/>
            <p:nvPr/>
          </p:nvSpPr>
          <p:spPr>
            <a:xfrm>
              <a:off x="1833480" y="1960560"/>
              <a:ext cx="135000" cy="130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7" name="Rectangle 1052"/>
            <p:cNvSpPr/>
            <p:nvPr/>
          </p:nvSpPr>
          <p:spPr>
            <a:xfrm>
              <a:off x="2252520" y="1643040"/>
              <a:ext cx="135000" cy="128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8" name="Rectangle 1064"/>
            <p:cNvSpPr/>
            <p:nvPr/>
          </p:nvSpPr>
          <p:spPr>
            <a:xfrm>
              <a:off x="2047680" y="1801800"/>
              <a:ext cx="2616480" cy="13032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9" name="Rectangle 1065"/>
            <p:cNvSpPr/>
            <p:nvPr/>
          </p:nvSpPr>
          <p:spPr>
            <a:xfrm>
              <a:off x="2047680" y="1806480"/>
              <a:ext cx="135000" cy="128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0" name="Rectangle 1066"/>
            <p:cNvSpPr/>
            <p:nvPr/>
          </p:nvSpPr>
          <p:spPr>
            <a:xfrm>
              <a:off x="4405320" y="1816200"/>
              <a:ext cx="244440" cy="1062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01" name="Picture 3" descr="C:\Users\denis\Pictures\Internet_Explorer.png"/>
          <p:cNvPicPr/>
          <p:nvPr/>
        </p:nvPicPr>
        <p:blipFill>
          <a:blip r:embed="rId1"/>
          <a:stretch/>
        </p:blipFill>
        <p:spPr>
          <a:xfrm>
            <a:off x="5319720" y="2643120"/>
            <a:ext cx="541440" cy="541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D6BB-6F03-4B23-AACD-BECA8D3F2DC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интеграц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Прямоугольник 6"/>
          <p:cNvSpPr/>
          <p:nvPr/>
        </p:nvSpPr>
        <p:spPr>
          <a:xfrm>
            <a:off x="809640" y="1714680"/>
            <a:ext cx="10572840" cy="19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страя разработка «заказных» модулей и функций Исполнител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сть разработки отчетов специалистами Заказч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ие с популярными бухгалтерскими программами, системами «Клиент-Банк» и д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Прямоугольник 7"/>
          <p:cNvSpPr/>
          <p:nvPr/>
        </p:nvSpPr>
        <p:spPr>
          <a:xfrm>
            <a:off x="809640" y="3357720"/>
            <a:ext cx="1057284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данный момент система взаимодействует со следующими программными комплексам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ПП (Единая система приема платеже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стема «Город» банка УралСи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тежные системы: ОСМП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yberPl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С:Бухгалтерия, Лексема (Эко-Софт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личные системы «Клиент-Банк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AC8D-DE8E-43BC-BD24-FD8C3F620ED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интеграц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Прямоугольник 6"/>
          <p:cNvSpPr/>
          <p:nvPr/>
        </p:nvSpPr>
        <p:spPr>
          <a:xfrm>
            <a:off x="809640" y="1866960"/>
            <a:ext cx="1042992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ункции интеграции с системами бухгалтерского учет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нхронизация необходимых справочников НСИ (услуги, контрагенты, договора, финансовые документы и т.п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грузка информации об абонентах, договорах, терминал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грузка разовых, периодических начисл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грузка принятых платежей с платежных систем, касс, электронных реестр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грузка платежей с систем бухгалтерского у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7A29-39C8-4C83-9D66-CBC581254E0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риптозащита СУБ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Rectangle 27"/>
          <p:cNvSpPr/>
          <p:nvPr/>
        </p:nvSpPr>
        <p:spPr>
          <a:xfrm>
            <a:off x="809640" y="2510280"/>
            <a:ext cx="1058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УБД Caché® от компани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Systems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сертифицировано в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СТЭК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Сертификат №325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Caché® сертифицировано на высокие уровни защищенности в соответствии требованиям безопасности информации, установленные РД Гостехкомиссии РФ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 класс защищенн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«Средства вычислительной техники. Защита от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санкционированного доступа к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Показатели защищенности от несанкционированного доступа к информации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 уровень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«Защита от несанкционированного доступа к информации. Часть 1. Программное обеспечение средств защиты информации. Классификаци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 уровню контроля отсутствия недекларированных возможност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8" name="Picture 11" descr="&amp;Kcy;&amp;acy;&amp;rcy;&amp;tcy;&amp;icy;&amp;ncy;&amp;kcy;&amp;icy; &amp;pcy;&amp;ocy; &amp;zcy;&amp;acy;&amp;pcy;&amp;rcy;&amp;ocy;&amp;scy;&amp;ucy; &amp;zcy;&amp;acy;&amp;shchcy;&amp;icy;&amp;tcy;&amp;a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10024920" y="142920"/>
            <a:ext cx="1357560" cy="1357200"/>
          </a:xfrm>
          <a:prstGeom prst="rect">
            <a:avLst/>
          </a:prstGeom>
          <a:ln w="0">
            <a:noFill/>
          </a:ln>
        </p:spPr>
      </p:pic>
      <p:sp>
        <p:nvSpPr>
          <p:cNvPr id="819" name="TextBox 5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46C5-0B2E-48DD-8477-73B586BC131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ертификаты, лицензии, дипло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Прямоугольник 6"/>
          <p:cNvSpPr/>
          <p:nvPr/>
        </p:nvSpPr>
        <p:spPr>
          <a:xfrm>
            <a:off x="738360" y="1928880"/>
            <a:ext cx="4572000" cy="31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Bill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ртифицированный продукт в системе «Связь» до 5 млн. абонен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БД Caché сертифицировано в ФСТЭК. Сертификат №3257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ртифицированные разработч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6" name="Picture 3" descr="Сертификат. Полное изображение "/>
          <p:cNvPicPr/>
          <p:nvPr/>
        </p:nvPicPr>
        <p:blipFill>
          <a:blip r:embed="rId1"/>
          <a:stretch/>
        </p:blipFill>
        <p:spPr>
          <a:xfrm>
            <a:off x="8864640" y="2584440"/>
            <a:ext cx="457200" cy="6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7" name="Picture 4" descr="Сертификат. Полное изображение "/>
          <p:cNvPicPr/>
          <p:nvPr/>
        </p:nvPicPr>
        <p:blipFill>
          <a:blip r:embed="rId2"/>
          <a:stretch/>
        </p:blipFill>
        <p:spPr>
          <a:xfrm>
            <a:off x="8670960" y="2478240"/>
            <a:ext cx="460440" cy="64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8" name="Picture 5" descr="Сертификат. Полное изображение "/>
          <p:cNvPicPr/>
          <p:nvPr/>
        </p:nvPicPr>
        <p:blipFill>
          <a:blip r:embed="rId3"/>
          <a:stretch/>
        </p:blipFill>
        <p:spPr>
          <a:xfrm>
            <a:off x="8504280" y="2360520"/>
            <a:ext cx="457200" cy="64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9" name="Picture 12" descr="Серфтификат АСР MoBill 2008-2011 mini"/>
          <p:cNvPicPr/>
          <p:nvPr/>
        </p:nvPicPr>
        <p:blipFill>
          <a:blip r:embed="rId4"/>
          <a:stretch/>
        </p:blipFill>
        <p:spPr>
          <a:xfrm>
            <a:off x="8072280" y="1928880"/>
            <a:ext cx="650880" cy="9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0" name="Picture 7" descr="home_1_1-cache-site"/>
          <p:cNvPicPr/>
          <p:nvPr/>
        </p:nvPicPr>
        <p:blipFill>
          <a:blip r:embed="rId5"/>
          <a:stretch/>
        </p:blipFill>
        <p:spPr>
          <a:xfrm>
            <a:off x="7215120" y="3500280"/>
            <a:ext cx="1511280" cy="5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1" name="Picture 9" descr="Сертификат ФСТЭК ¦ 1634 mini"/>
          <p:cNvPicPr/>
          <p:nvPr/>
        </p:nvPicPr>
        <p:blipFill>
          <a:blip r:embed="rId6"/>
          <a:stretch/>
        </p:blipFill>
        <p:spPr>
          <a:xfrm>
            <a:off x="8512200" y="3932280"/>
            <a:ext cx="809640" cy="115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2" name="Picture 10" descr="Сертификат партнера Cache'. Полное изображение "/>
          <p:cNvPicPr/>
          <p:nvPr/>
        </p:nvPicPr>
        <p:blipFill>
          <a:blip r:embed="rId7"/>
          <a:stretch/>
        </p:blipFill>
        <p:spPr>
          <a:xfrm>
            <a:off x="9231480" y="4363920"/>
            <a:ext cx="793440" cy="11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1E85-82D0-4E62-858D-27F5FCBED9D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Техническая поддержка </a:t>
            </a:r>
            <a:r>
              <a:rPr b="0" lang="en-US" sz="4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4000" spc="-1" strike="noStrike">
                <a:solidFill>
                  <a:srgbClr val="333333"/>
                </a:solidFill>
                <a:latin typeface="Verdana"/>
              </a:rPr>
              <a:t>Bil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Прямоугольник 6"/>
          <p:cNvSpPr/>
          <p:nvPr/>
        </p:nvSpPr>
        <p:spPr>
          <a:xfrm>
            <a:off x="809640" y="4143240"/>
            <a:ext cx="83106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даленный доступ для мгновенного устранения внештатных ситу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есплатные текущие обновл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ическая поддержка СУБД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che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9" name="Picture 14" descr=""/>
          <p:cNvPicPr/>
          <p:nvPr/>
        </p:nvPicPr>
        <p:blipFill>
          <a:blip r:embed="rId1"/>
          <a:stretch/>
        </p:blipFill>
        <p:spPr>
          <a:xfrm>
            <a:off x="7105680" y="1687680"/>
            <a:ext cx="4276800" cy="24555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13" descr=""/>
          <p:cNvPicPr/>
          <p:nvPr/>
        </p:nvPicPr>
        <p:blipFill>
          <a:blip r:embed="rId2"/>
          <a:stretch/>
        </p:blipFill>
        <p:spPr>
          <a:xfrm>
            <a:off x="9167760" y="3286080"/>
            <a:ext cx="2036880" cy="2755800"/>
          </a:xfrm>
          <a:prstGeom prst="rect">
            <a:avLst/>
          </a:prstGeom>
          <a:ln w="0">
            <a:noFill/>
          </a:ln>
        </p:spPr>
      </p:pic>
      <p:sp>
        <p:nvSpPr>
          <p:cNvPr id="841" name="Rectangle 3"/>
          <p:cNvSpPr/>
          <p:nvPr/>
        </p:nvSpPr>
        <p:spPr>
          <a:xfrm>
            <a:off x="809640" y="1714680"/>
            <a:ext cx="642924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углосуточный прием обращений с различных источников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Bill-HelpDe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сультации по телефон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воевременное и качественное техническое обслуживание 24х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E4B9-79BF-4C70-8CB9-8BA481D22DF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едлагаемое реш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Прямоугольник 9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809640" y="1785960"/>
            <a:ext cx="106441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75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недрение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конвергентной автоматизированной системы расчетов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333333"/>
                </a:solidFill>
                <a:latin typeface="Verdana"/>
              </a:rPr>
              <a:t>АСР </a:t>
            </a:r>
            <a:r>
              <a:rPr b="0" lang="en-US" sz="22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Bill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лнофункциональная биллинговая систем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основными целями и задачами которой являются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втоматизация рутинных процесс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втоматизация ведения документооборота оператора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части расчетов с абонентами и операторам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кращение затра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дение взаиморасчетов согласно Правил применения АСР (приказ Министерства информационных технологий и связи РФ №73 от 02.07.2007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04C7-E567-43AA-95F0-00258129709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3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sp>
        <p:nvSpPr>
          <p:cNvPr id="844" name="Text Box 6"/>
          <p:cNvSpPr/>
          <p:nvPr/>
        </p:nvSpPr>
        <p:spPr>
          <a:xfrm>
            <a:off x="2905200" y="3643200"/>
            <a:ext cx="654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мпания «Мобилл плюс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оссия, Уфа, улица Менделеева, 13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Text Box 7"/>
          <p:cNvSpPr/>
          <p:nvPr/>
        </p:nvSpPr>
        <p:spPr>
          <a:xfrm>
            <a:off x="2952720" y="471492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фак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47) 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56-66-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Text Box 8"/>
          <p:cNvSpPr/>
          <p:nvPr/>
        </p:nvSpPr>
        <p:spPr>
          <a:xfrm>
            <a:off x="6611760" y="468936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ww.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bill@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7" name="Picture 9" descr="Logo2"/>
          <p:cNvPicPr/>
          <p:nvPr/>
        </p:nvPicPr>
        <p:blipFill>
          <a:blip r:embed="rId3"/>
          <a:stretch/>
        </p:blipFill>
        <p:spPr>
          <a:xfrm>
            <a:off x="4272120" y="1928880"/>
            <a:ext cx="3609720" cy="1542960"/>
          </a:xfrm>
          <a:prstGeom prst="rect">
            <a:avLst/>
          </a:prstGeom>
          <a:ln w="0">
            <a:noFill/>
          </a:ln>
        </p:spPr>
      </p:pic>
      <p:sp>
        <p:nvSpPr>
          <p:cNvPr id="848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809640" y="214200"/>
            <a:ext cx="106441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Microsoft New Tai Lue"/>
              </a:rPr>
              <a:t>АСР </a:t>
            </a:r>
            <a:r>
              <a:rPr b="0" lang="en-US" sz="44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400" spc="-1" strike="noStrike">
                <a:solidFill>
                  <a:srgbClr val="333333"/>
                </a:solidFill>
                <a:latin typeface="Microsoft New Tai Lue"/>
              </a:rPr>
              <a:t>Bill</a:t>
            </a:r>
            <a:br>
              <a:rPr sz="4000"/>
            </a:br>
            <a:r>
              <a:rPr b="0" lang="ru-RU" sz="28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Конвергентная автоматизированная система рас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B76E-C74B-4F5B-87D7-6F857AA64A8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чи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695160" y="1773360"/>
            <a:ext cx="84726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 «Мобилл плюс»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изируется на разработке универсальных программных систем и их внедрении в различных отраслях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работаем на рынк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1997 г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Прямоугольник 11"/>
          <p:cNvSpPr/>
          <p:nvPr/>
        </p:nvSpPr>
        <p:spPr>
          <a:xfrm>
            <a:off x="727200" y="4389480"/>
            <a:ext cx="851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применяем в своих разработках программное обеспечение СУБД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System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Caché, которое обеспечивает высокую скорость обработки данных и высокую степень защищенности информации. Эта СУБД сертифицирована в соответствии с требованиями безопасности информации, установленным руководящими документами ФСТЭК Росс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http://www.intersystems.com/assets/intersystems-logo.png"/>
          <p:cNvPicPr/>
          <p:nvPr/>
        </p:nvPicPr>
        <p:blipFill>
          <a:blip r:embed="rId1"/>
          <a:stretch/>
        </p:blipFill>
        <p:spPr>
          <a:xfrm>
            <a:off x="9596520" y="4000680"/>
            <a:ext cx="1942920" cy="495000"/>
          </a:xfrm>
          <a:prstGeom prst="rect">
            <a:avLst/>
          </a:prstGeom>
          <a:ln w="0">
            <a:noFill/>
          </a:ln>
        </p:spPr>
      </p:pic>
      <p:sp>
        <p:nvSpPr>
          <p:cNvPr id="600" name="TextBox 14"/>
          <p:cNvSpPr/>
          <p:nvPr/>
        </p:nvSpPr>
        <p:spPr>
          <a:xfrm>
            <a:off x="738360" y="3487680"/>
            <a:ext cx="57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знайте о нас больше: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www.mobill.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1" name="Picture 16" descr="C:\Users\denis\Pictures\fstek.png"/>
          <p:cNvPicPr/>
          <p:nvPr/>
        </p:nvPicPr>
        <p:blipFill>
          <a:blip r:embed="rId2"/>
          <a:stretch/>
        </p:blipFill>
        <p:spPr>
          <a:xfrm>
            <a:off x="10024920" y="471492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1" descr="C:\Users\denis\Pictures\20-let-raboty.png"/>
          <p:cNvPicPr/>
          <p:nvPr/>
        </p:nvPicPr>
        <p:blipFill>
          <a:blip r:embed="rId3"/>
          <a:stretch/>
        </p:blipFill>
        <p:spPr>
          <a:xfrm>
            <a:off x="9667800" y="185724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9" descr="Logo2"/>
          <p:cNvPicPr/>
          <p:nvPr/>
        </p:nvPicPr>
        <p:blipFill>
          <a:blip r:embed="rId4"/>
          <a:stretch/>
        </p:blipFill>
        <p:spPr>
          <a:xfrm>
            <a:off x="9656640" y="7714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604" name="TextBox 13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Прямоугольник 12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TextBox 14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839880" y="2714760"/>
          <a:ext cx="10539360" cy="857160"/>
        </p:xfrm>
        <a:graphic>
          <a:graphicData uri="http://schemas.openxmlformats.org/drawingml/2006/table">
            <a:tbl>
              <a:tblPr/>
              <a:tblGrid>
                <a:gridCol w="3477960"/>
                <a:gridCol w="360360"/>
                <a:gridCol w="2862360"/>
                <a:gridCol w="360360"/>
                <a:gridCol w="3478320"/>
              </a:tblGrid>
              <a:tr h="8571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ысокие оценки клиентов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недрение ПО под индивидуальные требования Заказчи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Постгарантийное сопровождение ПО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Моментальная техническая поддерж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Быстродействие СУБД. Низкие требования к аппаратным ресурс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E9C2-EA99-4F9B-8D6C-4585D1FD76B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чи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66440" y="3928680"/>
            <a:ext cx="106678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рамках реализуемых проектов мы осуществляем полный комплекс работ и услу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проектный анализ требований и бизнес-процессов Заказчи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даленное проведение презентаций и конференций предлагаемых реш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вместную разработку технического за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работку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готовку персонала Заказчи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рвисное гарантийное и постгарантийное обслужив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1" name="Picture 5" descr="&amp;Kcy;&amp;acy;&amp;rcy;&amp;tcy;&amp;icy;&amp;ncy;&amp;kcy;&amp;icy; &amp;pcy;&amp;ocy; &amp;zcy;&amp;acy;&amp;pcy;&amp;rcy;&amp;ocy;&amp;scy;&amp;ucy; &amp;kcy;&amp;acy;&amp;chcy;&amp;iecy;&amp;scy;&amp;tcy;&amp;vcy;&amp;o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1865160" y="1843200"/>
            <a:ext cx="1197000" cy="10857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7" descr="&amp;Kcy;&amp;acy;&amp;rcy;&amp;tcy;&amp;icy;&amp;ncy;&amp;kcy;&amp;icy; &amp;pcy;&amp;ocy; &amp;zcy;&amp;acy;&amp;pcy;&amp;rcy;&amp;ocy;&amp;scy;&amp;ucy; &amp;shchcy;&amp;icy;&amp;tcy; &amp;icy;&amp;kcy;&amp;ocy;&amp;ncy;&amp;kcy;&amp;acy;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5661000" y="2000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9" descr="&amp;Kcy;&amp;acy;&amp;rcy;&amp;tcy;&amp;icy;&amp;ncy;&amp;kcy;&amp;icy; &amp;pcy;&amp;ocy; &amp;zcy;&amp;acy;&amp;pcy;&amp;rcy;&amp;ocy;&amp;scy;&amp;ucy; &amp;scy;&amp;kcy;&amp;ocy;&amp;rcy;&amp;ocy;&amp;scy;&amp;tcy;&amp;softcy; &amp;icy;&amp;kcy;&amp;ocy;&amp;ncy;&amp;kcy;&amp;acy;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8924760" y="192888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614" name="TextBox 18"/>
          <p:cNvSpPr/>
          <p:nvPr/>
        </p:nvSpPr>
        <p:spPr>
          <a:xfrm>
            <a:off x="1881360" y="16430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TextBox 19"/>
          <p:cNvSpPr/>
          <p:nvPr/>
        </p:nvSpPr>
        <p:spPr>
          <a:xfrm>
            <a:off x="5265720" y="16430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TextBox 20"/>
          <p:cNvSpPr/>
          <p:nvPr/>
        </p:nvSpPr>
        <p:spPr>
          <a:xfrm>
            <a:off x="8550000" y="164304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ыстро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7" name="Picture 9" descr="Logo2"/>
          <p:cNvPicPr/>
          <p:nvPr/>
        </p:nvPicPr>
        <p:blipFill>
          <a:blip r:embed="rId4"/>
          <a:stretch/>
        </p:blipFill>
        <p:spPr>
          <a:xfrm>
            <a:off x="9656640" y="7714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618" name="TextBox 15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Прямоугольник 14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TextBox 16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4277-81F9-46F2-B536-1DDA6107822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бласти применения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400" y="1785600"/>
            <a:ext cx="8245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данный момент система используетс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азчиками для расчета следующих услуг связ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лефония:  М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Г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Н, Выделенных сетей связи, передача данных с целью передачи голосовой информации, радиотелефонная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S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 связ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луги передачи данных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луги доступа в интерне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лематические услуги связ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левидение: Кабельное веща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цифровое вещание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PT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7" name="Object 13"/>
          <p:cNvGraphicFramePr/>
          <p:nvPr/>
        </p:nvGraphicFramePr>
        <p:xfrm>
          <a:off x="9310680" y="4143240"/>
          <a:ext cx="25092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10680" y="4143240"/>
                    <a:ext cx="25092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14"/>
          <p:cNvGraphicFramePr/>
          <p:nvPr/>
        </p:nvGraphicFramePr>
        <p:xfrm>
          <a:off x="9953640" y="3286080"/>
          <a:ext cx="58752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0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53640" y="3286080"/>
                    <a:ext cx="5875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15"/>
          <p:cNvGraphicFramePr/>
          <p:nvPr/>
        </p:nvGraphicFramePr>
        <p:xfrm>
          <a:off x="9381960" y="2857680"/>
          <a:ext cx="622440" cy="58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2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81960" y="2857680"/>
                    <a:ext cx="62244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16"/>
          <p:cNvGraphicFramePr/>
          <p:nvPr/>
        </p:nvGraphicFramePr>
        <p:xfrm>
          <a:off x="9667800" y="4214880"/>
          <a:ext cx="816120" cy="58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4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667800" y="4214880"/>
                    <a:ext cx="8161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17"/>
          <p:cNvGraphicFramePr/>
          <p:nvPr/>
        </p:nvGraphicFramePr>
        <p:xfrm>
          <a:off x="9524880" y="4929120"/>
          <a:ext cx="603360" cy="71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6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524880" y="4929120"/>
                    <a:ext cx="6033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2235-4D37-489F-868B-C112B805F7A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Экономика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809640" y="1714680"/>
            <a:ext cx="1057284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Verdana"/>
              </a:rPr>
              <a:t>АСР 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зволяет не только автоматизировать функции оператора, но и принести экономическую выгоду за счет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кращения расходов и трудозатрат на обслуживание системы и автоматизации рутинны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го контроля счетов, выставляемых поставщиками услуг, за счет проведения автоматизированной детализированной сверки начисл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еспечивает надежное и безопасное хранение данных, а также обеспечивает сокращение расходов на серверное и клиентское оборудование за счет используемой СУБД Caché фирмы Intersyst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BF9D-C849-403F-9918-3C07F328DFF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лнофункциональная биллинговая систем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809640" y="1714680"/>
            <a:ext cx="1064412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ru-RU" sz="2400" spc="-1" strike="noStrike">
                <a:solidFill>
                  <a:srgbClr val="333333"/>
                </a:solidFill>
                <a:latin typeface="Verdana"/>
              </a:rPr>
              <a:t> АСР 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лассификация и систематизация данных о вызовах с разнотипных коммутаторов (предбиллинг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ет на одном лицевом счету абонента различных видов услуг (телефония, интернет, телевидение и т.п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ет организационной структуры предприятий в разрезе лицевых счетов и разделение начислен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вансовая и кредитная схема начисл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та с абонентами (расчет, управление профилями абонентов на оборудовании, оповещение, личный кабинет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заиморасчеты и детализированная сверка начислений с провайдер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C5AE-23E6-4047-90BE-A2D55419C2D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69960" y="0"/>
            <a:ext cx="6997680" cy="44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Bill</a:t>
            </a:r>
            <a:r>
              <a:rPr b="0" lang="ru-RU" sz="20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заиморасчетов с 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Verdana"/>
              </a:rPr>
              <a:t>абонент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53" name="Object 55"/>
          <p:cNvGraphicFramePr/>
          <p:nvPr/>
        </p:nvGraphicFramePr>
        <p:xfrm>
          <a:off x="2238480" y="571680"/>
          <a:ext cx="8286480" cy="60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8480" y="571680"/>
                    <a:ext cx="828648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8:12:36Z</dcterms:created>
  <dc:creator>ООО "Мобилл плюс"</dc:creator>
  <dc:description/>
  <dc:language>en-US</dc:language>
  <cp:lastModifiedBy>Козлов Петр</cp:lastModifiedBy>
  <dcterms:modified xsi:type="dcterms:W3CDTF">2017-04-19T13:43:15Z</dcterms:modified>
  <cp:revision>350</cp:revision>
  <dc:subject>АСР MoBill Конвергентная автоматизированная система расчетов</dc:subject>
  <dc:title>Презентация</dc:title>
</cp:coreProperties>
</file>